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724650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8A18C-5381-4E18-B7B4-5BBF10B65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9222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B9FBF-5D4A-44E5-9F66-1FB637672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69493-6BB6-4B3B-A7B7-AC33BC88F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BAAD7-4C06-4E2A-A10E-ABB733155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E2F9C-DD45-416C-AD33-B5DCEC8B9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368A9-240A-4DA1-98AD-866A4C156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79FC0-AC23-47FA-949C-C24F5CE7C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C202A-073B-4C92-A6CA-7A642EAFC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68580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BA048-A7E9-448F-A05A-1F59F62D8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1DB1B-530C-4A1E-9417-5779905D9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7E9DC-FF48-4FC2-B52D-E53C84CD8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97D27-2457-429C-B799-BC6B4E43F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Click to edit the title text format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00440"/>
            <a:ext cx="2895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84C37-23F3-43B1-98ED-71B91E3680E4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621560" y="533520"/>
            <a:ext cx="83664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295280" y="304812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16760" y="1835280"/>
            <a:ext cx="4546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ff0000"/>
                </a:solidFill>
                <a:latin typeface="Times New Roman"/>
              </a:rPr>
              <a:t>4.</a:t>
            </a:r>
            <a:r>
              <a:rPr b="0" lang="de-AT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de-AT" sz="3200" spc="-1" strike="noStrike">
                <a:solidFill>
                  <a:srgbClr val="ff0000"/>
                </a:solidFill>
                <a:latin typeface="Times New Roman"/>
              </a:rPr>
              <a:t>Semantic Processing</a:t>
            </a:r>
            <a:br>
              <a:rPr sz="3200"/>
            </a:br>
            <a:r>
              <a:rPr b="0" lang="de-AT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de-AT" sz="3200" spc="-1" strike="noStrike">
                <a:solidFill>
                  <a:srgbClr val="ff0000"/>
                </a:solidFill>
                <a:latin typeface="Times New Roman"/>
              </a:rPr>
              <a:t>and Attribute Gramma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3C628-7186-462D-8EF5-0E40A972ECB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Example: Sales Statistics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93360" y="1244520"/>
            <a:ext cx="65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ATGs can also be used in areas other than compiler constru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30080" y="1725480"/>
            <a:ext cx="352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Example: given a file with sales numb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085040" y="2131920"/>
            <a:ext cx="2870280" cy="946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73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File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= { Article }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73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Article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= Code { Amount } "END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73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Code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= number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73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Amount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= number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055760" y="2144880"/>
            <a:ext cx="4388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Whenever the input is syntacticlly structu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ATGs are a good notation to describe its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723960" y="3440160"/>
            <a:ext cx="3120840" cy="2800440"/>
            <a:chOff x="723960" y="3440160"/>
            <a:chExt cx="3120840" cy="2800440"/>
          </a:xfrm>
        </p:grpSpPr>
        <p:sp>
          <p:nvSpPr>
            <p:cNvPr id="183" name=""/>
            <p:cNvSpPr/>
            <p:nvPr/>
          </p:nvSpPr>
          <p:spPr>
            <a:xfrm>
              <a:off x="726120" y="3440160"/>
              <a:ext cx="1690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Input for example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090440" y="3795840"/>
              <a:ext cx="2754360" cy="9464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3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3451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2  5  3  7  EN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73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3452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4  8  1 EN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73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3453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1  1 EN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73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23960" y="4938840"/>
              <a:ext cx="143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Desired output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090440" y="5294160"/>
              <a:ext cx="2752920" cy="9464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3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3451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1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73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3452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1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73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3453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73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AF1DA-76C2-4E67-A5B7-131D2B9EE55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ATG for the Sales Statistics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23240" y="1128600"/>
            <a:ext cx="5348520" cy="2949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57120"/>
                <a:tab algn="l" pos="2693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File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(. int code, amount; 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57120"/>
                <a:tab algn="l" pos="2693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{ Article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&lt;</a:t>
            </a:r>
            <a:r>
              <a:rPr b="0" lang="de-AT" sz="1400" spc="-1" strike="noStrike">
                <a:solidFill>
                  <a:srgbClr val="3333cc"/>
                </a:solidFill>
                <a:latin typeface="MT Symbol"/>
                <a:ea typeface="MT Symbol"/>
              </a:rPr>
              <a:t>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code, </a:t>
            </a:r>
            <a:r>
              <a:rPr b="0" lang="de-AT" sz="1400" spc="-1" strike="noStrike">
                <a:solidFill>
                  <a:srgbClr val="3333cc"/>
                </a:solidFill>
                <a:latin typeface="MT Symbol"/>
                <a:ea typeface="MT Symbol"/>
              </a:rPr>
              <a:t>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amount&gt;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(. </a:t>
            </a:r>
            <a:r>
              <a:rPr b="0" i="1" lang="de-AT" sz="1400" spc="-1" strike="noStrike">
                <a:solidFill>
                  <a:srgbClr val="ff0000"/>
                </a:solidFill>
                <a:latin typeface="Arial"/>
              </a:rPr>
              <a:t>Write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(code + " " + amount); 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57120"/>
                <a:tab algn="l" pos="2693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}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190440"/>
                <a:tab algn="l" pos="357120"/>
                <a:tab algn="l" pos="2693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57120"/>
                <a:tab algn="l" pos="2693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Article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&lt;</a:t>
            </a:r>
            <a:r>
              <a:rPr b="0" lang="de-AT" sz="1400" spc="-1" strike="noStrike">
                <a:solidFill>
                  <a:srgbClr val="3333cc"/>
                </a:solidFill>
                <a:latin typeface="MT Symbol"/>
                <a:ea typeface="MT Symbol"/>
              </a:rPr>
              <a:t>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int code, </a:t>
            </a:r>
            <a:r>
              <a:rPr b="0" lang="de-AT" sz="1400" spc="-1" strike="noStrike">
                <a:solidFill>
                  <a:srgbClr val="3333cc"/>
                </a:solidFill>
                <a:latin typeface="MT Symbol"/>
                <a:ea typeface="MT Symbol"/>
              </a:rPr>
              <a:t>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int amount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57120"/>
                <a:tab algn="l" pos="2693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Value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&lt;</a:t>
            </a:r>
            <a:r>
              <a:rPr b="0" lang="de-AT" sz="1400" spc="-1" strike="noStrike">
                <a:solidFill>
                  <a:srgbClr val="3333cc"/>
                </a:solidFill>
                <a:latin typeface="MT Symbol"/>
                <a:ea typeface="MT Symbol"/>
              </a:rPr>
              <a:t>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cod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57120"/>
                <a:tab algn="l" pos="2693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{ 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(. int x; 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57120"/>
                <a:tab algn="l" pos="2693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Value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&lt;</a:t>
            </a:r>
            <a:r>
              <a:rPr b="0" lang="de-AT" sz="1400" spc="-1" strike="noStrike">
                <a:solidFill>
                  <a:srgbClr val="3333cc"/>
                </a:solidFill>
                <a:latin typeface="MT Symbol"/>
                <a:ea typeface="MT Symbol"/>
              </a:rPr>
              <a:t>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x&gt;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(. amount += x; 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57120"/>
                <a:tab algn="l" pos="2693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57120"/>
                <a:tab algn="l" pos="2693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"END"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190440"/>
                <a:tab algn="l" pos="357120"/>
                <a:tab algn="l" pos="2693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57120"/>
                <a:tab algn="l" pos="2693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Value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&lt;</a:t>
            </a:r>
            <a:r>
              <a:rPr b="0" lang="de-AT" sz="1400" spc="-1" strike="noStrike">
                <a:solidFill>
                  <a:srgbClr val="3333cc"/>
                </a:solidFill>
                <a:latin typeface="MT Symbol"/>
                <a:ea typeface="MT Symbol"/>
              </a:rPr>
              <a:t>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int x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57120"/>
                <a:tab algn="l" pos="2693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= number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(. x = token.val; 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57120"/>
                <a:tab algn="l" pos="2693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646560" y="4075200"/>
            <a:ext cx="7119000" cy="2410920"/>
            <a:chOff x="646560" y="4075200"/>
            <a:chExt cx="7119000" cy="2410920"/>
          </a:xfrm>
        </p:grpSpPr>
        <p:sp>
          <p:nvSpPr>
            <p:cNvPr id="190" name=""/>
            <p:cNvSpPr/>
            <p:nvPr/>
          </p:nvSpPr>
          <p:spPr>
            <a:xfrm>
              <a:off x="712080" y="4363920"/>
              <a:ext cx="2916360" cy="15858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static void </a:t>
              </a:r>
              <a:r>
                <a:rPr b="1" lang="de-AT" sz="1400" spc="-1" strike="noStrike">
                  <a:solidFill>
                    <a:srgbClr val="000000"/>
                  </a:solidFill>
                  <a:latin typeface="Arial"/>
                </a:rPr>
                <a:t>File 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() {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ff0000"/>
                  </a:solidFill>
                  <a:latin typeface="Arial"/>
                </a:rPr>
                <a:t>int code, amoun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while (la == number) {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Article(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out code, out number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)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i="1" lang="de-AT" sz="1400" spc="-1" strike="noStrike">
                  <a:solidFill>
                    <a:srgbClr val="ff0000"/>
                  </a:solidFill>
                  <a:latin typeface="Arial"/>
                </a:rPr>
                <a:t>Write(code</a:t>
              </a:r>
              <a:r>
                <a:rPr b="0" lang="de-AT" sz="1400" spc="-1" strike="noStrike">
                  <a:solidFill>
                    <a:srgbClr val="ff0000"/>
                  </a:solidFill>
                  <a:latin typeface="Arial"/>
                </a:rPr>
                <a:t> + " " + amount)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692520" y="4363920"/>
              <a:ext cx="4021200" cy="15858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static void </a:t>
              </a:r>
              <a:r>
                <a:rPr b="1" lang="de-AT" sz="1400" spc="-1" strike="noStrike">
                  <a:solidFill>
                    <a:srgbClr val="000000"/>
                  </a:solidFill>
                  <a:latin typeface="Arial"/>
                </a:rPr>
                <a:t>Article 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out int code, out int amount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) {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Value(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out code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)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while (la == number) {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ff0000"/>
                  </a:solidFill>
                  <a:latin typeface="Arial"/>
                </a:rPr>
                <a:t>int x;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Value(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out x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); </a:t>
              </a:r>
              <a:r>
                <a:rPr b="0" lang="de-AT" sz="1400" spc="-1" strike="noStrike">
                  <a:solidFill>
                    <a:srgbClr val="ff0000"/>
                  </a:solidFill>
                  <a:latin typeface="Arial"/>
                </a:rPr>
                <a:t>amount += x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Check(end)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11720" y="6029280"/>
              <a:ext cx="4960080" cy="3070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static void </a:t>
              </a:r>
              <a:r>
                <a:rPr b="1" lang="de-AT" sz="1400" spc="-1" strike="noStrike">
                  <a:solidFill>
                    <a:srgbClr val="000000"/>
                  </a:solidFill>
                  <a:latin typeface="Arial"/>
                </a:rPr>
                <a:t>Value 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out int x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) { Check(number); </a:t>
              </a:r>
              <a:r>
                <a:rPr b="0" lang="de-AT" sz="1400" spc="-1" strike="noStrike">
                  <a:solidFill>
                    <a:srgbClr val="ff0000"/>
                  </a:solidFill>
                  <a:latin typeface="Arial"/>
                </a:rPr>
                <a:t>x = token.val; 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46560" y="4075200"/>
              <a:ext cx="1118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Parserc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044040" y="5935680"/>
              <a:ext cx="1721520" cy="5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190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terminal symbo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190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number, end, eo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BBEB1-E436-4601-9DD0-6F5EA5715EC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Example: Image Description Language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320840" y="2311560"/>
            <a:ext cx="63360" cy="63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968480" y="1892160"/>
            <a:ext cx="63360" cy="63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352520" y="1924200"/>
            <a:ext cx="647640" cy="419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809720" y="2241720"/>
            <a:ext cx="63360" cy="63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H="1">
            <a:off x="1841040" y="1924200"/>
            <a:ext cx="158760" cy="349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949400" y="2616120"/>
            <a:ext cx="63720" cy="63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841400" y="2273400"/>
            <a:ext cx="13968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1346040" y="2343240"/>
            <a:ext cx="63504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2984400" y="1204920"/>
            <a:ext cx="1280880" cy="1817280"/>
            <a:chOff x="2984400" y="1204920"/>
            <a:chExt cx="1280880" cy="1817280"/>
          </a:xfrm>
        </p:grpSpPr>
        <p:sp>
          <p:nvSpPr>
            <p:cNvPr id="205" name=""/>
            <p:cNvSpPr/>
            <p:nvPr/>
          </p:nvSpPr>
          <p:spPr>
            <a:xfrm>
              <a:off x="2984400" y="1204920"/>
              <a:ext cx="128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described by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094920" y="1649520"/>
              <a:ext cx="936720" cy="13726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POL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(10,40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(50,90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(40,45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(50,0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EN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951480" y="2347920"/>
            <a:ext cx="62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Times New Roman"/>
              </a:rPr>
              <a:t>(10,40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789920" y="2652840"/>
            <a:ext cx="54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Times New Roman"/>
              </a:rPr>
              <a:t>(50,0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853280" y="2157480"/>
            <a:ext cx="62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Times New Roman"/>
              </a:rPr>
              <a:t>(40,4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815120" y="1662120"/>
            <a:ext cx="62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Times New Roman"/>
              </a:rPr>
              <a:t>(50,90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5130720" y="1204920"/>
            <a:ext cx="3361680" cy="964800"/>
            <a:chOff x="5130720" y="1204920"/>
            <a:chExt cx="3361680" cy="964800"/>
          </a:xfrm>
        </p:grpSpPr>
        <p:sp>
          <p:nvSpPr>
            <p:cNvPr id="212" name=""/>
            <p:cNvSpPr/>
            <p:nvPr/>
          </p:nvSpPr>
          <p:spPr>
            <a:xfrm>
              <a:off x="5130720" y="1204920"/>
              <a:ext cx="1236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input syntax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222520" y="1649520"/>
              <a:ext cx="3269880" cy="5202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Polygon = "POLY" Point {Point} "END"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Point = "(" number "," number ")"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796680" y="3403440"/>
            <a:ext cx="7773120" cy="3256200"/>
            <a:chOff x="796680" y="3403440"/>
            <a:chExt cx="7773120" cy="3256200"/>
          </a:xfrm>
        </p:grpSpPr>
        <p:sp>
          <p:nvSpPr>
            <p:cNvPr id="215" name=""/>
            <p:cNvSpPr/>
            <p:nvPr/>
          </p:nvSpPr>
          <p:spPr>
            <a:xfrm>
              <a:off x="796680" y="3403440"/>
              <a:ext cx="6401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We want a program that reads the input and draws the polyg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878400" y="3859200"/>
              <a:ext cx="3323160" cy="280044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400" spc="-1" strike="noStrike">
                  <a:solidFill>
                    <a:srgbClr val="000000"/>
                  </a:solidFill>
                  <a:latin typeface="Arial"/>
                </a:rPr>
                <a:t>Polygon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(. Pt p, q; 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"POLY"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Point&lt;</a:t>
              </a:r>
              <a:r>
                <a:rPr b="0" lang="de-AT" sz="1400" spc="-1" strike="noStrike">
                  <a:solidFill>
                    <a:srgbClr val="000000"/>
                  </a:solidFill>
                  <a:latin typeface="MT Symbol"/>
                  <a:ea typeface="MT Symbol"/>
                </a:rPr>
                <a:t>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p&gt;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(. Turtle.start(p); 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{ "," Point&lt;</a:t>
              </a:r>
              <a:r>
                <a:rPr b="0" lang="de-AT" sz="1400" spc="-1" strike="noStrike">
                  <a:solidFill>
                    <a:srgbClr val="000000"/>
                  </a:solidFill>
                  <a:latin typeface="MT Symbol"/>
                  <a:ea typeface="MT Symbol"/>
                </a:rPr>
                <a:t>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q&gt;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(. Turtle.move(q); 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"END"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(. Turtle.move(p); 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19044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400" spc="-1" strike="noStrike">
                  <a:solidFill>
                    <a:srgbClr val="000000"/>
                  </a:solidFill>
                  <a:latin typeface="Arial"/>
                </a:rPr>
                <a:t>Point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&lt;</a:t>
              </a:r>
              <a:r>
                <a:rPr b="0" lang="de-AT" sz="1400" spc="-1" strike="noStrike">
                  <a:solidFill>
                    <a:srgbClr val="000000"/>
                  </a:solidFill>
                  <a:latin typeface="MT Symbol"/>
                  <a:ea typeface="MT Symbol"/>
                </a:rPr>
                <a:t>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p&gt;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(. Pt p; int x, y; 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"(" number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(. x = t.val; 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"," number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(. y = t.val; 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")"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(. p = new Pt(x, y); 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563000" y="3871800"/>
              <a:ext cx="4006800" cy="111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Aft>
                  <a:spcPts val="400"/>
                </a:spcAft>
                <a:tabLst>
                  <a:tab algn="l" pos="0"/>
                  <a:tab algn="l" pos="14349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We use "Turtle Graphics" for draw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4349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Turtle.start(p);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sets the turtle (pen) to point </a:t>
              </a: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4349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Turtle.move(q);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moves the turtle to </a:t>
              </a: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14349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drawing 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CCEED-384C-480F-A83A-D2AD69CECA2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Example: </a:t>
            </a:r>
            <a:r>
              <a:rPr b="0" i="1" lang="de-AT" sz="2400" spc="-1" strike="noStrike">
                <a:solidFill>
                  <a:srgbClr val="3333cc"/>
                </a:solidFill>
                <a:latin typeface="Times New Roman"/>
              </a:rPr>
              <a:t>Transform Infix to Postfix Expressions</a:t>
            </a:r>
            <a:endParaRPr b="0" i="1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748800" y="1166760"/>
            <a:ext cx="6739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90440"/>
                <a:tab algn="l" pos="124452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Arithmetic expressions in infix notation are to be transformed to postfix no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90440"/>
                <a:tab algn="l" pos="124452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3 + 4 * 2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MT Symbol"/>
                <a:ea typeface="MT Symbol"/>
              </a:rPr>
              <a:t>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3 4 2 * 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90440"/>
                <a:tab algn="l" pos="124452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(3 + 4) * 2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MT Symbol"/>
                <a:ea typeface="MT Symbol"/>
              </a:rPr>
              <a:t>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3 4 + 2 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841320" y="2373480"/>
            <a:ext cx="3046680" cy="32907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90440"/>
                <a:tab algn="l" pos="124452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Expr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=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124452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Ter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124452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{ "+" Term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(. </a:t>
            </a:r>
            <a:r>
              <a:rPr b="0" i="1" lang="de-AT" sz="1400" spc="-1" strike="noStrike">
                <a:solidFill>
                  <a:srgbClr val="000000"/>
                </a:solidFill>
                <a:latin typeface="Arial"/>
              </a:rPr>
              <a:t>Write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("+"); 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124452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|  "-" Term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(. </a:t>
            </a:r>
            <a:r>
              <a:rPr b="0" i="1" lang="de-AT" sz="1400" spc="-1" strike="noStrike">
                <a:solidFill>
                  <a:srgbClr val="000000"/>
                </a:solidFill>
                <a:latin typeface="Arial"/>
              </a:rPr>
              <a:t>Write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("-"); 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124452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124452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124452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Term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=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124452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Fa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124452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{ "*" Factor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(. </a:t>
            </a:r>
            <a:r>
              <a:rPr b="0" i="1" lang="de-AT" sz="1400" spc="-1" strike="noStrike">
                <a:solidFill>
                  <a:srgbClr val="000000"/>
                </a:solidFill>
                <a:latin typeface="Arial"/>
              </a:rPr>
              <a:t>Write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("*"); 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124452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|  "/" Factor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(. </a:t>
            </a:r>
            <a:r>
              <a:rPr b="0" i="1" lang="de-AT" sz="1400" spc="-1" strike="noStrike">
                <a:solidFill>
                  <a:srgbClr val="000000"/>
                </a:solidFill>
                <a:latin typeface="Arial"/>
              </a:rPr>
              <a:t>Write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("/"); 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124452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}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124452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124452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Factor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=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124452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number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(. </a:t>
            </a:r>
            <a:r>
              <a:rPr b="0" i="1" lang="de-AT" sz="1400" spc="-1" strike="noStrike">
                <a:solidFill>
                  <a:srgbClr val="000000"/>
                </a:solidFill>
                <a:latin typeface="Arial"/>
              </a:rPr>
              <a:t>Write(token.val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); 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124452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"(" Expr ")"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4415760" y="2639880"/>
            <a:ext cx="3211560" cy="1826640"/>
            <a:chOff x="4415760" y="2639880"/>
            <a:chExt cx="3211560" cy="1826640"/>
          </a:xfrm>
        </p:grpSpPr>
        <p:sp>
          <p:nvSpPr>
            <p:cNvPr id="222" name=""/>
            <p:cNvSpPr/>
            <p:nvPr/>
          </p:nvSpPr>
          <p:spPr>
            <a:xfrm>
              <a:off x="4608000" y="42530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415760" y="3808440"/>
              <a:ext cx="506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Fact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4660920" y="4025880"/>
              <a:ext cx="0" cy="17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484240" y="4253040"/>
              <a:ext cx="1044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 flipV="1">
              <a:off x="5537160" y="2882520"/>
              <a:ext cx="0" cy="1320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890680" y="42530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698440" y="3808440"/>
              <a:ext cx="506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Fact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 flipV="1">
              <a:off x="5943600" y="4025880"/>
              <a:ext cx="0" cy="17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856200" y="4253040"/>
              <a:ext cx="70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 flipV="1">
              <a:off x="6908760" y="3505320"/>
              <a:ext cx="0" cy="69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7313040" y="42530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120800" y="3808440"/>
              <a:ext cx="506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Fact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V="1">
              <a:off x="7365960" y="4025880"/>
              <a:ext cx="0" cy="17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V="1">
              <a:off x="5943600" y="3632040"/>
              <a:ext cx="0" cy="17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702840" y="3287880"/>
              <a:ext cx="415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Ter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flipV="1">
              <a:off x="7378560" y="3632040"/>
              <a:ext cx="0" cy="17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flipV="1">
              <a:off x="6908760" y="3085920"/>
              <a:ext cx="0" cy="17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 flipH="1">
              <a:off x="5943600" y="3632040"/>
              <a:ext cx="1434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369040" y="2639880"/>
              <a:ext cx="367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Exp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 flipV="1">
              <a:off x="4660920" y="3530160"/>
              <a:ext cx="0" cy="266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442400" y="3287880"/>
              <a:ext cx="415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Ter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flipV="1">
              <a:off x="4660920" y="3085920"/>
              <a:ext cx="0" cy="17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660920" y="3086280"/>
              <a:ext cx="2247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5" name=""/>
          <p:cNvSpPr/>
          <p:nvPr/>
        </p:nvSpPr>
        <p:spPr>
          <a:xfrm>
            <a:off x="4686480" y="4176720"/>
            <a:ext cx="794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ff0000"/>
                </a:solidFill>
                <a:latin typeface="Times New Roman"/>
              </a:rPr>
              <a:t>Write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969160" y="4176720"/>
            <a:ext cx="794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ff0000"/>
                </a:solidFill>
                <a:latin typeface="Times New Roman"/>
              </a:rPr>
              <a:t>Write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7378920" y="4176720"/>
            <a:ext cx="794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ff0000"/>
                </a:solidFill>
                <a:latin typeface="Times New Roman"/>
              </a:rPr>
              <a:t>Write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378920" y="3427560"/>
            <a:ext cx="794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ff0000"/>
                </a:solidFill>
                <a:latin typeface="Times New Roman"/>
              </a:rPr>
              <a:t>Write 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934680" y="2906640"/>
            <a:ext cx="807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ff0000"/>
                </a:solidFill>
                <a:latin typeface="Times New Roman"/>
              </a:rPr>
              <a:t>Write 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A2377-58AF-4856-B73C-73406A933B1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ubTitle"/>
          </p:nvPr>
        </p:nvSpPr>
        <p:spPr>
          <a:xfrm>
            <a:off x="1295280" y="304812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12080" y="1835280"/>
            <a:ext cx="683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ff0000"/>
                </a:solidFill>
                <a:latin typeface="Times New Roman"/>
              </a:rPr>
              <a:t>Attribute Grammars According to Knu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EEF9C-7974-4F76-A7DC-FDF712C482ED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Idea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721080" y="1308240"/>
            <a:ext cx="610452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90440" indent="-190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ATGs so far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: procedural descriptions (translation algorithm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Every production is processed from left to righ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In doing so, attributes are computed and semantic actions are execu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518040" y="2413080"/>
            <a:ext cx="4545360" cy="1999440"/>
            <a:chOff x="518040" y="2413080"/>
            <a:chExt cx="4545360" cy="1999440"/>
          </a:xfrm>
        </p:grpSpPr>
        <p:sp>
          <p:nvSpPr>
            <p:cNvPr id="255" name=""/>
            <p:cNvSpPr/>
            <p:nvPr/>
          </p:nvSpPr>
          <p:spPr>
            <a:xfrm>
              <a:off x="518040" y="2413080"/>
              <a:ext cx="4545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190440" indent="-1904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ATGs according to Donald Knuth (1968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25480" y="3225960"/>
              <a:ext cx="457200" cy="330120"/>
            </a:xfrm>
            <a:prstGeom prst="can">
              <a:avLst>
                <a:gd name="adj" fmla="val 25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874960" y="3630600"/>
              <a:ext cx="203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Times New Roman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525760" y="363060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925720" y="394164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971800" y="3816360"/>
              <a:ext cx="0" cy="12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703600" y="3281400"/>
              <a:ext cx="203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Times New Roman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>
              <a:off x="2590920" y="3492360"/>
              <a:ext cx="139680" cy="13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832120" y="3492360"/>
              <a:ext cx="139680" cy="13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281400" y="3319560"/>
              <a:ext cx="203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Times New Roman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332160" y="363060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378240" y="3505320"/>
              <a:ext cx="0" cy="12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>
              <a:off x="2857680" y="3143160"/>
              <a:ext cx="209520" cy="13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162240" y="3143160"/>
              <a:ext cx="209520" cy="13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021120" y="2957400"/>
              <a:ext cx="203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Times New Roman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47920" y="3365640"/>
              <a:ext cx="1041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536120" y="2830680"/>
              <a:ext cx="801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scann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pars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400480" y="4075200"/>
              <a:ext cx="1066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syntax tre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3607560" y="2602080"/>
            <a:ext cx="3614040" cy="1810440"/>
            <a:chOff x="3607560" y="2602080"/>
            <a:chExt cx="3614040" cy="1810440"/>
          </a:xfrm>
        </p:grpSpPr>
        <p:sp>
          <p:nvSpPr>
            <p:cNvPr id="274" name=""/>
            <p:cNvSpPr/>
            <p:nvPr/>
          </p:nvSpPr>
          <p:spPr>
            <a:xfrm>
              <a:off x="5478480" y="3630600"/>
              <a:ext cx="203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Times New Roman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129280" y="363060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529240" y="394164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575320" y="3816360"/>
              <a:ext cx="0" cy="12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307120" y="3281400"/>
              <a:ext cx="203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Times New Roman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flipV="1">
              <a:off x="5194440" y="3492360"/>
              <a:ext cx="139680" cy="13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435640" y="3492360"/>
              <a:ext cx="139680" cy="13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884920" y="3319560"/>
              <a:ext cx="203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Times New Roman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935680" y="363060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981760" y="3505320"/>
              <a:ext cx="0" cy="12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V="1">
              <a:off x="5460840" y="3143160"/>
              <a:ext cx="209880" cy="13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765760" y="3143160"/>
              <a:ext cx="209520" cy="13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624640" y="2957400"/>
              <a:ext cx="203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Times New Roman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3619440" y="3365640"/>
              <a:ext cx="1409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607560" y="3059280"/>
              <a:ext cx="1174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attribut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670720" y="3765600"/>
              <a:ext cx="69840" cy="698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505480" y="3422520"/>
              <a:ext cx="69840" cy="698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095880" y="3435480"/>
              <a:ext cx="69840" cy="698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203880" y="3435480"/>
              <a:ext cx="69840" cy="698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835600" y="3086280"/>
              <a:ext cx="69840" cy="698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937120" y="3086280"/>
              <a:ext cx="69840" cy="698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039000" y="3086280"/>
              <a:ext cx="69840" cy="698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623840" y="4075200"/>
              <a:ext cx="2100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"decorated" syntax tre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 flipV="1">
              <a:off x="6121440" y="2869920"/>
              <a:ext cx="190440" cy="1904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260760" y="2602080"/>
              <a:ext cx="960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attribut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9" name=""/>
          <p:cNvGrpSpPr/>
          <p:nvPr/>
        </p:nvGrpSpPr>
        <p:grpSpPr>
          <a:xfrm>
            <a:off x="580320" y="4648320"/>
            <a:ext cx="5923080" cy="1978920"/>
            <a:chOff x="580320" y="4648320"/>
            <a:chExt cx="5923080" cy="1978920"/>
          </a:xfrm>
        </p:grpSpPr>
        <p:sp>
          <p:nvSpPr>
            <p:cNvPr id="300" name=""/>
            <p:cNvSpPr/>
            <p:nvPr/>
          </p:nvSpPr>
          <p:spPr>
            <a:xfrm>
              <a:off x="770400" y="4648320"/>
              <a:ext cx="5002560" cy="91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190440" indent="-190440">
                <a:spcAft>
                  <a:spcPts val="45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Nonterminal symbols have attribut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static properties (do not change after their evaluation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examples: type of an expression, address of a variable, ..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80320" y="5715000"/>
              <a:ext cx="5923080" cy="91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190440" indent="-190440">
                <a:spcAft>
                  <a:spcPts val="45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Attribut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The syntax tree is traversed (possibly several times up and down)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until all attributes have been computed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AE284-CEE7-4C3A-8CDE-F238503761D3}" type="slidenum">
              <a:t>15</a:t>
            </a:fld>
          </a:p>
        </p:txBody>
      </p:sp>
    </p:spTree>
  </p:cSld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Attribute Evaluation Rules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717480" y="1295280"/>
            <a:ext cx="6424200" cy="11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90440" indent="-190440"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For every production they define 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the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 input attributes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of all symbols on the 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right-hand side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of the produ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the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 output attributes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of the symbol on the 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left-hand side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of the produ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any 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context conditions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if necess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19120" y="2577960"/>
            <a:ext cx="142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90440" indent="-190440"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913680" y="3046320"/>
            <a:ext cx="128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Production 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696400" y="3044880"/>
            <a:ext cx="1609560" cy="370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MT Symbol"/>
                <a:ea typeface="MT Symbol"/>
              </a:rPr>
              <a:t>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MT Symbol"/>
                <a:ea typeface="MT Symbol"/>
              </a:rPr>
              <a:t>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 = B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MT Symbol"/>
                <a:ea typeface="MT Symbol"/>
              </a:rPr>
              <a:t>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MT Symbol"/>
                <a:ea typeface="MT Symbol"/>
              </a:rPr>
              <a:t>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 C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MT Symbol"/>
                <a:ea typeface="MT Symbol"/>
              </a:rPr>
              <a:t>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MT Symbol"/>
                <a:ea typeface="MT Symbol"/>
              </a:rPr>
              <a:t>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7" name=""/>
          <p:cNvGrpSpPr/>
          <p:nvPr/>
        </p:nvGrpSpPr>
        <p:grpSpPr>
          <a:xfrm>
            <a:off x="4678920" y="2797200"/>
            <a:ext cx="3567240" cy="2214360"/>
            <a:chOff x="4678920" y="2797200"/>
            <a:chExt cx="3567240" cy="2214360"/>
          </a:xfrm>
        </p:grpSpPr>
        <p:sp>
          <p:nvSpPr>
            <p:cNvPr id="308" name=""/>
            <p:cNvSpPr/>
            <p:nvPr/>
          </p:nvSpPr>
          <p:spPr>
            <a:xfrm>
              <a:off x="4775040" y="3086280"/>
              <a:ext cx="1575000" cy="100296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359320" y="2971800"/>
              <a:ext cx="190440" cy="203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5522760" y="317340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5091120" y="375768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954760" y="375768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flipV="1">
              <a:off x="5181480" y="3403080"/>
              <a:ext cx="343080" cy="34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 flipV="1">
              <a:off x="5613480" y="3403080"/>
              <a:ext cx="342720" cy="34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5407920" y="29797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5549760" y="2971800"/>
              <a:ext cx="190800" cy="2030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5598360" y="29797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0000"/>
                  </a:solidFill>
                  <a:latin typeface="Arial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413320" y="279720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MT Symbol"/>
                  <a:ea typeface="MT Symbol"/>
                </a:rPr>
                <a:t>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616360" y="280980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0000"/>
                  </a:solidFill>
                  <a:latin typeface="MT Symbol"/>
                  <a:ea typeface="MT Symbol"/>
                </a:rPr>
                <a:t>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4978440" y="4000680"/>
              <a:ext cx="190440" cy="2030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027400" y="40086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168880" y="4000680"/>
              <a:ext cx="190440" cy="203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217120" y="40086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829480" y="4000680"/>
              <a:ext cx="190440" cy="2030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877720" y="40086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019920" y="4000680"/>
              <a:ext cx="190440" cy="203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6068520" y="40086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045040" y="421956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0000"/>
                  </a:solidFill>
                  <a:latin typeface="MT Symbol"/>
                  <a:ea typeface="MT Symbol"/>
                </a:rPr>
                <a:t>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248080" y="423216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MT Symbol"/>
                  <a:ea typeface="MT Symbol"/>
                </a:rPr>
                <a:t>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895720" y="421956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0000"/>
                  </a:solidFill>
                  <a:latin typeface="MT Symbol"/>
                  <a:ea typeface="MT Symbol"/>
                </a:rPr>
                <a:t>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99120" y="423216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MT Symbol"/>
                  <a:ea typeface="MT Symbol"/>
                </a:rPr>
                <a:t>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476040" y="2995560"/>
              <a:ext cx="17701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production 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represents a sec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of the syntax tre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4678920" y="4430880"/>
              <a:ext cx="25246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We must define all attribut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that leave </a:t>
              </a: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(i.e. </a:t>
              </a: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4" name=""/>
          <p:cNvGrpSpPr/>
          <p:nvPr/>
        </p:nvGrpSpPr>
        <p:grpSpPr>
          <a:xfrm>
            <a:off x="919800" y="5103720"/>
            <a:ext cx="3065760" cy="1101600"/>
            <a:chOff x="919800" y="5103720"/>
            <a:chExt cx="3065760" cy="1101600"/>
          </a:xfrm>
        </p:grpSpPr>
        <p:sp>
          <p:nvSpPr>
            <p:cNvPr id="335" name=""/>
            <p:cNvSpPr/>
            <p:nvPr/>
          </p:nvSpPr>
          <p:spPr>
            <a:xfrm>
              <a:off x="919800" y="5103720"/>
              <a:ext cx="306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Attribute evaluation rules </a:t>
              </a: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) e.g.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186560" y="5472000"/>
              <a:ext cx="1303920" cy="7333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c = a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e = d + foo(a)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b = d + f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7" name=""/>
          <p:cNvGrpSpPr/>
          <p:nvPr/>
        </p:nvGrpSpPr>
        <p:grpSpPr>
          <a:xfrm>
            <a:off x="4674240" y="5116680"/>
            <a:ext cx="2602440" cy="662400"/>
            <a:chOff x="4674240" y="5116680"/>
            <a:chExt cx="2602440" cy="662400"/>
          </a:xfrm>
        </p:grpSpPr>
        <p:sp>
          <p:nvSpPr>
            <p:cNvPr id="338" name=""/>
            <p:cNvSpPr/>
            <p:nvPr/>
          </p:nvSpPr>
          <p:spPr>
            <a:xfrm>
              <a:off x="4674240" y="5116680"/>
              <a:ext cx="2602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Context condition </a:t>
              </a: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CC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) e.g.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4961880" y="5472000"/>
              <a:ext cx="637920" cy="3070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d &gt;= 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666EC-04DF-42FB-B74B-92B19F666F41}" type="slidenum">
              <a:t>16</a:t>
            </a:fld>
          </a:p>
        </p:txBody>
      </p:sp>
    </p:spTree>
  </p:cSld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Example: </a:t>
            </a:r>
            <a:r>
              <a:rPr b="0" i="1" lang="de-AT" sz="2400" spc="-1" strike="noStrike">
                <a:solidFill>
                  <a:srgbClr val="3333cc"/>
                </a:solidFill>
                <a:latin typeface="Times New Roman"/>
              </a:rPr>
              <a:t>Computing the Value of a Hex Number</a:t>
            </a:r>
            <a:endParaRPr b="0" i="1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716760" y="1333440"/>
            <a:ext cx="539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Grammar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(must be in BNF so that we can build a syntax tre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058400" y="1814400"/>
            <a:ext cx="3815640" cy="946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Number = Digits.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// decimal numb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Number = Digits "H".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// hexadecimal numb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Digits = hex.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// hex ... 0..9, A..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Digits = Digits he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709920" y="2971800"/>
            <a:ext cx="1696680" cy="1854360"/>
            <a:chOff x="709920" y="2971800"/>
            <a:chExt cx="1696680" cy="1854360"/>
          </a:xfrm>
        </p:grpSpPr>
        <p:sp>
          <p:nvSpPr>
            <p:cNvPr id="344" name=""/>
            <p:cNvSpPr/>
            <p:nvPr/>
          </p:nvSpPr>
          <p:spPr>
            <a:xfrm>
              <a:off x="709920" y="2971800"/>
              <a:ext cx="118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Attribut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038960" y="3452760"/>
              <a:ext cx="813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Numb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1704600" y="3622680"/>
              <a:ext cx="432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MT Symbol"/>
                  <a:ea typeface="MT Symbol"/>
                </a:rPr>
                <a:t></a:t>
              </a: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v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1038960" y="3897360"/>
              <a:ext cx="627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Digi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1542960" y="4067280"/>
              <a:ext cx="863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MT Symbol"/>
                  <a:ea typeface="MT Symbol"/>
                </a:rPr>
                <a:t></a:t>
              </a: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base </a:t>
              </a:r>
              <a:r>
                <a:rPr b="0" lang="de-AT" sz="1200" spc="-1" strike="noStrike">
                  <a:solidFill>
                    <a:srgbClr val="000000"/>
                  </a:solidFill>
                  <a:latin typeface="MT Symbol"/>
                  <a:ea typeface="MT Symbol"/>
                </a:rPr>
                <a:t></a:t>
              </a: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v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1038960" y="4379760"/>
              <a:ext cx="468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he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399680" y="4549680"/>
              <a:ext cx="432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MT Symbol"/>
                  <a:ea typeface="MT Symbol"/>
                </a:rPr>
                <a:t></a:t>
              </a: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v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1" name=""/>
          <p:cNvGrpSpPr/>
          <p:nvPr/>
        </p:nvGrpSpPr>
        <p:grpSpPr>
          <a:xfrm>
            <a:off x="3642840" y="2971800"/>
            <a:ext cx="4935960" cy="3721680"/>
            <a:chOff x="3642840" y="2971800"/>
            <a:chExt cx="4935960" cy="3721680"/>
          </a:xfrm>
        </p:grpSpPr>
        <p:sp>
          <p:nvSpPr>
            <p:cNvPr id="352" name=""/>
            <p:cNvSpPr/>
            <p:nvPr/>
          </p:nvSpPr>
          <p:spPr>
            <a:xfrm>
              <a:off x="3642840" y="2971800"/>
              <a:ext cx="1293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Syntax tre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5093640" y="2995560"/>
              <a:ext cx="1637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for the input: 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1B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756240" y="5180040"/>
              <a:ext cx="676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400" spc="-1" strike="noStrike">
                  <a:solidFill>
                    <a:srgbClr val="000000"/>
                  </a:solidFill>
                  <a:latin typeface="Arial"/>
                </a:rPr>
                <a:t>Digi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4390560" y="5240160"/>
              <a:ext cx="333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bas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4394160" y="5410080"/>
              <a:ext cx="343080" cy="216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4810680" y="5240160"/>
              <a:ext cx="195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v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4737240" y="5410080"/>
              <a:ext cx="342720" cy="216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5204880" y="51800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400" spc="-1" strike="noStrike">
                  <a:solidFill>
                    <a:srgbClr val="000000"/>
                  </a:solidFill>
                  <a:latin typeface="Arial"/>
                </a:rPr>
                <a:t>he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5725080" y="5240160"/>
              <a:ext cx="195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v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5651640" y="5410080"/>
              <a:ext cx="342720" cy="216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 flipV="1">
              <a:off x="4127400" y="4686480"/>
              <a:ext cx="520920" cy="520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889520" y="4686480"/>
              <a:ext cx="520560" cy="520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454640" y="4354560"/>
              <a:ext cx="676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400" spc="-1" strike="noStrike">
                  <a:solidFill>
                    <a:srgbClr val="000000"/>
                  </a:solidFill>
                  <a:latin typeface="Arial"/>
                </a:rPr>
                <a:t>Digi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088960" y="4414680"/>
              <a:ext cx="333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bas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092560" y="4584600"/>
              <a:ext cx="343080" cy="216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509080" y="4414680"/>
              <a:ext cx="195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v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35640" y="4584600"/>
              <a:ext cx="342720" cy="216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6069600" y="4354560"/>
              <a:ext cx="476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400" spc="-1" strike="noStrike">
                  <a:solidFill>
                    <a:srgbClr val="000000"/>
                  </a:solidFill>
                  <a:latin typeface="Arial"/>
                </a:rPr>
                <a:t>"H"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 flipV="1">
              <a:off x="4902120" y="3873600"/>
              <a:ext cx="520920" cy="520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676840" y="3873600"/>
              <a:ext cx="520920" cy="520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103720" y="3529080"/>
              <a:ext cx="852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400" spc="-1" strike="noStrike">
                  <a:solidFill>
                    <a:srgbClr val="000000"/>
                  </a:solidFill>
                  <a:latin typeface="Arial"/>
                </a:rPr>
                <a:t>Numb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978880" y="3589200"/>
              <a:ext cx="195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v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5905440" y="3759120"/>
              <a:ext cx="343080" cy="216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871440" y="5865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400" spc="-1" strike="noStrike">
                  <a:solidFill>
                    <a:srgbClr val="000000"/>
                  </a:solidFill>
                  <a:latin typeface="Arial"/>
                </a:rPr>
                <a:t>he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391640" y="5925960"/>
              <a:ext cx="195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v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317840" y="6095880"/>
              <a:ext cx="343080" cy="216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089240" y="5486400"/>
              <a:ext cx="0" cy="368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948120" y="63864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5294520" y="6386400"/>
              <a:ext cx="29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6158160" y="6386400"/>
              <a:ext cx="30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089240" y="6159600"/>
              <a:ext cx="0" cy="2538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423040" y="5460840"/>
              <a:ext cx="0" cy="9525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299280" y="4635360"/>
              <a:ext cx="0" cy="17780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7113240" y="4329000"/>
              <a:ext cx="14655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attributes hav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not yet been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evaluated so fa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1FB8D-F4B0-48ED-81C1-5F9ABC5EEA9F}" type="slidenum">
              <a:t>17</a:t>
            </a:fld>
          </a:p>
        </p:txBody>
      </p:sp>
    </p:spTree>
  </p:cSld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/>
          <p:nvPr/>
        </p:nvSpPr>
        <p:spPr>
          <a:xfrm>
            <a:off x="2070000" y="1778040"/>
            <a:ext cx="4013280" cy="5587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070000" y="1320840"/>
            <a:ext cx="4013280" cy="457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2070000" y="5448240"/>
            <a:ext cx="4013280" cy="10288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2070000" y="4991040"/>
            <a:ext cx="4013280" cy="457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Attribute Evaluation Rules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2170800" y="1393920"/>
            <a:ext cx="2384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Number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MT Symbol"/>
                <a:ea typeface="MT Symbol"/>
              </a:rPr>
              <a:t>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Arial"/>
              </a:rPr>
              <a:t>val</a:t>
            </a: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 = Digits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MT Symbol"/>
                <a:ea typeface="MT Symbol"/>
              </a:rPr>
              <a:t>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Arial"/>
              </a:rPr>
              <a:t>base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MT Symbol"/>
                <a:ea typeface="MT Symbol"/>
              </a:rPr>
              <a:t>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Arial"/>
              </a:rPr>
              <a:t>val</a:t>
            </a: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2062080" y="1814400"/>
            <a:ext cx="2072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Digits.base = 10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Number.val = Digits.val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2247840" y="5038560"/>
            <a:ext cx="31626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Digits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MT Symbol"/>
                <a:ea typeface="MT Symbol"/>
              </a:rPr>
              <a:t>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Arial"/>
              </a:rPr>
              <a:t>base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MT Symbol"/>
                <a:ea typeface="MT Symbol"/>
              </a:rPr>
              <a:t>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Arial"/>
              </a:rPr>
              <a:t>val</a:t>
            </a: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 = Digits1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MT Symbol"/>
                <a:ea typeface="MT Symbol"/>
              </a:rPr>
              <a:t>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Arial"/>
              </a:rPr>
              <a:t>base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MT Symbol"/>
                <a:ea typeface="MT Symbol"/>
              </a:rPr>
              <a:t>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Arial"/>
              </a:rPr>
              <a:t>val</a:t>
            </a: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 hex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MT Symbol"/>
                <a:ea typeface="MT Symbol"/>
              </a:rPr>
              <a:t>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Arial"/>
              </a:rPr>
              <a:t>val</a:t>
            </a: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2053800" y="5459400"/>
            <a:ext cx="3810960" cy="10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Digits1.base = Digits.base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Digits.val = Digits1.val * Digits.base + hex.val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 u="sng">
                <a:solidFill>
                  <a:srgbClr val="000000"/>
                </a:solidFill>
                <a:uFillTx/>
                <a:latin typeface="Arial"/>
              </a:rPr>
              <a:t>CC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Digits.base == 10  &amp;&amp;  0 </a:t>
            </a:r>
            <a:r>
              <a:rPr b="0" lang="de-AT" sz="1400" spc="-1" strike="noStrike">
                <a:solidFill>
                  <a:srgbClr val="000000"/>
                </a:solidFill>
                <a:latin typeface="MT Symbol"/>
                <a:ea typeface="MT Symbol"/>
              </a:rPr>
              <a:t>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hex.val </a:t>
            </a:r>
            <a:r>
              <a:rPr b="0" lang="de-AT" sz="1400" spc="-1" strike="noStrike">
                <a:solidFill>
                  <a:srgbClr val="000000"/>
                </a:solidFill>
                <a:latin typeface="MT Symbol"/>
                <a:ea typeface="MT Symbol"/>
              </a:rPr>
              <a:t>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||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Digits.base == 16  &amp;&amp;  0 </a:t>
            </a:r>
            <a:r>
              <a:rPr b="0" lang="de-AT" sz="1400" spc="-1" strike="noStrike">
                <a:solidFill>
                  <a:srgbClr val="000000"/>
                </a:solidFill>
                <a:latin typeface="MT Symbol"/>
                <a:ea typeface="MT Symbol"/>
              </a:rPr>
              <a:t>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hex.val </a:t>
            </a:r>
            <a:r>
              <a:rPr b="0" lang="de-AT" sz="1400" spc="-1" strike="noStrike">
                <a:solidFill>
                  <a:srgbClr val="000000"/>
                </a:solidFill>
                <a:latin typeface="MT Symbol"/>
                <a:ea typeface="MT Symbol"/>
              </a:rPr>
              <a:t>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2070000" y="2908440"/>
            <a:ext cx="4013280" cy="5587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070000" y="2451240"/>
            <a:ext cx="4013280" cy="457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2170800" y="2523960"/>
            <a:ext cx="27306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Number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MT Symbol"/>
                <a:ea typeface="MT Symbol"/>
              </a:rPr>
              <a:t>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Arial"/>
              </a:rPr>
              <a:t>val</a:t>
            </a: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 = Digits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MT Symbol"/>
                <a:ea typeface="MT Symbol"/>
              </a:rPr>
              <a:t>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Arial"/>
              </a:rPr>
              <a:t>base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MT Symbol"/>
                <a:ea typeface="MT Symbol"/>
              </a:rPr>
              <a:t>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Arial"/>
              </a:rPr>
              <a:t>val</a:t>
            </a: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 "H"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62080" y="2944800"/>
            <a:ext cx="2072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Digits.base = 16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Number.val = Digits.val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070000" y="4038480"/>
            <a:ext cx="4013280" cy="8254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070000" y="3581280"/>
            <a:ext cx="4013280" cy="457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69360" y="3629160"/>
            <a:ext cx="19918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Digits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MT Symbol"/>
                <a:ea typeface="MT Symbol"/>
              </a:rPr>
              <a:t>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Arial"/>
              </a:rPr>
              <a:t>base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MT Symbol"/>
                <a:ea typeface="MT Symbol"/>
              </a:rPr>
              <a:t>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Arial"/>
              </a:rPr>
              <a:t>val</a:t>
            </a: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 = hex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MT Symbol"/>
                <a:ea typeface="MT Symbol"/>
              </a:rPr>
              <a:t>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Arial"/>
              </a:rPr>
              <a:t>val</a:t>
            </a: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087280" y="4049640"/>
            <a:ext cx="3586680" cy="7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Digits.val = hex.val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 u="sng">
                <a:solidFill>
                  <a:srgbClr val="000000"/>
                </a:solidFill>
                <a:uFillTx/>
                <a:latin typeface="Arial"/>
              </a:rPr>
              <a:t>CC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Digits.base == 10  &amp;&amp;  0 </a:t>
            </a:r>
            <a:r>
              <a:rPr b="0" lang="de-AT" sz="1400" spc="-1" strike="noStrike">
                <a:solidFill>
                  <a:srgbClr val="000000"/>
                </a:solidFill>
                <a:latin typeface="MT Symbol"/>
                <a:ea typeface="MT Symbol"/>
              </a:rPr>
              <a:t>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hex.val </a:t>
            </a:r>
            <a:r>
              <a:rPr b="0" lang="de-AT" sz="1400" spc="-1" strike="noStrike">
                <a:solidFill>
                  <a:srgbClr val="000000"/>
                </a:solidFill>
                <a:latin typeface="MT Symbol"/>
                <a:ea typeface="MT Symbol"/>
              </a:rPr>
              <a:t>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||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Digits.base == 16  &amp;&amp;  0 </a:t>
            </a:r>
            <a:r>
              <a:rPr b="0" lang="de-AT" sz="1400" spc="-1" strike="noStrike">
                <a:solidFill>
                  <a:srgbClr val="000000"/>
                </a:solidFill>
                <a:latin typeface="MT Symbol"/>
                <a:ea typeface="MT Symbol"/>
              </a:rPr>
              <a:t>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hex.val </a:t>
            </a:r>
            <a:r>
              <a:rPr b="0" lang="de-AT" sz="1400" spc="-1" strike="noStrike">
                <a:solidFill>
                  <a:srgbClr val="000000"/>
                </a:solidFill>
                <a:latin typeface="MT Symbol"/>
                <a:ea typeface="MT Symbol"/>
              </a:rPr>
              <a:t>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647280" y="1382760"/>
            <a:ext cx="130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600" spc="-1" strike="noStrike">
                <a:solidFill>
                  <a:srgbClr val="000000"/>
                </a:solidFill>
                <a:latin typeface="Times New Roman"/>
              </a:rPr>
              <a:t>Production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647280" y="2525760"/>
            <a:ext cx="130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600" spc="-1" strike="noStrike">
                <a:solidFill>
                  <a:srgbClr val="000000"/>
                </a:solidFill>
                <a:latin typeface="Times New Roman"/>
              </a:rPr>
              <a:t>Production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47280" y="3643200"/>
            <a:ext cx="130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600" spc="-1" strike="noStrike">
                <a:solidFill>
                  <a:srgbClr val="000000"/>
                </a:solidFill>
                <a:latin typeface="Times New Roman"/>
              </a:rPr>
              <a:t>Production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47280" y="5040360"/>
            <a:ext cx="130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600" spc="-1" strike="noStrike">
                <a:solidFill>
                  <a:srgbClr val="000000"/>
                </a:solidFill>
                <a:latin typeface="Times New Roman"/>
              </a:rPr>
              <a:t>Production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A3684-0640-4C09-96D4-9ECCE7228D0B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Attributation of the Tree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93000" y="1308240"/>
            <a:ext cx="57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Scanner fills the attribute values of the terminal symb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216080" y="3643200"/>
            <a:ext cx="67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Dig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850400" y="3703680"/>
            <a:ext cx="333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b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1854360" y="3873600"/>
            <a:ext cx="34272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270520" y="3703680"/>
            <a:ext cx="195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v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197080" y="3873600"/>
            <a:ext cx="34308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2664720" y="364320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he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184920" y="3703680"/>
            <a:ext cx="195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v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111480" y="3873600"/>
            <a:ext cx="34308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V="1">
            <a:off x="1587600" y="3149640"/>
            <a:ext cx="520560" cy="520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2349360" y="3149640"/>
            <a:ext cx="520920" cy="520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1914840" y="2817720"/>
            <a:ext cx="67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Dig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2548800" y="2878200"/>
            <a:ext cx="333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b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2552760" y="3048120"/>
            <a:ext cx="34272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969280" y="2878200"/>
            <a:ext cx="195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v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895480" y="3048120"/>
            <a:ext cx="34308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529800" y="2817720"/>
            <a:ext cx="47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"H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 flipV="1">
            <a:off x="2362320" y="2336400"/>
            <a:ext cx="520560" cy="52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137040" y="2336760"/>
            <a:ext cx="520560" cy="52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563920" y="1992240"/>
            <a:ext cx="85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Numb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439080" y="2052720"/>
            <a:ext cx="195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v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3365640" y="2222640"/>
            <a:ext cx="34272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1331280" y="432900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he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1851480" y="4389480"/>
            <a:ext cx="195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v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778040" y="4559400"/>
            <a:ext cx="34272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1549440" y="3949560"/>
            <a:ext cx="0" cy="36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1407960" y="484992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2754360" y="484992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618360" y="484992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549440" y="4622760"/>
            <a:ext cx="0" cy="2541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882880" y="3924360"/>
            <a:ext cx="0" cy="9525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59120" y="3098880"/>
            <a:ext cx="0" cy="17780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890000" y="459252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184560" y="389412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0000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C1EAF-E232-4731-82A3-E29446650238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Semantic Processing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69600" y="1332000"/>
            <a:ext cx="5190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The parser checks only the 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syntactic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correctness of a progr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07760" y="1917720"/>
            <a:ext cx="30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Tasks of semantic 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48000" y="2513160"/>
            <a:ext cx="456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600" spc="-1" strike="noStrike">
                <a:solidFill>
                  <a:srgbClr val="000000"/>
                </a:solidFill>
                <a:latin typeface="Times New Roman"/>
              </a:rPr>
              <a:t>Symbol table handling</a:t>
            </a:r>
            <a:br>
              <a:rPr sz="1600"/>
            </a:b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Maintaining information about declared names</a:t>
            </a:r>
            <a:br>
              <a:rPr sz="1600"/>
            </a:b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Maintaining information about types</a:t>
            </a:r>
            <a:br>
              <a:rPr sz="1600"/>
            </a:b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Maintaining scop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38360" y="3656160"/>
            <a:ext cx="2817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600" spc="-1" strike="noStrike">
                <a:solidFill>
                  <a:srgbClr val="000000"/>
                </a:solidFill>
                <a:latin typeface="Times New Roman"/>
              </a:rPr>
              <a:t>Checking context conditions</a:t>
            </a:r>
            <a:br>
              <a:rPr sz="1600"/>
            </a:b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Scoping rules</a:t>
            </a:r>
            <a:br>
              <a:rPr sz="1600"/>
            </a:b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Type check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9440" y="4621320"/>
            <a:ext cx="369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600" spc="-1" strike="noStrike">
                <a:solidFill>
                  <a:srgbClr val="000000"/>
                </a:solidFill>
                <a:latin typeface="Times New Roman"/>
              </a:rPr>
              <a:t>Invocation of code generation rout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68880" y="5624640"/>
            <a:ext cx="398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Semantic actions are integrated into the pars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and are described with 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attribute gramma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82AA4-81D0-49A2-A909-70C4C0B7D90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Attributation of the Tree (cont.)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95520" y="1308240"/>
            <a:ext cx="318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The tree is traversed top-dow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216080" y="4164120"/>
            <a:ext cx="67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Dig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850400" y="4224240"/>
            <a:ext cx="333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b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1854360" y="4394160"/>
            <a:ext cx="34272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2270520" y="4224240"/>
            <a:ext cx="195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v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197080" y="4394160"/>
            <a:ext cx="34308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2664720" y="416412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he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184920" y="4224240"/>
            <a:ext cx="195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v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3111480" y="4394160"/>
            <a:ext cx="34308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V="1">
            <a:off x="1587600" y="3669840"/>
            <a:ext cx="520560" cy="52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2349360" y="3670200"/>
            <a:ext cx="520920" cy="52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1914840" y="3338640"/>
            <a:ext cx="67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Dig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2548800" y="3398760"/>
            <a:ext cx="333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b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2552760" y="3568680"/>
            <a:ext cx="34272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2969280" y="3398760"/>
            <a:ext cx="195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v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2895480" y="3568680"/>
            <a:ext cx="34308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529800" y="3338640"/>
            <a:ext cx="47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"H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V="1">
            <a:off x="2362320" y="2857680"/>
            <a:ext cx="520560" cy="520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137040" y="2857680"/>
            <a:ext cx="520560" cy="520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563920" y="2513160"/>
            <a:ext cx="85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Numb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3439080" y="2573280"/>
            <a:ext cx="195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v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3365640" y="2743200"/>
            <a:ext cx="34272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1331280" y="484992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he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1851480" y="4910040"/>
            <a:ext cx="195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v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1778040" y="5079960"/>
            <a:ext cx="34272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1549440" y="4470480"/>
            <a:ext cx="0" cy="36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1407960" y="53704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2754360" y="537048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3618360" y="537048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1549440" y="5143680"/>
            <a:ext cx="0" cy="2538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2882880" y="4444920"/>
            <a:ext cx="0" cy="9525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3759120" y="3619440"/>
            <a:ext cx="0" cy="17780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1890000" y="511344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3184560" y="441468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747000" y="1649520"/>
            <a:ext cx="734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For every production we check which attribute evaluation rules are ready to be execu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727280" y="2514600"/>
            <a:ext cx="2450880" cy="13842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432320" y="3137040"/>
            <a:ext cx="4013280" cy="5587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432320" y="2679840"/>
            <a:ext cx="4013280" cy="457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4532760" y="2752560"/>
            <a:ext cx="27306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Number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MT Symbol"/>
                <a:ea typeface="MT Symbol"/>
              </a:rPr>
              <a:t>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Arial"/>
              </a:rPr>
              <a:t>val</a:t>
            </a: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 = Digits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MT Symbol"/>
                <a:ea typeface="MT Symbol"/>
              </a:rPr>
              <a:t>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Arial"/>
              </a:rPr>
              <a:t>base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MT Symbol"/>
                <a:ea typeface="MT Symbol"/>
              </a:rPr>
              <a:t>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Arial"/>
              </a:rPr>
              <a:t>val</a:t>
            </a: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 "H"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4424400" y="3173400"/>
            <a:ext cx="2072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Digits.base = 16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Number.val = Digits.val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4355640" y="2335320"/>
            <a:ext cx="130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600" spc="-1" strike="noStrike">
                <a:solidFill>
                  <a:srgbClr val="000000"/>
                </a:solidFill>
                <a:latin typeface="Times New Roman"/>
              </a:rPr>
              <a:t>Production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2625840" y="358920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0000"/>
                </a:solidFill>
                <a:latin typeface="Arial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9C60E-AC0B-4C9B-B8D3-A5D4E032A1ED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Attributation of the Tree (cont.)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1216080" y="4164120"/>
            <a:ext cx="67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Dig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1850400" y="4224240"/>
            <a:ext cx="333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b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1854360" y="4394160"/>
            <a:ext cx="34272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2270520" y="4224240"/>
            <a:ext cx="195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v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2197080" y="4394160"/>
            <a:ext cx="34308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2664720" y="416412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he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3184920" y="4224240"/>
            <a:ext cx="195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v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3111480" y="4394160"/>
            <a:ext cx="34308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 flipV="1">
            <a:off x="1587600" y="3669840"/>
            <a:ext cx="520560" cy="52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2349360" y="3670200"/>
            <a:ext cx="520920" cy="52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1914840" y="3338640"/>
            <a:ext cx="67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Dig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2548800" y="3398760"/>
            <a:ext cx="333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b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2552760" y="3568680"/>
            <a:ext cx="34272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2969280" y="3398760"/>
            <a:ext cx="195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v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2895480" y="3568680"/>
            <a:ext cx="34308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3529800" y="3338640"/>
            <a:ext cx="47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"H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 flipV="1">
            <a:off x="2362320" y="2857680"/>
            <a:ext cx="520560" cy="520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137040" y="2857680"/>
            <a:ext cx="520560" cy="520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2563920" y="2513160"/>
            <a:ext cx="85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Numb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3439080" y="2573280"/>
            <a:ext cx="195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v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3365640" y="2743200"/>
            <a:ext cx="34272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1331280" y="484992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he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1851480" y="4910040"/>
            <a:ext cx="195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v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1778040" y="5079960"/>
            <a:ext cx="34272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1549440" y="4470480"/>
            <a:ext cx="0" cy="36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1407960" y="53704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2754360" y="537048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3618360" y="537048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1549440" y="5143680"/>
            <a:ext cx="0" cy="2538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2882880" y="4444920"/>
            <a:ext cx="0" cy="9525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3759120" y="3619440"/>
            <a:ext cx="0" cy="17780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1890000" y="511344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3184560" y="441468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1155600" y="3340080"/>
            <a:ext cx="2451240" cy="13842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4355640" y="2957400"/>
            <a:ext cx="130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600" spc="-1" strike="noStrike">
                <a:solidFill>
                  <a:srgbClr val="000000"/>
                </a:solidFill>
                <a:latin typeface="Times New Roman"/>
              </a:rPr>
              <a:t>Production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625840" y="358920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4444920" y="3746520"/>
            <a:ext cx="4013280" cy="10285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4444920" y="3289320"/>
            <a:ext cx="4013280" cy="457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4622760" y="3336840"/>
            <a:ext cx="31626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Digits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MT Symbol"/>
                <a:ea typeface="MT Symbol"/>
              </a:rPr>
              <a:t>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Arial"/>
              </a:rPr>
              <a:t>base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MT Symbol"/>
                <a:ea typeface="MT Symbol"/>
              </a:rPr>
              <a:t>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Arial"/>
              </a:rPr>
              <a:t>val</a:t>
            </a: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 = Digits1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MT Symbol"/>
                <a:ea typeface="MT Symbol"/>
              </a:rPr>
              <a:t>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Arial"/>
              </a:rPr>
              <a:t>base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MT Symbol"/>
                <a:ea typeface="MT Symbol"/>
              </a:rPr>
              <a:t>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Arial"/>
              </a:rPr>
              <a:t>val</a:t>
            </a: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 hex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MT Symbol"/>
                <a:ea typeface="MT Symbol"/>
              </a:rPr>
              <a:t>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Arial"/>
              </a:rPr>
              <a:t>val</a:t>
            </a: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4428720" y="3757680"/>
            <a:ext cx="3810960" cy="10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Digits1.base = Digits.base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Digits.val = Digits1.val * Digits.base + hex.val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 u="sng">
                <a:solidFill>
                  <a:srgbClr val="000000"/>
                </a:solidFill>
                <a:uFillTx/>
                <a:latin typeface="Arial"/>
              </a:rPr>
              <a:t>CC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Digits.base == 10  &amp;&amp;  0 </a:t>
            </a:r>
            <a:r>
              <a:rPr b="0" lang="de-AT" sz="1400" spc="-1" strike="noStrike">
                <a:solidFill>
                  <a:srgbClr val="ff0000"/>
                </a:solidFill>
                <a:latin typeface="MT Symbol"/>
                <a:ea typeface="MT Symbol"/>
              </a:rPr>
              <a:t>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 hex.val </a:t>
            </a:r>
            <a:r>
              <a:rPr b="0" lang="de-AT" sz="1400" spc="-1" strike="noStrike">
                <a:solidFill>
                  <a:srgbClr val="ff0000"/>
                </a:solidFill>
                <a:latin typeface="MT Symbol"/>
                <a:ea typeface="MT Symbol"/>
              </a:rPr>
              <a:t>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 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||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Digits.base == 16  &amp;&amp;  0 </a:t>
            </a:r>
            <a:r>
              <a:rPr b="0" lang="de-AT" sz="1400" spc="-1" strike="noStrike">
                <a:solidFill>
                  <a:srgbClr val="ff0000"/>
                </a:solidFill>
                <a:latin typeface="MT Symbol"/>
                <a:ea typeface="MT Symbol"/>
              </a:rPr>
              <a:t>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 hex.val </a:t>
            </a:r>
            <a:r>
              <a:rPr b="0" lang="de-AT" sz="1400" spc="-1" strike="noStrike">
                <a:solidFill>
                  <a:srgbClr val="ff0000"/>
                </a:solidFill>
                <a:latin typeface="MT Symbol"/>
                <a:ea typeface="MT Symbol"/>
              </a:rPr>
              <a:t>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 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1927440" y="441468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0000"/>
                </a:solidFill>
                <a:latin typeface="Arial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 flipH="1">
            <a:off x="2095200" y="3784680"/>
            <a:ext cx="609480" cy="457200"/>
          </a:xfrm>
          <a:prstGeom prst="line">
            <a:avLst/>
          </a:prstGeom>
          <a:ln w="2844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695520" y="1308240"/>
            <a:ext cx="318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The tree is traversed top-dow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747000" y="1649520"/>
            <a:ext cx="734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For every production we check which attribute evaluation rules are ready to be execu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718ED-E2A3-4C4A-A0ED-2E26415C095A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Attributation of the Tree (cont.)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1216080" y="4164120"/>
            <a:ext cx="67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Dig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1850400" y="4224240"/>
            <a:ext cx="333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b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1854360" y="4394160"/>
            <a:ext cx="34272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2270520" y="4224240"/>
            <a:ext cx="195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v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2197080" y="4394160"/>
            <a:ext cx="34308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2664720" y="416412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he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3184920" y="4224240"/>
            <a:ext cx="195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v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3111480" y="4394160"/>
            <a:ext cx="34308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 flipV="1">
            <a:off x="1587600" y="3669840"/>
            <a:ext cx="520560" cy="52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2349360" y="3670200"/>
            <a:ext cx="520920" cy="52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1914840" y="3338640"/>
            <a:ext cx="67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Dig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2548800" y="3398760"/>
            <a:ext cx="333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b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2552760" y="3568680"/>
            <a:ext cx="34272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2969280" y="3398760"/>
            <a:ext cx="195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v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2895480" y="3568680"/>
            <a:ext cx="34308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3529800" y="3338640"/>
            <a:ext cx="47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"H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 flipV="1">
            <a:off x="2362320" y="2857680"/>
            <a:ext cx="520560" cy="520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3137040" y="2857680"/>
            <a:ext cx="520560" cy="520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2563920" y="2513160"/>
            <a:ext cx="85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Numb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3439080" y="2573280"/>
            <a:ext cx="195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v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3365640" y="2743200"/>
            <a:ext cx="34272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1331280" y="484992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he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1851480" y="4910040"/>
            <a:ext cx="195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v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1778040" y="5079960"/>
            <a:ext cx="34272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1549440" y="4470480"/>
            <a:ext cx="0" cy="36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1407960" y="53704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2754360" y="537048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618360" y="537048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549440" y="5143680"/>
            <a:ext cx="0" cy="2538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2882880" y="4444920"/>
            <a:ext cx="0" cy="9525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3759120" y="3619440"/>
            <a:ext cx="0" cy="17780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1890000" y="511344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3184560" y="441468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1155600" y="4114800"/>
            <a:ext cx="1511280" cy="1257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4355640" y="3871800"/>
            <a:ext cx="130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600" spc="-1" strike="noStrike">
                <a:solidFill>
                  <a:srgbClr val="000000"/>
                </a:solidFill>
                <a:latin typeface="Times New Roman"/>
              </a:rPr>
              <a:t>Production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2625840" y="358920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1927440" y="441468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2057400" y="4622760"/>
            <a:ext cx="317520" cy="393840"/>
          </a:xfrm>
          <a:prstGeom prst="line">
            <a:avLst/>
          </a:prstGeom>
          <a:ln w="2844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4444920" y="4635360"/>
            <a:ext cx="4013280" cy="8254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4444920" y="4178160"/>
            <a:ext cx="4013280" cy="457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4544280" y="4226040"/>
            <a:ext cx="19918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Digits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MT Symbol"/>
                <a:ea typeface="MT Symbol"/>
              </a:rPr>
              <a:t>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Arial"/>
              </a:rPr>
              <a:t>base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MT Symbol"/>
                <a:ea typeface="MT Symbol"/>
              </a:rPr>
              <a:t>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Arial"/>
              </a:rPr>
              <a:t>val</a:t>
            </a: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 = hex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MT Symbol"/>
                <a:ea typeface="MT Symbol"/>
              </a:rPr>
              <a:t>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Arial"/>
              </a:rPr>
              <a:t>val</a:t>
            </a: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4462200" y="4646520"/>
            <a:ext cx="3586680" cy="7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Digits.val = hex.val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 u="sng">
                <a:solidFill>
                  <a:srgbClr val="000000"/>
                </a:solidFill>
                <a:uFillTx/>
                <a:latin typeface="Arial"/>
              </a:rPr>
              <a:t>CC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Digits.base == 10  &amp;&amp;  0 </a:t>
            </a:r>
            <a:r>
              <a:rPr b="0" lang="de-AT" sz="1400" spc="-1" strike="noStrike">
                <a:solidFill>
                  <a:srgbClr val="ff0000"/>
                </a:solidFill>
                <a:latin typeface="MT Symbol"/>
                <a:ea typeface="MT Symbol"/>
              </a:rPr>
              <a:t>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 hex.val </a:t>
            </a:r>
            <a:r>
              <a:rPr b="0" lang="de-AT" sz="1400" spc="-1" strike="noStrike">
                <a:solidFill>
                  <a:srgbClr val="ff0000"/>
                </a:solidFill>
                <a:latin typeface="MT Symbol"/>
                <a:ea typeface="MT Symbol"/>
              </a:rPr>
              <a:t>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 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||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Digits.base == 16  &amp;&amp;  0 </a:t>
            </a:r>
            <a:r>
              <a:rPr b="0" lang="de-AT" sz="1400" spc="-1" strike="noStrike">
                <a:solidFill>
                  <a:srgbClr val="ff0000"/>
                </a:solidFill>
                <a:latin typeface="MT Symbol"/>
                <a:ea typeface="MT Symbol"/>
              </a:rPr>
              <a:t>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 hex.val </a:t>
            </a:r>
            <a:r>
              <a:rPr b="0" lang="de-AT" sz="1400" spc="-1" strike="noStrike">
                <a:solidFill>
                  <a:srgbClr val="ff0000"/>
                </a:solidFill>
                <a:latin typeface="MT Symbol"/>
                <a:ea typeface="MT Symbol"/>
              </a:rPr>
              <a:t>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 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2334240" y="441468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695520" y="1308240"/>
            <a:ext cx="318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The tree is traversed top-dow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747000" y="1649520"/>
            <a:ext cx="734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For every production we check which attribute evaluation rules are ready to be execu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66DA9-9C84-4F97-AED3-929876490BE3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Attributation of the Tree (cont.)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216080" y="4164120"/>
            <a:ext cx="67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Dig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50400" y="4224240"/>
            <a:ext cx="333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b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1854360" y="4394160"/>
            <a:ext cx="34272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2270520" y="4224240"/>
            <a:ext cx="195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v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2197080" y="4394160"/>
            <a:ext cx="34308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2664720" y="416412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he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3184920" y="4224240"/>
            <a:ext cx="195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v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3111480" y="4394160"/>
            <a:ext cx="34308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 flipV="1">
            <a:off x="1587600" y="3669840"/>
            <a:ext cx="520560" cy="52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2349360" y="3670200"/>
            <a:ext cx="520920" cy="52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1914840" y="3338640"/>
            <a:ext cx="67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Dig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2548800" y="3398760"/>
            <a:ext cx="333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b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2552760" y="3568680"/>
            <a:ext cx="34272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2969280" y="3398760"/>
            <a:ext cx="195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v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2895480" y="3568680"/>
            <a:ext cx="34308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3529800" y="3338640"/>
            <a:ext cx="47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"H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 flipV="1">
            <a:off x="2362320" y="2857680"/>
            <a:ext cx="520560" cy="520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3137040" y="2857680"/>
            <a:ext cx="520560" cy="520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2563920" y="2513160"/>
            <a:ext cx="85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Numb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439080" y="2573280"/>
            <a:ext cx="195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v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3365640" y="2743200"/>
            <a:ext cx="34272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1331280" y="484992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he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1851480" y="4910040"/>
            <a:ext cx="195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v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1778040" y="5079960"/>
            <a:ext cx="34272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1549440" y="4470480"/>
            <a:ext cx="0" cy="36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1407960" y="53704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2754360" y="537048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3618360" y="537048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1549440" y="5143680"/>
            <a:ext cx="0" cy="2538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2882880" y="4444920"/>
            <a:ext cx="0" cy="9525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3759120" y="3619440"/>
            <a:ext cx="0" cy="17780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1890000" y="511344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3184560" y="441468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2625840" y="358920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927440" y="441468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 flipV="1">
            <a:off x="2489040" y="3848040"/>
            <a:ext cx="520920" cy="495360"/>
          </a:xfrm>
          <a:prstGeom prst="line">
            <a:avLst/>
          </a:prstGeom>
          <a:ln w="2844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2334240" y="441468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1155600" y="3340080"/>
            <a:ext cx="2451240" cy="13842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4355640" y="2957400"/>
            <a:ext cx="130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600" spc="-1" strike="noStrike">
                <a:solidFill>
                  <a:srgbClr val="000000"/>
                </a:solidFill>
                <a:latin typeface="Times New Roman"/>
              </a:rPr>
              <a:t>Production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4444920" y="3746520"/>
            <a:ext cx="4013280" cy="10285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4444920" y="3289320"/>
            <a:ext cx="4013280" cy="457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4622760" y="3336840"/>
            <a:ext cx="31626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Digits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MT Symbol"/>
                <a:ea typeface="MT Symbol"/>
              </a:rPr>
              <a:t>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Arial"/>
              </a:rPr>
              <a:t>base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MT Symbol"/>
                <a:ea typeface="MT Symbol"/>
              </a:rPr>
              <a:t>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Arial"/>
              </a:rPr>
              <a:t>val</a:t>
            </a: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 = Digits1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MT Symbol"/>
                <a:ea typeface="MT Symbol"/>
              </a:rPr>
              <a:t>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Arial"/>
              </a:rPr>
              <a:t>base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MT Symbol"/>
                <a:ea typeface="MT Symbol"/>
              </a:rPr>
              <a:t>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Arial"/>
              </a:rPr>
              <a:t>val</a:t>
            </a: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 hex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MT Symbol"/>
                <a:ea typeface="MT Symbol"/>
              </a:rPr>
              <a:t>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Arial"/>
              </a:rPr>
              <a:t>val</a:t>
            </a: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4428720" y="3757680"/>
            <a:ext cx="3810960" cy="10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Digits1.base = Digits.base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Digits.val = Digits1.val * Digits.base + hex.val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 u="sng">
                <a:solidFill>
                  <a:srgbClr val="000000"/>
                </a:solidFill>
                <a:uFillTx/>
                <a:latin typeface="Arial"/>
              </a:rPr>
              <a:t>CC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Digits.base == 10  &amp;&amp;  0 </a:t>
            </a:r>
            <a:r>
              <a:rPr b="0" lang="de-AT" sz="1400" spc="-1" strike="noStrike">
                <a:solidFill>
                  <a:srgbClr val="000000"/>
                </a:solidFill>
                <a:latin typeface="MT Symbol"/>
                <a:ea typeface="MT Symbol"/>
              </a:rPr>
              <a:t>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hex.val </a:t>
            </a:r>
            <a:r>
              <a:rPr b="0" lang="de-AT" sz="1400" spc="-1" strike="noStrike">
                <a:solidFill>
                  <a:srgbClr val="000000"/>
                </a:solidFill>
                <a:latin typeface="MT Symbol"/>
                <a:ea typeface="MT Symbol"/>
              </a:rPr>
              <a:t>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||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Digits.base == 16  &amp;&amp;  0 </a:t>
            </a:r>
            <a:r>
              <a:rPr b="0" lang="de-AT" sz="1400" spc="-1" strike="noStrike">
                <a:solidFill>
                  <a:srgbClr val="000000"/>
                </a:solidFill>
                <a:latin typeface="MT Symbol"/>
                <a:ea typeface="MT Symbol"/>
              </a:rPr>
              <a:t>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hex.val </a:t>
            </a:r>
            <a:r>
              <a:rPr b="0" lang="de-AT" sz="1400" spc="-1" strike="noStrike">
                <a:solidFill>
                  <a:srgbClr val="000000"/>
                </a:solidFill>
                <a:latin typeface="MT Symbol"/>
                <a:ea typeface="MT Symbol"/>
              </a:rPr>
              <a:t>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 flipH="1" flipV="1">
            <a:off x="3124080" y="3847680"/>
            <a:ext cx="152640" cy="381240"/>
          </a:xfrm>
          <a:prstGeom prst="line">
            <a:avLst/>
          </a:prstGeom>
          <a:ln w="2844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968920" y="358920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0000"/>
                </a:solidFill>
                <a:latin typeface="Arial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695160" y="1308240"/>
            <a:ext cx="328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The tree is traversed bottom-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747000" y="1649520"/>
            <a:ext cx="734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For every production we check which attribute evaluation rules are ready to be execu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8DCA0-031C-47D0-9357-95DDB37DC752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Attributation of the Tree (cont.)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1216080" y="4164120"/>
            <a:ext cx="67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Dig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1850400" y="4224240"/>
            <a:ext cx="333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b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1854360" y="4394160"/>
            <a:ext cx="34272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270520" y="4224240"/>
            <a:ext cx="195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v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97080" y="4394160"/>
            <a:ext cx="34308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664720" y="416412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he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3184920" y="4224240"/>
            <a:ext cx="195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v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3111480" y="4394160"/>
            <a:ext cx="34308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 flipV="1">
            <a:off x="1587600" y="3669840"/>
            <a:ext cx="520560" cy="52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349360" y="3670200"/>
            <a:ext cx="520920" cy="52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1914840" y="3338640"/>
            <a:ext cx="67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Dig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2548800" y="3398760"/>
            <a:ext cx="333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b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2552760" y="3568680"/>
            <a:ext cx="34272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2969280" y="3398760"/>
            <a:ext cx="195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v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2895480" y="3568680"/>
            <a:ext cx="34308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3529800" y="3338640"/>
            <a:ext cx="47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"H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V="1">
            <a:off x="2362320" y="2857680"/>
            <a:ext cx="520560" cy="520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3137040" y="2857680"/>
            <a:ext cx="520560" cy="520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2563920" y="2513160"/>
            <a:ext cx="85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Numb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3439080" y="2573280"/>
            <a:ext cx="195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v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3365640" y="2743200"/>
            <a:ext cx="34272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1331280" y="484992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he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1851480" y="4910040"/>
            <a:ext cx="195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v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1778040" y="5079960"/>
            <a:ext cx="34272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1549440" y="4470480"/>
            <a:ext cx="0" cy="36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1407960" y="53704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754360" y="537048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3618360" y="537048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549440" y="5143680"/>
            <a:ext cx="0" cy="2538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2882880" y="4444920"/>
            <a:ext cx="0" cy="9525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3759120" y="3619440"/>
            <a:ext cx="0" cy="17780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1890000" y="511344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3184560" y="441468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2625840" y="358920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1927440" y="441468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 flipV="1">
            <a:off x="3187800" y="2971440"/>
            <a:ext cx="342720" cy="507960"/>
          </a:xfrm>
          <a:prstGeom prst="line">
            <a:avLst/>
          </a:prstGeom>
          <a:ln w="2844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2334240" y="441468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2968920" y="358920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1727280" y="2514600"/>
            <a:ext cx="2450880" cy="13842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4432320" y="3137040"/>
            <a:ext cx="4013280" cy="5587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4432320" y="2679840"/>
            <a:ext cx="4013280" cy="457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4532760" y="2752560"/>
            <a:ext cx="27306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Number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MT Symbol"/>
                <a:ea typeface="MT Symbol"/>
              </a:rPr>
              <a:t>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Arial"/>
              </a:rPr>
              <a:t>val</a:t>
            </a: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 = Digits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MT Symbol"/>
                <a:ea typeface="MT Symbol"/>
              </a:rPr>
              <a:t>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Arial"/>
              </a:rPr>
              <a:t>base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MT Symbol"/>
                <a:ea typeface="MT Symbol"/>
              </a:rPr>
              <a:t>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Arial"/>
              </a:rPr>
              <a:t>val</a:t>
            </a: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 "H"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4424400" y="3173400"/>
            <a:ext cx="2072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Digits.base = 16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Number.val = Digits.val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4355640" y="2335320"/>
            <a:ext cx="130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600" spc="-1" strike="noStrike">
                <a:solidFill>
                  <a:srgbClr val="000000"/>
                </a:solidFill>
                <a:latin typeface="Times New Roman"/>
              </a:rPr>
              <a:t>Production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3451320" y="276372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0000"/>
                </a:solidFill>
                <a:latin typeface="Arial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65720" y="5989680"/>
            <a:ext cx="607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All attributes have been computed </a:t>
            </a:r>
            <a:r>
              <a:rPr b="1" lang="de-AT" sz="1800" spc="-1" strike="noStrike">
                <a:solidFill>
                  <a:srgbClr val="000000"/>
                </a:solidFill>
                <a:latin typeface="MT Symbol"/>
                <a:ea typeface="MT Symbol"/>
              </a:rPr>
              <a:t></a:t>
            </a: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 end of the tree travers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695160" y="1308240"/>
            <a:ext cx="328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The tree is traversed bottom-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747000" y="1649520"/>
            <a:ext cx="734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For every production we check which attribute evaluation rules are ready to be execu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64761-EE72-4BDF-BBB7-8BDC0FF8DDC9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Definition of ATGs According to Knuth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822960" y="1219320"/>
            <a:ext cx="21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Attribute Gramm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939960" y="1700280"/>
            <a:ext cx="2195280" cy="337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ATG = (CFG, A, R, C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893880" y="2106720"/>
            <a:ext cx="34574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CFG ...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context-free gramm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A ...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set of 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R ...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set of attribute evaluation ru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CC ...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set of context condi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7" name=""/>
          <p:cNvGrpSpPr/>
          <p:nvPr/>
        </p:nvGrpSpPr>
        <p:grpSpPr>
          <a:xfrm>
            <a:off x="5051520" y="1219320"/>
            <a:ext cx="2530440" cy="1954800"/>
            <a:chOff x="5051520" y="1219320"/>
            <a:chExt cx="2530440" cy="1954800"/>
          </a:xfrm>
        </p:grpSpPr>
        <p:sp>
          <p:nvSpPr>
            <p:cNvPr id="678" name=""/>
            <p:cNvSpPr/>
            <p:nvPr/>
          </p:nvSpPr>
          <p:spPr>
            <a:xfrm>
              <a:off x="5051520" y="1219320"/>
              <a:ext cx="2463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Context-free Gramma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5169960" y="1700280"/>
              <a:ext cx="1721520" cy="3373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CFG = (T, N, P, S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5119560" y="2106720"/>
              <a:ext cx="246240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T ...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terminal symbo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N ...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nonterminal symbo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P ...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produc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S ...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start symbo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1" name=""/>
          <p:cNvGrpSpPr/>
          <p:nvPr/>
        </p:nvGrpSpPr>
        <p:grpSpPr>
          <a:xfrm>
            <a:off x="722520" y="3340080"/>
            <a:ext cx="5051880" cy="1101960"/>
            <a:chOff x="722520" y="3340080"/>
            <a:chExt cx="5051880" cy="1101960"/>
          </a:xfrm>
        </p:grpSpPr>
        <p:sp>
          <p:nvSpPr>
            <p:cNvPr id="682" name=""/>
            <p:cNvSpPr/>
            <p:nvPr/>
          </p:nvSpPr>
          <p:spPr>
            <a:xfrm>
              <a:off x="722520" y="3340080"/>
              <a:ext cx="118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Attribut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45560" y="3618000"/>
              <a:ext cx="50288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190440"/>
                  <a:tab algn="l" pos="762120"/>
                  <a:tab algn="l" pos="10540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A(X) ...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attributes of the symbol X (written as X.a, X.b, ...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190440"/>
                  <a:tab algn="l" pos="762120"/>
                  <a:tab algn="l" pos="10540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AS(X) ...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output attributes of X (synthesize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190440"/>
                  <a:tab algn="l" pos="762120"/>
                  <a:tab algn="l" pos="10540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AI(X) ...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input attributes of X (inherite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4" name=""/>
          <p:cNvGrpSpPr/>
          <p:nvPr/>
        </p:nvGrpSpPr>
        <p:grpSpPr>
          <a:xfrm>
            <a:off x="721080" y="4470480"/>
            <a:ext cx="5902200" cy="1101600"/>
            <a:chOff x="721080" y="4470480"/>
            <a:chExt cx="5902200" cy="1101600"/>
          </a:xfrm>
        </p:grpSpPr>
        <p:sp>
          <p:nvSpPr>
            <p:cNvPr id="685" name=""/>
            <p:cNvSpPr/>
            <p:nvPr/>
          </p:nvSpPr>
          <p:spPr>
            <a:xfrm>
              <a:off x="721080" y="4470480"/>
              <a:ext cx="2710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Attribute evaluation rul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747360" y="4748040"/>
              <a:ext cx="58759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190440"/>
                  <a:tab algn="l" pos="762120"/>
                  <a:tab algn="l" pos="10540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R(p) ...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attribute evaluation rules for production p: X0 = X1 ... X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190440"/>
                  <a:tab algn="l" pos="762120"/>
                  <a:tab algn="l" pos="10540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R(p) = {Xi.a = f(Xj.b, ..., Xk.c)}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190440"/>
                  <a:tab algn="l" pos="762120"/>
                  <a:tab algn="l" pos="10540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for all AS of the left-hand side and all AI of the right-hand side of 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7" name=""/>
          <p:cNvGrpSpPr/>
          <p:nvPr/>
        </p:nvGrpSpPr>
        <p:grpSpPr>
          <a:xfrm>
            <a:off x="722520" y="5549760"/>
            <a:ext cx="6360480" cy="1101960"/>
            <a:chOff x="722520" y="5549760"/>
            <a:chExt cx="6360480" cy="1101960"/>
          </a:xfrm>
        </p:grpSpPr>
        <p:sp>
          <p:nvSpPr>
            <p:cNvPr id="688" name=""/>
            <p:cNvSpPr/>
            <p:nvPr/>
          </p:nvSpPr>
          <p:spPr>
            <a:xfrm>
              <a:off x="722520" y="5549760"/>
              <a:ext cx="201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Context condi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751320" y="5827680"/>
              <a:ext cx="63316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190440"/>
                  <a:tab algn="l" pos="762120"/>
                  <a:tab algn="l" pos="10540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CC(p) ...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context conditions of production p: X0 = X1 ... X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190440"/>
                  <a:tab algn="l" pos="762120"/>
                  <a:tab algn="l" pos="10540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in the form of a Boolean expression B(Xi.a, ..., Xj.b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190440"/>
                  <a:tab algn="l" pos="762120"/>
                  <a:tab algn="l" pos="10540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check the "static semantics", i.e. whether the input is semantically correc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0" name=""/>
          <p:cNvSpPr/>
          <p:nvPr/>
        </p:nvSpPr>
        <p:spPr>
          <a:xfrm>
            <a:off x="825480" y="1257480"/>
            <a:ext cx="3797280" cy="195552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F7D14-F93C-49F7-B1FB-7C1EB1270A04}" type="slidenum">
              <a:t>25</a:t>
            </a:fld>
          </a:p>
        </p:txBody>
      </p:sp>
    </p:spTree>
  </p:cSld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Complete ATGs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735120" y="1359000"/>
            <a:ext cx="115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1038960" y="1789200"/>
            <a:ext cx="6459480" cy="793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An ATG is called 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complete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if for all produ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: X = Y1 ... Y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the following condition holds: all AS(X) and all AI(Yi) are computed in R(p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32F0A-964E-49E7-A522-7515A155B923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Well-defined ATGs (WAGs)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735120" y="1206360"/>
            <a:ext cx="115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1042920" y="1636560"/>
            <a:ext cx="6767280" cy="8240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90440" indent="-190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An ATG is called 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well-defined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(WA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if the ATG is complete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if the relations between attributes are non-circular in 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every possible syntax tre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797400" y="2500200"/>
            <a:ext cx="5959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In other word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We can find an attribute evaluation order for every possible syntax tre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8" name=""/>
          <p:cNvGrpSpPr/>
          <p:nvPr/>
        </p:nvGrpSpPr>
        <p:grpSpPr>
          <a:xfrm>
            <a:off x="4422960" y="3668760"/>
            <a:ext cx="2310840" cy="2059560"/>
            <a:chOff x="4422960" y="3668760"/>
            <a:chExt cx="2310840" cy="2059560"/>
          </a:xfrm>
        </p:grpSpPr>
        <p:sp>
          <p:nvSpPr>
            <p:cNvPr id="699" name=""/>
            <p:cNvSpPr/>
            <p:nvPr/>
          </p:nvSpPr>
          <p:spPr>
            <a:xfrm>
              <a:off x="5459040" y="366876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887360" y="4392720"/>
              <a:ext cx="13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992200" y="4392720"/>
              <a:ext cx="13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5076000" y="4562640"/>
              <a:ext cx="25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MT Symbol"/>
                  <a:ea typeface="MT Symbol"/>
                </a:rPr>
                <a:t></a:t>
              </a:r>
              <a:r>
                <a:rPr b="0" lang="de-AT" sz="1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de-AT" sz="1200" spc="-1" strike="noStrike">
                  <a:solidFill>
                    <a:srgbClr val="000000"/>
                  </a:solidFill>
                  <a:latin typeface="MT Symbol"/>
                  <a:ea typeface="MT Symbol"/>
                </a:rPr>
                <a:t></a:t>
              </a:r>
              <a:r>
                <a:rPr b="0" lang="de-AT" sz="1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 flipV="1">
              <a:off x="5003640" y="3911400"/>
              <a:ext cx="470160" cy="469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 flipH="1" flipV="1">
              <a:off x="5574960" y="3911400"/>
              <a:ext cx="469800" cy="469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6142680" y="4562640"/>
              <a:ext cx="25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MT Symbol"/>
                  <a:ea typeface="MT Symbol"/>
                </a:rPr>
                <a:t></a:t>
              </a:r>
              <a:r>
                <a:rPr b="0" lang="de-AT" sz="12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de-AT" sz="1200" spc="-1" strike="noStrike">
                  <a:solidFill>
                    <a:srgbClr val="000000"/>
                  </a:solidFill>
                  <a:latin typeface="MT Symbol"/>
                  <a:ea typeface="MT Symbol"/>
                </a:rPr>
                <a:t></a:t>
              </a:r>
              <a:r>
                <a:rPr b="0" lang="de-AT" sz="12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 flipV="1">
              <a:off x="6350040" y="4152960"/>
              <a:ext cx="0" cy="3556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H="1">
              <a:off x="5130360" y="4152960"/>
              <a:ext cx="121932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30720" y="4152960"/>
              <a:ext cx="0" cy="3427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 flipV="1">
              <a:off x="5270400" y="4254480"/>
              <a:ext cx="0" cy="2541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5270400" y="4254480"/>
              <a:ext cx="93996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6210360" y="4254480"/>
              <a:ext cx="0" cy="2667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722480" y="498960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4892400" y="5159520"/>
              <a:ext cx="13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MT Symbol"/>
                  <a:ea typeface="MT Symbol"/>
                </a:rPr>
                <a:t></a:t>
              </a:r>
              <a:r>
                <a:rPr b="0" lang="de-AT" sz="12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 flipH="1">
              <a:off x="4800600" y="4610160"/>
              <a:ext cx="76320" cy="368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6210360" y="4775040"/>
              <a:ext cx="0" cy="2034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6210360" y="4978440"/>
              <a:ext cx="1522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 flipV="1">
              <a:off x="6362640" y="4749480"/>
              <a:ext cx="0" cy="2286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H="1">
              <a:off x="4978440" y="4749840"/>
              <a:ext cx="139680" cy="3808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5143680" y="4775040"/>
              <a:ext cx="0" cy="2034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143680" y="4978440"/>
              <a:ext cx="1522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 flipV="1">
              <a:off x="5295960" y="4749480"/>
              <a:ext cx="0" cy="2286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4422960" y="5391000"/>
              <a:ext cx="2310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circular </a:t>
              </a:r>
              <a:r>
                <a:rPr b="0" lang="de-AT" sz="1600" spc="-1" strike="noStrike">
                  <a:solidFill>
                    <a:srgbClr val="000000"/>
                  </a:solidFill>
                  <a:latin typeface="MT Symbol"/>
                  <a:ea typeface="MT Symbol"/>
                </a:rPr>
                <a:t>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not well-defin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3" name=""/>
          <p:cNvSpPr/>
          <p:nvPr/>
        </p:nvSpPr>
        <p:spPr>
          <a:xfrm>
            <a:off x="797400" y="5916600"/>
            <a:ext cx="720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Checking for well-definedness is 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NP complete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(can only be done in exponential time)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However, there are subclasses of WAG for which this check can be simplifi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4" name=""/>
          <p:cNvGrpSpPr/>
          <p:nvPr/>
        </p:nvGrpSpPr>
        <p:grpSpPr>
          <a:xfrm>
            <a:off x="735120" y="3352680"/>
            <a:ext cx="2565720" cy="2367720"/>
            <a:chOff x="735120" y="3352680"/>
            <a:chExt cx="2565720" cy="2367720"/>
          </a:xfrm>
        </p:grpSpPr>
        <p:sp>
          <p:nvSpPr>
            <p:cNvPr id="725" name=""/>
            <p:cNvSpPr/>
            <p:nvPr/>
          </p:nvSpPr>
          <p:spPr>
            <a:xfrm>
              <a:off x="735120" y="3352680"/>
              <a:ext cx="104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Examp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2360160" y="366876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1788480" y="4392720"/>
              <a:ext cx="13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2893320" y="4392720"/>
              <a:ext cx="13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1977120" y="4562640"/>
              <a:ext cx="25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MT Symbol"/>
                  <a:ea typeface="MT Symbol"/>
                </a:rPr>
                <a:t></a:t>
              </a:r>
              <a:r>
                <a:rPr b="0" lang="de-AT" sz="1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de-AT" sz="1200" spc="-1" strike="noStrike">
                  <a:solidFill>
                    <a:srgbClr val="000000"/>
                  </a:solidFill>
                  <a:latin typeface="MT Symbol"/>
                  <a:ea typeface="MT Symbol"/>
                </a:rPr>
                <a:t></a:t>
              </a:r>
              <a:r>
                <a:rPr b="0" lang="de-AT" sz="1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 flipV="1">
              <a:off x="1905120" y="3911400"/>
              <a:ext cx="469800" cy="469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 flipH="1" flipV="1">
              <a:off x="2476080" y="3911400"/>
              <a:ext cx="469800" cy="469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3043800" y="4562640"/>
              <a:ext cx="25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MT Symbol"/>
                  <a:ea typeface="MT Symbol"/>
                </a:rPr>
                <a:t></a:t>
              </a:r>
              <a:r>
                <a:rPr b="0" lang="de-AT" sz="12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de-AT" sz="1200" spc="-1" strike="noStrike">
                  <a:solidFill>
                    <a:srgbClr val="000000"/>
                  </a:solidFill>
                  <a:latin typeface="MT Symbol"/>
                  <a:ea typeface="MT Symbol"/>
                </a:rPr>
                <a:t></a:t>
              </a:r>
              <a:r>
                <a:rPr b="0" lang="de-AT" sz="12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 flipV="1">
              <a:off x="3251160" y="4152960"/>
              <a:ext cx="0" cy="3556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 flipH="1">
              <a:off x="2031480" y="4152960"/>
              <a:ext cx="121932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2031840" y="4152960"/>
              <a:ext cx="0" cy="3427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 flipV="1">
              <a:off x="2171880" y="4254480"/>
              <a:ext cx="0" cy="2541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2171880" y="4254480"/>
              <a:ext cx="9396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111480" y="4254480"/>
              <a:ext cx="0" cy="2667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1306080" y="498960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1477080" y="5159520"/>
              <a:ext cx="12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MT Symbol"/>
                  <a:ea typeface="MT Symbol"/>
                </a:rPr>
                <a:t></a:t>
              </a:r>
              <a:r>
                <a:rPr b="0" lang="de-AT" sz="12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2233440" y="4989600"/>
              <a:ext cx="12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03720" y="5159520"/>
              <a:ext cx="107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MT Symbol"/>
                  <a:ea typeface="MT Symbol"/>
                </a:rPr>
                <a:t></a:t>
              </a:r>
              <a:r>
                <a:rPr b="0" lang="de-AT" sz="1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 flipH="1">
              <a:off x="1422360" y="4610160"/>
              <a:ext cx="355680" cy="355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1841400" y="4610160"/>
              <a:ext cx="355680" cy="355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 flipH="1" flipV="1">
              <a:off x="2184120" y="4736880"/>
              <a:ext cx="291960" cy="4064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3111480" y="4775040"/>
              <a:ext cx="0" cy="2034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3111480" y="4978440"/>
              <a:ext cx="1522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 flipV="1">
              <a:off x="3263760" y="4749480"/>
              <a:ext cx="0" cy="2286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1574280" y="4749840"/>
              <a:ext cx="444600" cy="4064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1639080" y="5383080"/>
              <a:ext cx="1206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well-defin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47E2E-9A3C-4FF8-87E8-37320609EDB6}" type="slidenum">
              <a:t>27</a:t>
            </a:fld>
          </a:p>
        </p:txBody>
      </p:sp>
    </p:spTree>
  </p:cSld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Ordered ATGs (OAGs)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735120" y="1206360"/>
            <a:ext cx="115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848520" y="1636560"/>
            <a:ext cx="7647120" cy="580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90440" indent="-190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An ATG is called 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ordered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(OAG), if a 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fixed attribute evaluation order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can be specifi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every production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regardless of its context in the syntax tre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770040" y="2309760"/>
            <a:ext cx="6816240" cy="118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Aft>
                <a:spcPts val="400"/>
              </a:spcAft>
              <a:tabLst>
                <a:tab algn="l" pos="0"/>
                <a:tab algn="l" pos="190440"/>
                <a:tab algn="l" pos="95256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Attributation code of a production 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can be specified by the following operation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90440"/>
                <a:tab algn="l" pos="95256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comp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...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execute attribute evaluation rule 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from R(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90440"/>
                <a:tab algn="l" pos="95256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up 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...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go to the father in the syntax tre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90440"/>
                <a:tab algn="l" pos="95256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down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...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go to son 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in the syntax tre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5" name=""/>
          <p:cNvGrpSpPr/>
          <p:nvPr/>
        </p:nvGrpSpPr>
        <p:grpSpPr>
          <a:xfrm>
            <a:off x="735120" y="3683160"/>
            <a:ext cx="4754160" cy="2454480"/>
            <a:chOff x="735120" y="3683160"/>
            <a:chExt cx="4754160" cy="2454480"/>
          </a:xfrm>
        </p:grpSpPr>
        <p:sp>
          <p:nvSpPr>
            <p:cNvPr id="756" name=""/>
            <p:cNvSpPr/>
            <p:nvPr/>
          </p:nvSpPr>
          <p:spPr>
            <a:xfrm>
              <a:off x="735120" y="3683160"/>
              <a:ext cx="104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Examp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1775880" y="420228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2014560" y="4359240"/>
              <a:ext cx="876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MT Symbol"/>
                  <a:ea typeface="MT Symbol"/>
                </a:rPr>
                <a:t></a:t>
              </a:r>
              <a:r>
                <a:rPr b="0" lang="de-AT" sz="1200" spc="-1" strike="noStrike">
                  <a:solidFill>
                    <a:srgbClr val="000000"/>
                  </a:solidFill>
                  <a:latin typeface="Times New Roman"/>
                </a:rPr>
                <a:t>a1 </a:t>
              </a:r>
              <a:r>
                <a:rPr b="0" lang="de-AT" sz="1200" spc="-1" strike="noStrike">
                  <a:solidFill>
                    <a:srgbClr val="000000"/>
                  </a:solidFill>
                  <a:latin typeface="MT Symbol"/>
                  <a:ea typeface="MT Symbol"/>
                </a:rPr>
                <a:t></a:t>
              </a:r>
              <a:r>
                <a:rPr b="0" lang="de-AT" sz="1200" spc="-1" strike="noStrike">
                  <a:solidFill>
                    <a:srgbClr val="000000"/>
                  </a:solidFill>
                  <a:latin typeface="Times New Roman"/>
                </a:rPr>
                <a:t>a2</a:t>
              </a:r>
              <a:r>
                <a:rPr b="0" lang="de-AT" sz="1200" spc="-1" strike="noStrike">
                  <a:solidFill>
                    <a:srgbClr val="000000"/>
                  </a:solidFill>
                  <a:latin typeface="MT Symbol"/>
                  <a:ea typeface="MT Symbol"/>
                </a:rPr>
                <a:t></a:t>
              </a:r>
              <a:r>
                <a:rPr b="0" lang="de-AT" sz="1200" spc="-1" strike="noStrike">
                  <a:solidFill>
                    <a:srgbClr val="000000"/>
                  </a:solidFill>
                  <a:latin typeface="Times New Roman"/>
                </a:rPr>
                <a:t>a3 </a:t>
              </a:r>
              <a:r>
                <a:rPr b="0" lang="de-AT" sz="1200" spc="-1" strike="noStrike">
                  <a:solidFill>
                    <a:srgbClr val="000000"/>
                  </a:solidFill>
                  <a:latin typeface="MT Symbol"/>
                  <a:ea typeface="MT Symbol"/>
                </a:rPr>
                <a:t></a:t>
              </a:r>
              <a:r>
                <a:rPr b="0" lang="de-AT" sz="1200" spc="-1" strike="noStrike">
                  <a:solidFill>
                    <a:srgbClr val="000000"/>
                  </a:solidFill>
                  <a:latin typeface="Times New Roman"/>
                </a:rPr>
                <a:t>a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1204200" y="4951440"/>
              <a:ext cx="13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1405440" y="5108400"/>
              <a:ext cx="418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MT Symbol"/>
                  <a:ea typeface="MT Symbol"/>
                </a:rPr>
                <a:t></a:t>
              </a:r>
              <a:r>
                <a:rPr b="0" lang="de-AT" sz="1200" spc="-1" strike="noStrike">
                  <a:solidFill>
                    <a:srgbClr val="000000"/>
                  </a:solidFill>
                  <a:latin typeface="Times New Roman"/>
                </a:rPr>
                <a:t>b1</a:t>
              </a:r>
              <a:r>
                <a:rPr b="0" lang="de-AT" sz="1200" spc="-1" strike="noStrike">
                  <a:solidFill>
                    <a:srgbClr val="000000"/>
                  </a:solidFill>
                  <a:latin typeface="MT Symbol"/>
                  <a:ea typeface="MT Symbol"/>
                </a:rPr>
                <a:t></a:t>
              </a:r>
              <a:r>
                <a:rPr b="0" lang="de-AT" sz="1200" spc="-1" strike="noStrike">
                  <a:solidFill>
                    <a:srgbClr val="000000"/>
                  </a:solidFill>
                  <a:latin typeface="Times New Roman"/>
                </a:rPr>
                <a:t>b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2347200" y="4951440"/>
              <a:ext cx="13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2549520" y="5108400"/>
              <a:ext cx="400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MT Symbol"/>
                  <a:ea typeface="MT Symbol"/>
                </a:rPr>
                <a:t></a:t>
              </a:r>
              <a:r>
                <a:rPr b="0" lang="de-AT" sz="1200" spc="-1" strike="noStrike">
                  <a:solidFill>
                    <a:srgbClr val="000000"/>
                  </a:solidFill>
                  <a:latin typeface="Times New Roman"/>
                </a:rPr>
                <a:t>c1</a:t>
              </a:r>
              <a:r>
                <a:rPr b="0" lang="de-AT" sz="1200" spc="-1" strike="noStrike">
                  <a:solidFill>
                    <a:srgbClr val="000000"/>
                  </a:solidFill>
                  <a:latin typeface="MT Symbol"/>
                  <a:ea typeface="MT Symbol"/>
                </a:rPr>
                <a:t></a:t>
              </a:r>
              <a:r>
                <a:rPr b="0" lang="de-AT" sz="1200" spc="-1" strike="noStrike">
                  <a:solidFill>
                    <a:srgbClr val="000000"/>
                  </a:solidFill>
                  <a:latin typeface="Times New Roman"/>
                </a:rPr>
                <a:t>c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 flipV="1">
              <a:off x="1270080" y="4457520"/>
              <a:ext cx="546120" cy="495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 flipH="1" flipV="1">
              <a:off x="1879200" y="4457520"/>
              <a:ext cx="546120" cy="495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2006640" y="4076640"/>
              <a:ext cx="0" cy="24120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 flipH="1">
              <a:off x="1536840" y="4533840"/>
              <a:ext cx="482400" cy="5335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 flipV="1">
              <a:off x="1816200" y="4546440"/>
              <a:ext cx="736560" cy="5083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2324160" y="4546440"/>
              <a:ext cx="279360" cy="5335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H="1" flipV="1">
              <a:off x="2832120" y="4559400"/>
              <a:ext cx="38160" cy="5205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 flipV="1">
              <a:off x="2857680" y="4140000"/>
              <a:ext cx="0" cy="21564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1511280" y="5308560"/>
              <a:ext cx="0" cy="20340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1511280" y="5511960"/>
              <a:ext cx="228600" cy="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 flipV="1">
              <a:off x="1739880" y="5283000"/>
              <a:ext cx="0" cy="22860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2641680" y="5308560"/>
              <a:ext cx="0" cy="20340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2349360" y="4152960"/>
              <a:ext cx="228600" cy="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 flipV="1">
              <a:off x="2870280" y="5283000"/>
              <a:ext cx="0" cy="22860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2577960" y="4152960"/>
              <a:ext cx="0" cy="20304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V="1">
              <a:off x="2336760" y="4152600"/>
              <a:ext cx="0" cy="22860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2641680" y="5511960"/>
              <a:ext cx="228600" cy="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822480" y="3986280"/>
              <a:ext cx="1666800" cy="21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Aft>
                  <a:spcPts val="4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Attributation c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comp (b1 = a1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down</a:t>
              </a:r>
              <a:r>
                <a:rPr b="0" lang="de-AT" sz="1400" spc="-1" strike="noStrike" baseline="-25000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comp (a3 = b2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u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comp (c1 = a2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down</a:t>
              </a:r>
              <a:r>
                <a:rPr b="0" lang="de-AT" sz="1400" spc="-1" strike="noStrike" baseline="-25000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comp (a4 = c2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u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72A90-E845-40B0-8440-DD525881CEAB}" type="slidenum">
              <a:t>28</a:t>
            </a:fld>
          </a:p>
        </p:txBody>
      </p:sp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Counter-Example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695520" y="1206360"/>
            <a:ext cx="27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ATG which is not order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1775880" y="191628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2014560" y="2073240"/>
            <a:ext cx="87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MT Symbol"/>
                <a:ea typeface="MT Symbol"/>
              </a:rPr>
              <a:t></a:t>
            </a:r>
            <a:r>
              <a:rPr b="0" lang="de-AT" sz="1200" spc="-1" strike="noStrike">
                <a:solidFill>
                  <a:srgbClr val="000000"/>
                </a:solidFill>
                <a:latin typeface="Times New Roman"/>
              </a:rPr>
              <a:t>a1 </a:t>
            </a:r>
            <a:r>
              <a:rPr b="0" lang="de-AT" sz="1200" spc="-1" strike="noStrike">
                <a:solidFill>
                  <a:srgbClr val="000000"/>
                </a:solidFill>
                <a:latin typeface="MT Symbol"/>
                <a:ea typeface="MT Symbol"/>
              </a:rPr>
              <a:t></a:t>
            </a:r>
            <a:r>
              <a:rPr b="0" lang="de-AT" sz="1200" spc="-1" strike="noStrike">
                <a:solidFill>
                  <a:srgbClr val="000000"/>
                </a:solidFill>
                <a:latin typeface="Times New Roman"/>
              </a:rPr>
              <a:t>a2</a:t>
            </a:r>
            <a:r>
              <a:rPr b="0" lang="de-AT" sz="1200" spc="-1" strike="noStrike">
                <a:solidFill>
                  <a:srgbClr val="000000"/>
                </a:solidFill>
                <a:latin typeface="MT Symbol"/>
                <a:ea typeface="MT Symbol"/>
              </a:rPr>
              <a:t></a:t>
            </a:r>
            <a:r>
              <a:rPr b="0" lang="de-AT" sz="1200" spc="-1" strike="noStrike">
                <a:solidFill>
                  <a:srgbClr val="000000"/>
                </a:solidFill>
                <a:latin typeface="Times New Roman"/>
              </a:rPr>
              <a:t>a3 </a:t>
            </a:r>
            <a:r>
              <a:rPr b="0" lang="de-AT" sz="1200" spc="-1" strike="noStrike">
                <a:solidFill>
                  <a:srgbClr val="000000"/>
                </a:solidFill>
                <a:latin typeface="MT Symbol"/>
                <a:ea typeface="MT Symbol"/>
              </a:rPr>
              <a:t></a:t>
            </a:r>
            <a:r>
              <a:rPr b="0" lang="de-AT" sz="1200" spc="-1" strike="noStrike">
                <a:solidFill>
                  <a:srgbClr val="000000"/>
                </a:solidFill>
                <a:latin typeface="Times New Roman"/>
              </a:rPr>
              <a:t>a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1204200" y="2665440"/>
            <a:ext cx="13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1405440" y="2822400"/>
            <a:ext cx="418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MT Symbol"/>
                <a:ea typeface="MT Symbol"/>
              </a:rPr>
              <a:t></a:t>
            </a:r>
            <a:r>
              <a:rPr b="0" lang="de-AT" sz="1200" spc="-1" strike="noStrike">
                <a:solidFill>
                  <a:srgbClr val="000000"/>
                </a:solidFill>
                <a:latin typeface="Times New Roman"/>
              </a:rPr>
              <a:t>b1</a:t>
            </a:r>
            <a:r>
              <a:rPr b="0" lang="de-AT" sz="1200" spc="-1" strike="noStrike">
                <a:solidFill>
                  <a:srgbClr val="000000"/>
                </a:solidFill>
                <a:latin typeface="MT Symbol"/>
                <a:ea typeface="MT Symbol"/>
              </a:rPr>
              <a:t></a:t>
            </a:r>
            <a:r>
              <a:rPr b="0" lang="de-AT" sz="1200" spc="-1" strike="noStrike">
                <a:solidFill>
                  <a:srgbClr val="000000"/>
                </a:solidFill>
                <a:latin typeface="Times New Roman"/>
              </a:rPr>
              <a:t>b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2347200" y="2665440"/>
            <a:ext cx="13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2549520" y="2822400"/>
            <a:ext cx="400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MT Symbol"/>
                <a:ea typeface="MT Symbol"/>
              </a:rPr>
              <a:t></a:t>
            </a:r>
            <a:r>
              <a:rPr b="0" lang="de-AT" sz="1200" spc="-1" strike="noStrike">
                <a:solidFill>
                  <a:srgbClr val="000000"/>
                </a:solidFill>
                <a:latin typeface="Times New Roman"/>
              </a:rPr>
              <a:t>c1</a:t>
            </a:r>
            <a:r>
              <a:rPr b="0" lang="de-AT" sz="1200" spc="-1" strike="noStrike">
                <a:solidFill>
                  <a:srgbClr val="000000"/>
                </a:solidFill>
                <a:latin typeface="MT Symbol"/>
                <a:ea typeface="MT Symbol"/>
              </a:rPr>
              <a:t></a:t>
            </a:r>
            <a:r>
              <a:rPr b="0" lang="de-AT" sz="1200" spc="-1" strike="noStrike">
                <a:solidFill>
                  <a:srgbClr val="000000"/>
                </a:solidFill>
                <a:latin typeface="Times New Roman"/>
              </a:rPr>
              <a:t>c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 flipV="1">
            <a:off x="1270080" y="2171520"/>
            <a:ext cx="546120" cy="49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 flipH="1" flipV="1">
            <a:off x="1879200" y="2171520"/>
            <a:ext cx="546120" cy="49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2006640" y="1790640"/>
            <a:ext cx="0" cy="24120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 flipH="1">
            <a:off x="1536840" y="2247840"/>
            <a:ext cx="482400" cy="5335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 flipV="1">
            <a:off x="1816200" y="2260440"/>
            <a:ext cx="736560" cy="5083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2324160" y="2260440"/>
            <a:ext cx="279360" cy="5335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 flipH="1" flipV="1">
            <a:off x="2832120" y="2273400"/>
            <a:ext cx="38160" cy="5205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 flipV="1">
            <a:off x="2857680" y="1854000"/>
            <a:ext cx="0" cy="21564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1511280" y="3022560"/>
            <a:ext cx="0" cy="20340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1511280" y="3225960"/>
            <a:ext cx="2286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 flipV="1">
            <a:off x="1739880" y="2997000"/>
            <a:ext cx="0" cy="22860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2641680" y="3022560"/>
            <a:ext cx="0" cy="20340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2349360" y="1866960"/>
            <a:ext cx="2286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 flipV="1">
            <a:off x="2870280" y="2997000"/>
            <a:ext cx="0" cy="22860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2577960" y="1866960"/>
            <a:ext cx="0" cy="20304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 flipV="1">
            <a:off x="2336760" y="1866600"/>
            <a:ext cx="0" cy="228600"/>
          </a:xfrm>
          <a:prstGeom prst="line">
            <a:avLst/>
          </a:prstGeom>
          <a:ln w="936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2641680" y="3225960"/>
            <a:ext cx="2286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1218960" y="3414600"/>
            <a:ext cx="166680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Attributation 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comp (b1 = a1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down</a:t>
            </a:r>
            <a:r>
              <a:rPr b="0" lang="de-AT" sz="14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comp (a3 = b2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comp (c1 = a2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down</a:t>
            </a:r>
            <a:r>
              <a:rPr b="0" lang="de-AT" sz="14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comp (a4 = c2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7" name=""/>
          <p:cNvGrpSpPr/>
          <p:nvPr/>
        </p:nvGrpSpPr>
        <p:grpSpPr>
          <a:xfrm>
            <a:off x="782640" y="1663200"/>
            <a:ext cx="5784840" cy="4273200"/>
            <a:chOff x="782640" y="1663200"/>
            <a:chExt cx="5784840" cy="4273200"/>
          </a:xfrm>
        </p:grpSpPr>
        <p:sp>
          <p:nvSpPr>
            <p:cNvPr id="808" name=""/>
            <p:cNvSpPr/>
            <p:nvPr/>
          </p:nvSpPr>
          <p:spPr>
            <a:xfrm>
              <a:off x="4925520" y="191628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5164200" y="2073240"/>
              <a:ext cx="876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MT Symbol"/>
                  <a:ea typeface="MT Symbol"/>
                </a:rPr>
                <a:t></a:t>
              </a:r>
              <a:r>
                <a:rPr b="0" lang="de-AT" sz="1200" spc="-1" strike="noStrike">
                  <a:solidFill>
                    <a:srgbClr val="000000"/>
                  </a:solidFill>
                  <a:latin typeface="Times New Roman"/>
                </a:rPr>
                <a:t>a1 </a:t>
              </a:r>
              <a:r>
                <a:rPr b="0" lang="de-AT" sz="1200" spc="-1" strike="noStrike">
                  <a:solidFill>
                    <a:srgbClr val="000000"/>
                  </a:solidFill>
                  <a:latin typeface="MT Symbol"/>
                  <a:ea typeface="MT Symbol"/>
                </a:rPr>
                <a:t></a:t>
              </a:r>
              <a:r>
                <a:rPr b="0" lang="de-AT" sz="1200" spc="-1" strike="noStrike">
                  <a:solidFill>
                    <a:srgbClr val="000000"/>
                  </a:solidFill>
                  <a:latin typeface="Times New Roman"/>
                </a:rPr>
                <a:t>a2</a:t>
              </a:r>
              <a:r>
                <a:rPr b="0" lang="de-AT" sz="1200" spc="-1" strike="noStrike">
                  <a:solidFill>
                    <a:srgbClr val="000000"/>
                  </a:solidFill>
                  <a:latin typeface="MT Symbol"/>
                  <a:ea typeface="MT Symbol"/>
                </a:rPr>
                <a:t></a:t>
              </a:r>
              <a:r>
                <a:rPr b="0" lang="de-AT" sz="1200" spc="-1" strike="noStrike">
                  <a:solidFill>
                    <a:srgbClr val="000000"/>
                  </a:solidFill>
                  <a:latin typeface="Times New Roman"/>
                </a:rPr>
                <a:t>a3 </a:t>
              </a:r>
              <a:r>
                <a:rPr b="0" lang="de-AT" sz="1200" spc="-1" strike="noStrike">
                  <a:solidFill>
                    <a:srgbClr val="000000"/>
                  </a:solidFill>
                  <a:latin typeface="MT Symbol"/>
                  <a:ea typeface="MT Symbol"/>
                </a:rPr>
                <a:t></a:t>
              </a:r>
              <a:r>
                <a:rPr b="0" lang="de-AT" sz="1200" spc="-1" strike="noStrike">
                  <a:solidFill>
                    <a:srgbClr val="000000"/>
                  </a:solidFill>
                  <a:latin typeface="Times New Roman"/>
                </a:rPr>
                <a:t>a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353840" y="2665440"/>
              <a:ext cx="13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54720" y="2822400"/>
              <a:ext cx="418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MT Symbol"/>
                  <a:ea typeface="MT Symbol"/>
                </a:rPr>
                <a:t></a:t>
              </a:r>
              <a:r>
                <a:rPr b="0" lang="de-AT" sz="1200" spc="-1" strike="noStrike">
                  <a:solidFill>
                    <a:srgbClr val="000000"/>
                  </a:solidFill>
                  <a:latin typeface="Times New Roman"/>
                </a:rPr>
                <a:t>b1</a:t>
              </a:r>
              <a:r>
                <a:rPr b="0" lang="de-AT" sz="1200" spc="-1" strike="noStrike">
                  <a:solidFill>
                    <a:srgbClr val="000000"/>
                  </a:solidFill>
                  <a:latin typeface="MT Symbol"/>
                  <a:ea typeface="MT Symbol"/>
                </a:rPr>
                <a:t></a:t>
              </a:r>
              <a:r>
                <a:rPr b="0" lang="de-AT" sz="1200" spc="-1" strike="noStrike">
                  <a:solidFill>
                    <a:srgbClr val="000000"/>
                  </a:solidFill>
                  <a:latin typeface="Times New Roman"/>
                </a:rPr>
                <a:t>b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5496840" y="2665440"/>
              <a:ext cx="13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5698800" y="2822400"/>
              <a:ext cx="400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MT Symbol"/>
                  <a:ea typeface="MT Symbol"/>
                </a:rPr>
                <a:t></a:t>
              </a:r>
              <a:r>
                <a:rPr b="0" lang="de-AT" sz="1200" spc="-1" strike="noStrike">
                  <a:solidFill>
                    <a:srgbClr val="000000"/>
                  </a:solidFill>
                  <a:latin typeface="Times New Roman"/>
                </a:rPr>
                <a:t>c1</a:t>
              </a:r>
              <a:r>
                <a:rPr b="0" lang="de-AT" sz="1200" spc="-1" strike="noStrike">
                  <a:solidFill>
                    <a:srgbClr val="000000"/>
                  </a:solidFill>
                  <a:latin typeface="MT Symbol"/>
                  <a:ea typeface="MT Symbol"/>
                </a:rPr>
                <a:t></a:t>
              </a:r>
              <a:r>
                <a:rPr b="0" lang="de-AT" sz="1200" spc="-1" strike="noStrike">
                  <a:solidFill>
                    <a:srgbClr val="000000"/>
                  </a:solidFill>
                  <a:latin typeface="Times New Roman"/>
                </a:rPr>
                <a:t>c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 flipV="1">
              <a:off x="4419720" y="2171520"/>
              <a:ext cx="546120" cy="495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 flipH="1" flipV="1">
              <a:off x="5028840" y="2171520"/>
              <a:ext cx="546120" cy="495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473800" y="1714680"/>
              <a:ext cx="0" cy="31716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 flipH="1">
              <a:off x="4686480" y="2247840"/>
              <a:ext cx="482400" cy="5335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V="1">
              <a:off x="4965840" y="2260440"/>
              <a:ext cx="736560" cy="5083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473800" y="2260440"/>
              <a:ext cx="279360" cy="5335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 flipH="1" flipV="1">
              <a:off x="5981760" y="2273400"/>
              <a:ext cx="38160" cy="5205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 flipV="1">
              <a:off x="5740560" y="1663200"/>
              <a:ext cx="0" cy="34308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660920" y="3022560"/>
              <a:ext cx="0" cy="20340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660920" y="3225960"/>
              <a:ext cx="228600" cy="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 flipV="1">
              <a:off x="4889520" y="2997000"/>
              <a:ext cx="0" cy="22860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791320" y="3022560"/>
              <a:ext cx="0" cy="20340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207040" y="1866960"/>
              <a:ext cx="799920" cy="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 flipV="1">
              <a:off x="6019920" y="2997000"/>
              <a:ext cx="0" cy="22860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6006960" y="1866960"/>
              <a:ext cx="0" cy="20304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 flipV="1">
              <a:off x="5207040" y="1866600"/>
              <a:ext cx="0" cy="22860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791320" y="3225960"/>
              <a:ext cx="228600" cy="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4368600" y="3414600"/>
              <a:ext cx="1666800" cy="21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Aft>
                  <a:spcPts val="4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Attributation c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comp (c1 = a2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down</a:t>
              </a:r>
              <a:r>
                <a:rPr b="0" lang="de-AT" sz="1400" spc="-1" strike="noStrike" baseline="-25000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comp (a4 = c2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u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comp (b1 = a1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down</a:t>
              </a:r>
              <a:r>
                <a:rPr b="0" lang="de-AT" sz="1400" spc="-1" strike="noStrike" baseline="-25000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comp (a3 = b2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u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782640" y="5599080"/>
              <a:ext cx="57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The attributation order depends on where </a:t>
              </a: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occurs in the syntax tre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3" name=""/>
          <p:cNvSpPr/>
          <p:nvPr/>
        </p:nvSpPr>
        <p:spPr>
          <a:xfrm>
            <a:off x="783720" y="6107040"/>
            <a:ext cx="617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Checking whether a grammar is an OAG can be done in polynomial tim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A2D83-45DD-43DF-BF8D-2D67B737CEBB}" type="slidenum">
              <a:t>29</a:t>
            </a:fld>
          </a:p>
        </p:txBody>
      </p:sp>
    </p:spTree>
  </p:cSld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Semantic Actions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2920" y="1371600"/>
            <a:ext cx="285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So far: </a:t>
            </a:r>
            <a:r>
              <a:rPr b="1" i="1" lang="de-AT" sz="1800" spc="-1" strike="noStrike">
                <a:solidFill>
                  <a:srgbClr val="000000"/>
                </a:solidFill>
                <a:latin typeface="Times New Roman"/>
              </a:rPr>
              <a:t>analysis</a:t>
            </a: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 of the in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006200" y="1941480"/>
            <a:ext cx="2183400" cy="307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Expr = Term { "+" Term }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578400" y="1928880"/>
            <a:ext cx="444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the parser checks if the input is syntactically correc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682920" y="3124080"/>
            <a:ext cx="7449480" cy="2097720"/>
            <a:chOff x="682920" y="3124080"/>
            <a:chExt cx="7449480" cy="2097720"/>
          </a:xfrm>
        </p:grpSpPr>
        <p:sp>
          <p:nvSpPr>
            <p:cNvPr id="56" name=""/>
            <p:cNvSpPr/>
            <p:nvPr/>
          </p:nvSpPr>
          <p:spPr>
            <a:xfrm>
              <a:off x="682920" y="3124080"/>
              <a:ext cx="5136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Now: </a:t>
              </a:r>
              <a:r>
                <a:rPr b="1" i="1" lang="de-AT" sz="1800" spc="-1" strike="noStrike">
                  <a:solidFill>
                    <a:srgbClr val="000000"/>
                  </a:solidFill>
                  <a:latin typeface="Times New Roman"/>
                </a:rPr>
                <a:t>translation</a:t>
              </a: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 of the input (semantic processing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006560" y="4062240"/>
              <a:ext cx="3306960" cy="11595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10810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Expr =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10810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Term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ff0000"/>
                  </a:solidFill>
                  <a:latin typeface="Arial"/>
                </a:rPr>
                <a:t>(. int n = 1; 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10810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{ "+" Term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ff0000"/>
                  </a:solidFill>
                  <a:latin typeface="Arial"/>
                </a:rPr>
                <a:t>(. n++; 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10810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ff0000"/>
                  </a:solidFill>
                  <a:latin typeface="Arial"/>
                </a:rPr>
                <a:t>(. Console.WriteLine(n); 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10810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983880" y="3516480"/>
              <a:ext cx="4199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e.g.: we want to count the terms in the express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338360" y="4087800"/>
              <a:ext cx="3794040" cy="111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190440" indent="-190440">
                <a:spcAft>
                  <a:spcPts val="4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AT" sz="1600" spc="-1" strike="noStrike">
                  <a:solidFill>
                    <a:srgbClr val="ff0000"/>
                  </a:solidFill>
                  <a:latin typeface="Times New Roman"/>
                </a:rPr>
                <a:t>semantic ac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arbitrary Java statements between (. and .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are executed by the parser at the position</a:t>
              </a:r>
              <a:br>
                <a:rPr sz="1600"/>
              </a:b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where they occur in the gramma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988920" y="5472000"/>
            <a:ext cx="21085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90440"/>
                <a:tab algn="l" pos="673200"/>
                <a:tab algn="l" pos="1054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"translation" her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673200"/>
                <a:tab algn="l" pos="1054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1+2+3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MT Symbol"/>
                <a:ea typeface="MT Symbol"/>
              </a:rPr>
              <a:t>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673200"/>
                <a:tab algn="l" pos="1054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47+1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MT Symbol"/>
                <a:ea typeface="MT Symbol"/>
              </a:rPr>
              <a:t>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673200"/>
                <a:tab algn="l" pos="1054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909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MT Symbol"/>
                <a:ea typeface="MT Symbol"/>
              </a:rPr>
              <a:t>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9052B-FF47-4BCD-B1F9-8AEBE74E4D5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L-Attributed ATGs (LAGs)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735120" y="1206360"/>
            <a:ext cx="115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852120" y="1636560"/>
            <a:ext cx="7711200" cy="580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90440" indent="-190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An ATG is called 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L-attributed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(LAG) if all attributes in the syntax tree can be avalua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in a single sweep (down and up, left to right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772920" y="2309760"/>
            <a:ext cx="7908840" cy="8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Aft>
                <a:spcPts val="400"/>
              </a:spcAft>
              <a:tabLst>
                <a:tab algn="l" pos="0"/>
                <a:tab algn="l" pos="190440"/>
                <a:tab algn="l" pos="95256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In other word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90440"/>
                <a:tab algn="l" pos="95256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If the attributes can be computed during syntax analysi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90440"/>
                <a:tab algn="l" pos="95256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For LAGs it is not even necessary to build a syntax tree (corresponds to our procedural ATGs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8" name=""/>
          <p:cNvGrpSpPr/>
          <p:nvPr/>
        </p:nvGrpSpPr>
        <p:grpSpPr>
          <a:xfrm>
            <a:off x="735120" y="3683160"/>
            <a:ext cx="7843320" cy="2412720"/>
            <a:chOff x="735120" y="3683160"/>
            <a:chExt cx="7843320" cy="2412720"/>
          </a:xfrm>
        </p:grpSpPr>
        <p:sp>
          <p:nvSpPr>
            <p:cNvPr id="839" name=""/>
            <p:cNvSpPr/>
            <p:nvPr/>
          </p:nvSpPr>
          <p:spPr>
            <a:xfrm>
              <a:off x="735120" y="3683160"/>
              <a:ext cx="104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Examp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2499840" y="404964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2701800" y="4206960"/>
              <a:ext cx="438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MT Symbol"/>
                  <a:ea typeface="MT Symbol"/>
                </a:rPr>
                <a:t></a:t>
              </a:r>
              <a:r>
                <a:rPr b="0" lang="de-AT" sz="1200" spc="-1" strike="noStrike">
                  <a:solidFill>
                    <a:srgbClr val="000000"/>
                  </a:solidFill>
                  <a:latin typeface="Times New Roman"/>
                </a:rPr>
                <a:t>a1 </a:t>
              </a:r>
              <a:r>
                <a:rPr b="0" lang="de-AT" sz="1200" spc="-1" strike="noStrike">
                  <a:solidFill>
                    <a:srgbClr val="000000"/>
                  </a:solidFill>
                  <a:latin typeface="MT Symbol"/>
                  <a:ea typeface="MT Symbol"/>
                </a:rPr>
                <a:t></a:t>
              </a:r>
              <a:r>
                <a:rPr b="0" lang="de-AT" sz="1200" spc="-1" strike="noStrike">
                  <a:solidFill>
                    <a:srgbClr val="000000"/>
                  </a:solidFill>
                  <a:latin typeface="Times New Roman"/>
                </a:rPr>
                <a:t>a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1928160" y="4799160"/>
              <a:ext cx="13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2129040" y="4956120"/>
              <a:ext cx="418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MT Symbol"/>
                  <a:ea typeface="MT Symbol"/>
                </a:rPr>
                <a:t></a:t>
              </a:r>
              <a:r>
                <a:rPr b="0" lang="de-AT" sz="1200" spc="-1" strike="noStrike">
                  <a:solidFill>
                    <a:srgbClr val="000000"/>
                  </a:solidFill>
                  <a:latin typeface="Times New Roman"/>
                </a:rPr>
                <a:t>b1</a:t>
              </a:r>
              <a:r>
                <a:rPr b="0" lang="de-AT" sz="1200" spc="-1" strike="noStrike">
                  <a:solidFill>
                    <a:srgbClr val="000000"/>
                  </a:solidFill>
                  <a:latin typeface="MT Symbol"/>
                  <a:ea typeface="MT Symbol"/>
                </a:rPr>
                <a:t></a:t>
              </a:r>
              <a:r>
                <a:rPr b="0" lang="de-AT" sz="1200" spc="-1" strike="noStrike">
                  <a:solidFill>
                    <a:srgbClr val="000000"/>
                  </a:solidFill>
                  <a:latin typeface="Times New Roman"/>
                </a:rPr>
                <a:t>b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3071160" y="4799160"/>
              <a:ext cx="13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3273120" y="4956120"/>
              <a:ext cx="400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MT Symbol"/>
                  <a:ea typeface="MT Symbol"/>
                </a:rPr>
                <a:t></a:t>
              </a:r>
              <a:r>
                <a:rPr b="0" lang="de-AT" sz="1200" spc="-1" strike="noStrike">
                  <a:solidFill>
                    <a:srgbClr val="000000"/>
                  </a:solidFill>
                  <a:latin typeface="Times New Roman"/>
                </a:rPr>
                <a:t>c1</a:t>
              </a:r>
              <a:r>
                <a:rPr b="0" lang="de-AT" sz="1200" spc="-1" strike="noStrike">
                  <a:solidFill>
                    <a:srgbClr val="000000"/>
                  </a:solidFill>
                  <a:latin typeface="MT Symbol"/>
                  <a:ea typeface="MT Symbol"/>
                </a:rPr>
                <a:t></a:t>
              </a:r>
              <a:r>
                <a:rPr b="0" lang="de-AT" sz="1200" spc="-1" strike="noStrike">
                  <a:solidFill>
                    <a:srgbClr val="000000"/>
                  </a:solidFill>
                  <a:latin typeface="Times New Roman"/>
                </a:rPr>
                <a:t>c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 flipV="1">
              <a:off x="1994040" y="4305240"/>
              <a:ext cx="546120" cy="495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 flipH="1" flipV="1">
              <a:off x="2603160" y="4305240"/>
              <a:ext cx="546120" cy="495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2730600" y="3924360"/>
              <a:ext cx="0" cy="2412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 flipH="1">
              <a:off x="2260080" y="4381560"/>
              <a:ext cx="482760" cy="5335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 flipH="1" flipV="1">
              <a:off x="3060720" y="4381200"/>
              <a:ext cx="533520" cy="5461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 flipV="1">
              <a:off x="3035160" y="3936960"/>
              <a:ext cx="0" cy="2160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3365640" y="5156280"/>
              <a:ext cx="0" cy="2030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 flipV="1">
              <a:off x="3594240" y="5130360"/>
              <a:ext cx="0" cy="2286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3365640" y="5359320"/>
              <a:ext cx="2286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1356840" y="553572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1557720" y="5692680"/>
              <a:ext cx="418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MT Symbol"/>
                  <a:ea typeface="MT Symbol"/>
                </a:rPr>
                <a:t></a:t>
              </a:r>
              <a:r>
                <a:rPr b="0" lang="de-AT" sz="1200" spc="-1" strike="noStrike">
                  <a:solidFill>
                    <a:srgbClr val="000000"/>
                  </a:solidFill>
                  <a:latin typeface="Times New Roman"/>
                </a:rPr>
                <a:t>d1</a:t>
              </a:r>
              <a:r>
                <a:rPr b="0" lang="de-AT" sz="1200" spc="-1" strike="noStrike">
                  <a:solidFill>
                    <a:srgbClr val="000000"/>
                  </a:solidFill>
                  <a:latin typeface="MT Symbol"/>
                  <a:ea typeface="MT Symbol"/>
                </a:rPr>
                <a:t></a:t>
              </a:r>
              <a:r>
                <a:rPr b="0" lang="de-AT" sz="1200" spc="-1" strike="noStrike">
                  <a:solidFill>
                    <a:srgbClr val="000000"/>
                  </a:solidFill>
                  <a:latin typeface="Times New Roman"/>
                </a:rPr>
                <a:t>d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2500200" y="5535720"/>
              <a:ext cx="12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2701800" y="5692680"/>
              <a:ext cx="400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MT Symbol"/>
                  <a:ea typeface="MT Symbol"/>
                </a:rPr>
                <a:t></a:t>
              </a:r>
              <a:r>
                <a:rPr b="0" lang="de-AT" sz="1200" spc="-1" strike="noStrike">
                  <a:solidFill>
                    <a:srgbClr val="000000"/>
                  </a:solidFill>
                  <a:latin typeface="Times New Roman"/>
                </a:rPr>
                <a:t>e1</a:t>
              </a:r>
              <a:r>
                <a:rPr b="0" lang="de-AT" sz="1200" spc="-1" strike="noStrike">
                  <a:solidFill>
                    <a:srgbClr val="000000"/>
                  </a:solidFill>
                  <a:latin typeface="MT Symbol"/>
                  <a:ea typeface="MT Symbol"/>
                </a:rPr>
                <a:t></a:t>
              </a:r>
              <a:r>
                <a:rPr b="0" lang="de-AT" sz="1200" spc="-1" strike="noStrike">
                  <a:solidFill>
                    <a:srgbClr val="000000"/>
                  </a:solidFill>
                  <a:latin typeface="Times New Roman"/>
                </a:rPr>
                <a:t>e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 flipV="1">
              <a:off x="1422360" y="5041800"/>
              <a:ext cx="546120" cy="495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 flipH="1" flipV="1">
              <a:off x="2031480" y="5041800"/>
              <a:ext cx="546120" cy="495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 flipH="1">
              <a:off x="1688760" y="5118120"/>
              <a:ext cx="482760" cy="5335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 flipH="1" flipV="1">
              <a:off x="2489040" y="5130720"/>
              <a:ext cx="533520" cy="5335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1663560" y="5892840"/>
              <a:ext cx="0" cy="2030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1663560" y="6095880"/>
              <a:ext cx="2286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flipV="1">
              <a:off x="1892160" y="5866920"/>
              <a:ext cx="0" cy="2286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2793960" y="5892840"/>
              <a:ext cx="0" cy="2030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 flipV="1">
              <a:off x="3022560" y="5866920"/>
              <a:ext cx="0" cy="2286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2793960" y="6095880"/>
              <a:ext cx="2286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 flipV="1">
              <a:off x="1955880" y="5447880"/>
              <a:ext cx="164880" cy="1904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2120760" y="5448240"/>
              <a:ext cx="4572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577960" y="5448240"/>
              <a:ext cx="203400" cy="2160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 flipV="1">
              <a:off x="2502000" y="4724280"/>
              <a:ext cx="164880" cy="1908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2666880" y="4724280"/>
              <a:ext cx="4572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3137040" y="4724280"/>
              <a:ext cx="203040" cy="2160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4511520" y="4392720"/>
              <a:ext cx="40669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Information from the front of a progra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can be propagated backwards but not vice vers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92F83-C99F-4EA7-A225-904DEEB0BCE5}" type="slidenum">
              <a:t>30</a:t>
            </a:fld>
          </a:p>
        </p:txBody>
      </p:sp>
    </p:spTree>
  </p:cSld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Relations Between Classes of ATGs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214640" y="1595520"/>
            <a:ext cx="321084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ATG  </a:t>
            </a:r>
            <a:r>
              <a:rPr b="1" lang="de-AT" sz="1800" spc="-1" strike="noStrike">
                <a:solidFill>
                  <a:srgbClr val="000000"/>
                </a:solidFill>
                <a:latin typeface="MT Symbol"/>
                <a:ea typeface="MT Symbol"/>
              </a:rPr>
              <a:t></a:t>
            </a: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  WAG  </a:t>
            </a:r>
            <a:r>
              <a:rPr b="1" lang="de-AT" sz="1800" spc="-1" strike="noStrike">
                <a:solidFill>
                  <a:srgbClr val="000000"/>
                </a:solidFill>
                <a:latin typeface="MT Symbol"/>
                <a:ea typeface="MT Symbol"/>
              </a:rPr>
              <a:t></a:t>
            </a: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  OAG  </a:t>
            </a:r>
            <a:r>
              <a:rPr b="1" lang="de-AT" sz="1800" spc="-1" strike="noStrike">
                <a:solidFill>
                  <a:srgbClr val="000000"/>
                </a:solidFill>
                <a:latin typeface="MT Symbol"/>
                <a:ea typeface="MT Symbol"/>
              </a:rPr>
              <a:t></a:t>
            </a: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  LA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1056600" y="2373480"/>
            <a:ext cx="2573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90440" indent="-190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in other wo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every LAG is orde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every OAG is well-defin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866160" y="3541680"/>
            <a:ext cx="3371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90440" indent="-190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WAG is more powerful than O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OAG is more powerful than L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5D661-EB15-4B76-8B66-D7A49088B269}" type="slidenum">
              <a:t>31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Attributes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82560" y="1257480"/>
            <a:ext cx="617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Syntax symbols can return values (sort of output parameter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993600" y="1833480"/>
            <a:ext cx="1386360" cy="307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Term 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&lt;</a:t>
            </a:r>
            <a:r>
              <a:rPr b="0" lang="de-AT" sz="1400" spc="-1" strike="noStrike">
                <a:solidFill>
                  <a:srgbClr val="3333cc"/>
                </a:solidFill>
                <a:latin typeface="MT Symbol"/>
                <a:ea typeface="MT Symbol"/>
              </a:rPr>
              <a:t>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int val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356920" y="1814400"/>
            <a:ext cx="443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Term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returns its numeric value as an output attrib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682200" y="2565360"/>
            <a:ext cx="4719240" cy="2072520"/>
            <a:chOff x="682200" y="2565360"/>
            <a:chExt cx="4719240" cy="2072520"/>
          </a:xfrm>
        </p:grpSpPr>
        <p:sp>
          <p:nvSpPr>
            <p:cNvPr id="66" name=""/>
            <p:cNvSpPr/>
            <p:nvPr/>
          </p:nvSpPr>
          <p:spPr>
            <a:xfrm>
              <a:off x="682200" y="2565360"/>
              <a:ext cx="4719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Attributes are useful in the translation proces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971280" y="2995560"/>
              <a:ext cx="4089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e.g.: we want to compute the value of a number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005840" y="3478320"/>
              <a:ext cx="4259160" cy="11595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179532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Expr 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ff0000"/>
                  </a:solidFill>
                  <a:latin typeface="Arial"/>
                </a:rPr>
                <a:t>(. int sum, val; 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179532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Term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&lt;</a:t>
              </a:r>
              <a:r>
                <a:rPr b="0" lang="de-AT" sz="1400" spc="-1" strike="noStrike">
                  <a:solidFill>
                    <a:srgbClr val="3333cc"/>
                  </a:solidFill>
                  <a:latin typeface="MT Symbol"/>
                  <a:ea typeface="MT Symbol"/>
                </a:rPr>
                <a:t>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sum&gt;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179532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{ "+" Term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&lt;</a:t>
              </a:r>
              <a:r>
                <a:rPr b="0" lang="de-AT" sz="1400" spc="-1" strike="noStrike">
                  <a:solidFill>
                    <a:srgbClr val="3333cc"/>
                  </a:solidFill>
                  <a:latin typeface="MT Symbol"/>
                  <a:ea typeface="MT Symbol"/>
                </a:rPr>
                <a:t>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val&gt;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ff0000"/>
                  </a:solidFill>
                  <a:latin typeface="Arial"/>
                </a:rPr>
                <a:t>(. sum += val; 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179532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ff0000"/>
                  </a:solidFill>
                  <a:latin typeface="Arial"/>
                </a:rPr>
                <a:t>(. Console.WriteLine(sum); 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179532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937440" y="4875120"/>
            <a:ext cx="23068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90440"/>
                <a:tab algn="l" pos="86364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"translation" her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86364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1+2+3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MT Symbol"/>
                <a:ea typeface="MT Symbol"/>
              </a:rPr>
              <a:t>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86364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47+1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MT Symbol"/>
                <a:ea typeface="MT Symbol"/>
              </a:rPr>
              <a:t>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86364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909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MT Symbol"/>
                <a:ea typeface="MT Symbol"/>
              </a:rPr>
              <a:t>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9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5A9D4-7417-4313-BDF4-4D0466EBB66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Input Attributes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95880" y="1346040"/>
            <a:ext cx="52128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Nonterminal symbols can have also input attribu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(parameters that are passed from the "calling" produc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992520" y="2125800"/>
            <a:ext cx="1872360" cy="307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Expr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&lt;</a:t>
            </a:r>
            <a:r>
              <a:rPr b="0" lang="de-AT" sz="1400" spc="-1" strike="noStrike">
                <a:solidFill>
                  <a:srgbClr val="3333cc"/>
                </a:solidFill>
                <a:latin typeface="MT Symbol"/>
                <a:ea typeface="MT Symbol"/>
              </a:rPr>
              <a:t>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bool printHex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181320" y="2097000"/>
            <a:ext cx="4591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printHex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print the result of the addition hexadecimal</a:t>
            </a:r>
            <a:br>
              <a:rPr sz="1600"/>
            </a:b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(otherwise decima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696960" y="2781360"/>
            <a:ext cx="6489000" cy="1885320"/>
            <a:chOff x="696960" y="2781360"/>
            <a:chExt cx="6489000" cy="1885320"/>
          </a:xfrm>
        </p:grpSpPr>
        <p:sp>
          <p:nvSpPr>
            <p:cNvPr id="75" name=""/>
            <p:cNvSpPr/>
            <p:nvPr/>
          </p:nvSpPr>
          <p:spPr>
            <a:xfrm>
              <a:off x="696960" y="2781360"/>
              <a:ext cx="104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Examp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59960" y="3294000"/>
              <a:ext cx="6426000" cy="13726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21448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Expr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&lt;</a:t>
              </a:r>
              <a:r>
                <a:rPr b="0" lang="de-AT" sz="1400" spc="-1" strike="noStrike">
                  <a:solidFill>
                    <a:srgbClr val="3333cc"/>
                  </a:solidFill>
                  <a:latin typeface="MT Symbol"/>
                  <a:ea typeface="MT Symbol"/>
                </a:rPr>
                <a:t>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bool printHex&gt;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ff0000"/>
                  </a:solidFill>
                  <a:latin typeface="Arial"/>
                </a:rPr>
                <a:t>(. int sum, val; 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21448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Term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&lt;</a:t>
              </a:r>
              <a:r>
                <a:rPr b="0" lang="de-AT" sz="1400" spc="-1" strike="noStrike">
                  <a:solidFill>
                    <a:srgbClr val="3333cc"/>
                  </a:solidFill>
                  <a:latin typeface="MT Symbol"/>
                  <a:ea typeface="MT Symbol"/>
                </a:rPr>
                <a:t>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sum&g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21448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{ "+" Term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&lt;</a:t>
              </a:r>
              <a:r>
                <a:rPr b="0" lang="de-AT" sz="1400" spc="-1" strike="noStrike">
                  <a:solidFill>
                    <a:srgbClr val="3333cc"/>
                  </a:solidFill>
                  <a:latin typeface="MT Symbol"/>
                  <a:ea typeface="MT Symbol"/>
                </a:rPr>
                <a:t>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val&gt;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ff0000"/>
                  </a:solidFill>
                  <a:latin typeface="Arial"/>
                </a:rPr>
                <a:t>(. sum += val; 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21448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}.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ff0000"/>
                  </a:solidFill>
                  <a:latin typeface="Arial"/>
                </a:rPr>
                <a:t>(.</a:t>
              </a:r>
              <a:r>
                <a:rPr b="0" lang="de-AT" sz="14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ff0000"/>
                  </a:solidFill>
                  <a:latin typeface="Arial"/>
                </a:rPr>
                <a:t>if (printHex) Console.WriteLine("{0:X}", sum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21448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ff0000"/>
                  </a:solidFill>
                  <a:latin typeface="Arial"/>
                </a:rPr>
                <a:t>else Console.WriteLine("{0:D}", sum)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21448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0" lang="de-AT" sz="1400" spc="-1" strike="noStrike">
                  <a:solidFill>
                    <a:srgbClr val="ff0000"/>
                  </a:solidFill>
                  <a:latin typeface="Arial"/>
                </a:rPr>
                <a:t>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3B6EC-5E52-454B-A33C-C8F719F8CD1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Attribute Grammars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78240" y="1255680"/>
            <a:ext cx="381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Notation for describing translation proc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75720" y="1827360"/>
            <a:ext cx="1866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consist of three p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71040" y="2286000"/>
            <a:ext cx="246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Productions in EBN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955440" y="2728800"/>
            <a:ext cx="2183400" cy="307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Expr = Term { "+" Term }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78240" y="3289320"/>
            <a:ext cx="397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Attributes</a:t>
            </a:r>
            <a:r>
              <a:rPr b="1" lang="de-AT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(parameters of syntax symbo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79920" y="3738600"/>
            <a:ext cx="1872360" cy="520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Term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&lt;</a:t>
            </a:r>
            <a:r>
              <a:rPr b="0" lang="de-AT" sz="1400" spc="-1" strike="noStrike">
                <a:solidFill>
                  <a:srgbClr val="3333cc"/>
                </a:solidFill>
                <a:latin typeface="MT Symbol"/>
                <a:ea typeface="MT Symbol"/>
              </a:rPr>
              <a:t>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int val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Expr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&lt;</a:t>
            </a:r>
            <a:r>
              <a:rPr b="0" lang="de-AT" sz="1400" spc="-1" strike="noStrike">
                <a:solidFill>
                  <a:srgbClr val="3333cc"/>
                </a:solidFill>
                <a:latin typeface="MT Symbol"/>
                <a:ea typeface="MT Symbol"/>
              </a:rPr>
              <a:t>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bool printHex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96920" y="3706920"/>
            <a:ext cx="54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68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output attributes (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synthesized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):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yield the translation 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768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input attributes (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inherited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):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provide context from the ca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71040" y="4533840"/>
            <a:ext cx="201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Semantic 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44640" y="4976640"/>
            <a:ext cx="3112920" cy="307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(.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  ... arbitrary Java statements ...   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3F1FB-A107-41B1-9DD3-53248BE108D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Example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82560" y="1193760"/>
            <a:ext cx="336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ATG for processing declar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35120" y="1636560"/>
            <a:ext cx="4624200" cy="946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90440"/>
                <a:tab algn="l" pos="2006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VarDec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2006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Ty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2006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IdentLi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2006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";"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35120" y="2703600"/>
            <a:ext cx="4620960" cy="946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90440"/>
                <a:tab algn="l" pos="2006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IdentLI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2006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i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2006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{ "," i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2006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}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765880" y="1636560"/>
            <a:ext cx="2590200" cy="1805760"/>
            <a:chOff x="2765880" y="1636560"/>
            <a:chExt cx="2590200" cy="1805760"/>
          </a:xfrm>
        </p:grpSpPr>
        <p:sp>
          <p:nvSpPr>
            <p:cNvPr id="92" name=""/>
            <p:cNvSpPr/>
            <p:nvPr/>
          </p:nvSpPr>
          <p:spPr>
            <a:xfrm>
              <a:off x="2772000" y="1636560"/>
              <a:ext cx="1407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ff0000"/>
                  </a:solidFill>
                  <a:latin typeface="Arial"/>
                </a:rPr>
                <a:t>(. Struct type; 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5880" y="2919240"/>
              <a:ext cx="2590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ff0000"/>
                  </a:solidFill>
                  <a:latin typeface="Arial"/>
                </a:rPr>
                <a:t>(. Tab.insert(token.str, type); 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765880" y="3135240"/>
              <a:ext cx="2590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ff0000"/>
                  </a:solidFill>
                  <a:latin typeface="Arial"/>
                </a:rPr>
                <a:t>(. Tab.insert(token.str, type); 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389240" y="1859040"/>
            <a:ext cx="1383480" cy="1157760"/>
            <a:chOff x="1389240" y="1859040"/>
            <a:chExt cx="1383480" cy="1157760"/>
          </a:xfrm>
        </p:grpSpPr>
        <p:sp>
          <p:nvSpPr>
            <p:cNvPr id="96" name=""/>
            <p:cNvSpPr/>
            <p:nvPr/>
          </p:nvSpPr>
          <p:spPr>
            <a:xfrm>
              <a:off x="1389240" y="1859040"/>
              <a:ext cx="792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&lt;</a:t>
              </a:r>
              <a:r>
                <a:rPr b="0" lang="de-AT" sz="1400" spc="-1" strike="noStrike">
                  <a:solidFill>
                    <a:srgbClr val="3333cc"/>
                  </a:solidFill>
                  <a:latin typeface="MT Symbol"/>
                  <a:ea typeface="MT Symbol"/>
                </a:rPr>
                <a:t>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type&g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668600" y="2075040"/>
              <a:ext cx="792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&lt;</a:t>
              </a:r>
              <a:r>
                <a:rPr b="0" lang="de-AT" sz="1400" spc="-1" strike="noStrike">
                  <a:solidFill>
                    <a:srgbClr val="3333cc"/>
                  </a:solidFill>
                  <a:latin typeface="MT Symbol"/>
                  <a:ea typeface="MT Symbol"/>
                </a:rPr>
                <a:t>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type&g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462680" y="2709720"/>
              <a:ext cx="1310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&lt;</a:t>
              </a:r>
              <a:r>
                <a:rPr b="0" lang="de-AT" sz="1400" spc="-1" strike="noStrike">
                  <a:solidFill>
                    <a:srgbClr val="3333cc"/>
                  </a:solidFill>
                  <a:latin typeface="MT Symbol"/>
                  <a:ea typeface="MT Symbol"/>
                </a:rPr>
                <a:t>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Struct type&g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" name=""/>
          <p:cNvSpPr/>
          <p:nvPr/>
        </p:nvSpPr>
        <p:spPr>
          <a:xfrm>
            <a:off x="683280" y="3873600"/>
            <a:ext cx="479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This is translated to parsing methods as follow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2160" y="4341960"/>
            <a:ext cx="2687760" cy="13726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90440"/>
                <a:tab algn="l" pos="2006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tatic void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VarDecl 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(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2006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Struct type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2006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Type(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out type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2006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IdentList(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type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2006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Check(Token.SEMICOLON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2006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529080" y="4341960"/>
            <a:ext cx="3504960" cy="20120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tatic void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IdentList 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Struct type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Check(Token.IDENT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Tab.Insert(token.str, type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while (la == Token.COMMA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can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Check(Token.IDENT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Tab.Insert(token.str, type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50160" y="5904000"/>
            <a:ext cx="265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ATGs are shorter and mo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readable than parsing metho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B71CB-5D2F-4767-BFCA-DD4257A5C94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Example: </a:t>
            </a:r>
            <a:r>
              <a:rPr b="0" i="1" lang="de-AT" sz="2400" spc="-1" strike="noStrike">
                <a:solidFill>
                  <a:srgbClr val="3333cc"/>
                </a:solidFill>
                <a:latin typeface="Times New Roman"/>
              </a:rPr>
              <a:t>Processing of Constant Expressions</a:t>
            </a:r>
            <a:endParaRPr b="0" i="1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85440" y="1179360"/>
            <a:ext cx="3045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006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3 * (2 + 4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006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desired result: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35120" y="2081160"/>
            <a:ext cx="3732120" cy="3130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Exp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Ter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{ "+" Ter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|  "-" Ter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}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Ter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Fa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{ "*" Fa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|  "/" Fa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Fa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numb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"(" Expr             ")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2683800" y="2068560"/>
            <a:ext cx="1415520" cy="2923200"/>
            <a:chOff x="2683800" y="2068560"/>
            <a:chExt cx="1415520" cy="2923200"/>
          </a:xfrm>
        </p:grpSpPr>
        <p:sp>
          <p:nvSpPr>
            <p:cNvPr id="107" name=""/>
            <p:cNvSpPr/>
            <p:nvPr/>
          </p:nvSpPr>
          <p:spPr>
            <a:xfrm>
              <a:off x="2684880" y="2068560"/>
              <a:ext cx="1118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ff0000"/>
                  </a:solidFill>
                  <a:latin typeface="Arial"/>
                </a:rPr>
                <a:t>(. int val1; 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684160" y="2513160"/>
              <a:ext cx="1415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ff0000"/>
                  </a:solidFill>
                  <a:latin typeface="Arial"/>
                </a:rPr>
                <a:t>(. val += val1; 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684160" y="2728800"/>
              <a:ext cx="137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ff0000"/>
                  </a:solidFill>
                  <a:latin typeface="Arial"/>
                </a:rPr>
                <a:t>(. val -= val1; 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684880" y="3274920"/>
              <a:ext cx="1118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ff0000"/>
                  </a:solidFill>
                  <a:latin typeface="Arial"/>
                </a:rPr>
                <a:t>(. int val1; 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684160" y="3719520"/>
              <a:ext cx="1381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ff0000"/>
                  </a:solidFill>
                  <a:latin typeface="Arial"/>
                </a:rPr>
                <a:t>(. val *= val1; 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683800" y="3935520"/>
              <a:ext cx="1361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ff0000"/>
                  </a:solidFill>
                  <a:latin typeface="Arial"/>
                </a:rPr>
                <a:t>(. val /= val1; 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684880" y="4468680"/>
              <a:ext cx="1118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ff0000"/>
                  </a:solidFill>
                  <a:latin typeface="Arial"/>
                </a:rPr>
                <a:t>(. int val1; 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683800" y="4684680"/>
              <a:ext cx="1312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ff0000"/>
                  </a:solidFill>
                  <a:latin typeface="Arial"/>
                </a:rPr>
                <a:t>(. val = t.val; 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5476320" y="4753080"/>
            <a:ext cx="142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3333cc"/>
                </a:solidFill>
                <a:latin typeface="MT Symbol"/>
                <a:ea typeface="MT Symbol"/>
              </a:rPr>
              <a:t></a:t>
            </a:r>
            <a:r>
              <a:rPr b="0" lang="de-AT" sz="1200" spc="-1" strike="noStrike">
                <a:solidFill>
                  <a:srgbClr val="3333cc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746040" y="4753080"/>
            <a:ext cx="142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3333cc"/>
                </a:solidFill>
                <a:latin typeface="MT Symbol"/>
                <a:ea typeface="MT Symbol"/>
              </a:rPr>
              <a:t></a:t>
            </a:r>
            <a:r>
              <a:rPr b="0" lang="de-AT" sz="1200" spc="-1" strike="noStrike">
                <a:solidFill>
                  <a:srgbClr val="3333cc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800120" y="4753080"/>
            <a:ext cx="142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3333cc"/>
                </a:solidFill>
                <a:latin typeface="MT Symbol"/>
                <a:ea typeface="MT Symbol"/>
              </a:rPr>
              <a:t></a:t>
            </a:r>
            <a:r>
              <a:rPr b="0" lang="de-AT" sz="1200" spc="-1" strike="noStrike">
                <a:solidFill>
                  <a:srgbClr val="3333cc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746040" y="4359240"/>
            <a:ext cx="142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3333cc"/>
                </a:solidFill>
                <a:latin typeface="MT Symbol"/>
                <a:ea typeface="MT Symbol"/>
              </a:rPr>
              <a:t></a:t>
            </a:r>
            <a:r>
              <a:rPr b="0" lang="de-AT" sz="1200" spc="-1" strike="noStrike">
                <a:solidFill>
                  <a:srgbClr val="3333cc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87520" y="4359240"/>
            <a:ext cx="142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3333cc"/>
                </a:solidFill>
                <a:latin typeface="MT Symbol"/>
                <a:ea typeface="MT Symbol"/>
              </a:rPr>
              <a:t></a:t>
            </a:r>
            <a:r>
              <a:rPr b="0" lang="de-AT" sz="1200" spc="-1" strike="noStrike">
                <a:solidFill>
                  <a:srgbClr val="3333cc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266960" y="3787920"/>
            <a:ext cx="142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3333cc"/>
                </a:solidFill>
                <a:latin typeface="MT Symbol"/>
                <a:ea typeface="MT Symbol"/>
              </a:rPr>
              <a:t></a:t>
            </a:r>
            <a:r>
              <a:rPr b="0" lang="de-AT" sz="1200" spc="-1" strike="noStrike">
                <a:solidFill>
                  <a:srgbClr val="3333cc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393680" y="3191040"/>
            <a:ext cx="142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3333cc"/>
                </a:solidFill>
                <a:latin typeface="MT Symbol"/>
                <a:ea typeface="MT Symbol"/>
              </a:rPr>
              <a:t></a:t>
            </a:r>
            <a:r>
              <a:rPr b="0" lang="de-AT" sz="1200" spc="-1" strike="noStrike">
                <a:solidFill>
                  <a:srgbClr val="3333cc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098040" y="2657520"/>
            <a:ext cx="227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3333cc"/>
                </a:solidFill>
                <a:latin typeface="MT Symbol"/>
                <a:ea typeface="MT Symbol"/>
              </a:rPr>
              <a:t></a:t>
            </a:r>
            <a:r>
              <a:rPr b="0" lang="de-AT" sz="1200" spc="-1" strike="noStrike">
                <a:solidFill>
                  <a:srgbClr val="3333cc"/>
                </a:solidFill>
                <a:latin typeface="Arial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098040" y="2124000"/>
            <a:ext cx="227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3333cc"/>
                </a:solidFill>
                <a:latin typeface="MT Symbol"/>
                <a:ea typeface="MT Symbol"/>
              </a:rPr>
              <a:t></a:t>
            </a:r>
            <a:r>
              <a:rPr b="0" lang="de-AT" sz="1200" spc="-1" strike="noStrike">
                <a:solidFill>
                  <a:srgbClr val="3333cc"/>
                </a:solidFill>
                <a:latin typeface="Arial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4948920" y="1979640"/>
            <a:ext cx="3237120" cy="3286800"/>
            <a:chOff x="4948920" y="1979640"/>
            <a:chExt cx="3237120" cy="3286800"/>
          </a:xfrm>
        </p:grpSpPr>
        <p:sp>
          <p:nvSpPr>
            <p:cNvPr id="125" name=""/>
            <p:cNvSpPr/>
            <p:nvPr/>
          </p:nvSpPr>
          <p:spPr>
            <a:xfrm>
              <a:off x="5141160" y="50529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948920" y="4608360"/>
              <a:ext cx="506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Fact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flipV="1">
              <a:off x="5194440" y="4825800"/>
              <a:ext cx="0" cy="17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751000" y="5052960"/>
              <a:ext cx="70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 flipV="1">
              <a:off x="5803920" y="2768760"/>
              <a:ext cx="0" cy="2234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030360" y="505296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flipV="1">
              <a:off x="6083280" y="3467160"/>
              <a:ext cx="0" cy="153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424200" y="50529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231600" y="4608360"/>
              <a:ext cx="506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Fact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V="1">
              <a:off x="6477120" y="4825800"/>
              <a:ext cx="0" cy="17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008480" y="5052960"/>
              <a:ext cx="1044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flipV="1">
              <a:off x="7061040" y="3873240"/>
              <a:ext cx="0" cy="113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465320" y="50529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273080" y="4608360"/>
              <a:ext cx="506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Fact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 flipV="1">
              <a:off x="7518240" y="4825800"/>
              <a:ext cx="0" cy="17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125920" y="505296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flipV="1">
              <a:off x="8178840" y="3467160"/>
              <a:ext cx="0" cy="153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258600" y="4214880"/>
              <a:ext cx="415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Ter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V="1">
              <a:off x="6477120" y="4432320"/>
              <a:ext cx="0" cy="17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299720" y="4214880"/>
              <a:ext cx="415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Ter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flipV="1">
              <a:off x="7518240" y="4432320"/>
              <a:ext cx="0" cy="17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flipV="1">
              <a:off x="6477120" y="4013280"/>
              <a:ext cx="0" cy="17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V="1">
              <a:off x="7531200" y="4013280"/>
              <a:ext cx="0" cy="17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H="1">
              <a:off x="6477120" y="4013280"/>
              <a:ext cx="1054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855120" y="3643200"/>
              <a:ext cx="367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Exp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083280" y="3467160"/>
              <a:ext cx="2082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flipV="1">
              <a:off x="7061040" y="3301560"/>
              <a:ext cx="0" cy="330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803280" y="3046320"/>
              <a:ext cx="506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Fact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flipV="1">
              <a:off x="5194440" y="2870280"/>
              <a:ext cx="0" cy="172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194440" y="2870280"/>
              <a:ext cx="185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flipV="1">
              <a:off x="7061040" y="2869920"/>
              <a:ext cx="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610600" y="2513160"/>
              <a:ext cx="415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Ter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635800" y="1979640"/>
              <a:ext cx="367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Exp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flipV="1">
              <a:off x="5803920" y="2222280"/>
              <a:ext cx="0" cy="291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1134720" y="2087640"/>
            <a:ext cx="1506240" cy="3126240"/>
            <a:chOff x="1134720" y="2087640"/>
            <a:chExt cx="1506240" cy="3126240"/>
          </a:xfrm>
        </p:grpSpPr>
        <p:sp>
          <p:nvSpPr>
            <p:cNvPr id="160" name=""/>
            <p:cNvSpPr/>
            <p:nvPr/>
          </p:nvSpPr>
          <p:spPr>
            <a:xfrm>
              <a:off x="1134720" y="2087640"/>
              <a:ext cx="921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&lt;</a:t>
              </a:r>
              <a:r>
                <a:rPr b="0" lang="de-AT" sz="1400" spc="-1" strike="noStrike">
                  <a:solidFill>
                    <a:srgbClr val="3333cc"/>
                  </a:solidFill>
                  <a:latin typeface="MT Symbol"/>
                  <a:ea typeface="MT Symbol"/>
                </a:rPr>
                <a:t>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int val&g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783440" y="2519280"/>
              <a:ext cx="781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&lt;</a:t>
              </a:r>
              <a:r>
                <a:rPr b="0" lang="de-AT" sz="1400" spc="-1" strike="noStrike">
                  <a:solidFill>
                    <a:srgbClr val="3333cc"/>
                  </a:solidFill>
                  <a:latin typeface="MT Symbol"/>
                  <a:ea typeface="MT Symbol"/>
                </a:rPr>
                <a:t>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val1&g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783440" y="2747880"/>
              <a:ext cx="781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&lt;</a:t>
              </a:r>
              <a:r>
                <a:rPr b="0" lang="de-AT" sz="1400" spc="-1" strike="noStrike">
                  <a:solidFill>
                    <a:srgbClr val="3333cc"/>
                  </a:solidFill>
                  <a:latin typeface="MT Symbol"/>
                  <a:ea typeface="MT Symbol"/>
                </a:rPr>
                <a:t>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val1&g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185480" y="3294000"/>
              <a:ext cx="921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&lt;</a:t>
              </a:r>
              <a:r>
                <a:rPr b="0" lang="de-AT" sz="1400" spc="-1" strike="noStrike">
                  <a:solidFill>
                    <a:srgbClr val="3333cc"/>
                  </a:solidFill>
                  <a:latin typeface="MT Symbol"/>
                  <a:ea typeface="MT Symbol"/>
                </a:rPr>
                <a:t>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int val&g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859760" y="3700440"/>
              <a:ext cx="781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&lt;</a:t>
              </a:r>
              <a:r>
                <a:rPr b="0" lang="de-AT" sz="1400" spc="-1" strike="noStrike">
                  <a:solidFill>
                    <a:srgbClr val="3333cc"/>
                  </a:solidFill>
                  <a:latin typeface="MT Symbol"/>
                  <a:ea typeface="MT Symbol"/>
                </a:rPr>
                <a:t>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val1&g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859760" y="3929040"/>
              <a:ext cx="781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&lt;</a:t>
              </a:r>
              <a:r>
                <a:rPr b="0" lang="de-AT" sz="1400" spc="-1" strike="noStrike">
                  <a:solidFill>
                    <a:srgbClr val="3333cc"/>
                  </a:solidFill>
                  <a:latin typeface="MT Symbol"/>
                  <a:ea typeface="MT Symbol"/>
                </a:rPr>
                <a:t>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val1&g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299600" y="4487760"/>
              <a:ext cx="921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&lt;</a:t>
              </a:r>
              <a:r>
                <a:rPr b="0" lang="de-AT" sz="1400" spc="-1" strike="noStrike">
                  <a:solidFill>
                    <a:srgbClr val="3333cc"/>
                  </a:solidFill>
                  <a:latin typeface="MT Symbol"/>
                  <a:ea typeface="MT Symbol"/>
                </a:rPr>
                <a:t>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int val&g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555200" y="4906800"/>
              <a:ext cx="682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&lt;</a:t>
              </a:r>
              <a:r>
                <a:rPr b="0" lang="de-AT" sz="1400" spc="-1" strike="noStrike">
                  <a:solidFill>
                    <a:srgbClr val="3333cc"/>
                  </a:solidFill>
                  <a:latin typeface="MT Symbol"/>
                  <a:ea typeface="MT Symbol"/>
                </a:rPr>
                <a:t>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val&g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491480" y="3497400"/>
              <a:ext cx="682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&lt;</a:t>
              </a:r>
              <a:r>
                <a:rPr b="0" lang="de-AT" sz="1400" spc="-1" strike="noStrike">
                  <a:solidFill>
                    <a:srgbClr val="3333cc"/>
                  </a:solidFill>
                  <a:latin typeface="MT Symbol"/>
                  <a:ea typeface="MT Symbol"/>
                </a:rPr>
                <a:t>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val&g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389960" y="2303640"/>
              <a:ext cx="682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&lt;</a:t>
              </a:r>
              <a:r>
                <a:rPr b="0" lang="de-AT" sz="1400" spc="-1" strike="noStrike">
                  <a:solidFill>
                    <a:srgbClr val="3333cc"/>
                  </a:solidFill>
                  <a:latin typeface="MT Symbol"/>
                  <a:ea typeface="MT Symbol"/>
                </a:rPr>
                <a:t>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val&g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1E1E8-D940-49D6-8AE3-0D355D10423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Transforming an ATG into a Parser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982440" y="1541520"/>
            <a:ext cx="3231360" cy="1159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1816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Expr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&lt;</a:t>
            </a:r>
            <a:r>
              <a:rPr b="0" lang="de-AT" sz="1400" spc="-1" strike="noStrike">
                <a:solidFill>
                  <a:srgbClr val="3333cc"/>
                </a:solidFill>
                <a:latin typeface="MT Symbol"/>
                <a:ea typeface="MT Symbol"/>
              </a:rPr>
              <a:t>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int val&gt;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(. int val1; 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1816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Term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&lt;</a:t>
            </a:r>
            <a:r>
              <a:rPr b="0" lang="de-AT" sz="1400" spc="-1" strike="noStrike">
                <a:solidFill>
                  <a:srgbClr val="3333cc"/>
                </a:solidFill>
                <a:latin typeface="MT Symbol"/>
                <a:ea typeface="MT Symbol"/>
              </a:rPr>
              <a:t>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val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1816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{ "+" Term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&lt;</a:t>
            </a:r>
            <a:r>
              <a:rPr b="0" lang="de-AT" sz="1400" spc="-1" strike="noStrike">
                <a:solidFill>
                  <a:srgbClr val="3333cc"/>
                </a:solidFill>
                <a:latin typeface="MT Symbol"/>
                <a:ea typeface="MT Symbol"/>
              </a:rPr>
              <a:t>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val1&gt;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(. val += val1; 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1816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|  "-" Term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&lt;</a:t>
            </a:r>
            <a:r>
              <a:rPr b="0" lang="de-AT" sz="1400" spc="-1" strike="noStrike">
                <a:solidFill>
                  <a:srgbClr val="3333cc"/>
                </a:solidFill>
                <a:latin typeface="MT Symbol"/>
                <a:ea typeface="MT Symbol"/>
              </a:rPr>
              <a:t>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val1&gt;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(. val -= val1; 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1816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}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71400" y="1181160"/>
            <a:ext cx="127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Produ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80280" y="3224160"/>
            <a:ext cx="2983320" cy="32907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tatic void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Expr 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out int val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int val1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Term(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out val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if (la == Token.PLUS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can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val1 =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Term(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out val1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val += val1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} else if (la == Token.MINUS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can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Term(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out val1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val -= val1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} else break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71400" y="2870280"/>
            <a:ext cx="172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Parsing metho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959280" y="3460680"/>
            <a:ext cx="3868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625760"/>
                <a:tab algn="l" pos="2006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input attribute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MT Symbol"/>
                <a:ea typeface="MT Symbol"/>
              </a:rPr>
              <a:t>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parame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625760"/>
                <a:tab algn="l" pos="2006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output atribute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MT Symbol"/>
                <a:ea typeface="MT Symbol"/>
              </a:rPr>
              <a:t>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parame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625760"/>
                <a:tab algn="l" pos="2006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semantic actions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MT Symbol"/>
                <a:ea typeface="MT Symbol"/>
              </a:rPr>
              <a:t>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embedded Java 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003560" y="5192640"/>
            <a:ext cx="482580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Terminal symbols have no input attribut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In our form of ATGs they also have no output attribute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but their value is computed from 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token.str or token.val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A0953-40BE-4A4F-A7F5-1F71C66643D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12T09:29:13Z</dcterms:created>
  <dc:creator>Mössenböck</dc:creator>
  <dc:description/>
  <dc:language>en-US</dc:language>
  <cp:lastModifiedBy>ml</cp:lastModifiedBy>
  <cp:lastPrinted>2001-09-28T08:52:55Z</cp:lastPrinted>
  <dcterms:modified xsi:type="dcterms:W3CDTF">2006-02-08T16:32:28Z</dcterms:modified>
  <cp:revision>495</cp:revision>
  <dc:subject/>
  <dc:title>Javascript-Anweisungen</dc:title>
</cp:coreProperties>
</file>