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72465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FE7B-AB2A-42D7-B812-4AC01B88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328F-E8EC-472E-A778-855841E3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942D-6E88-435F-8CD8-2D886547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1604-A7A7-40DA-A2A0-B5B0998D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0644-5E8B-47F6-9DE0-E04CB60D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BF2C-083A-439F-A64B-83F9FD0C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FC19-95D6-4590-B70F-F4AC61E1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B2A9-BF4C-4A86-A485-5B9B28EE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6858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E0D-F011-41DE-941A-1DA3C2A8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4CE4-2996-4D18-BEF2-5DC4D6CF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354D-93B0-45BF-9060-62F5A20D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4D9D-02AD-4DA0-AB3A-270FC699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28EC-7759-4348-BCFF-49C065A8475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1560" y="533520"/>
            <a:ext cx="83664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04840" y="2502000"/>
            <a:ext cx="5778720" cy="3934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0360" y="1835280"/>
            <a:ext cx="506520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Bottom-up P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7.1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How a Bottom-up Parser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Table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Table Comp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emantic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9A81-29C5-497F-91E9-8DF264FAB4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mplementation of an LR Pars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660720" y="128124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able-driven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arbitrary gramm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656760" y="2690640"/>
            <a:ext cx="198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action entry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2 by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969600" y="3414600"/>
            <a:ext cx="18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438680" y="3094200"/>
            <a:ext cx="41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 b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rot="16200000">
            <a:off x="7607160" y="3009600"/>
            <a:ext cx="88920" cy="647640"/>
          </a:xfrm>
          <a:custGeom>
            <a:avLst/>
            <a:gdLst>
              <a:gd name="textAreaLeft" fmla="*/ 0 w 88920"/>
              <a:gd name="textAreaRight" fmla="*/ 32040 w 88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86320" y="3094200"/>
            <a:ext cx="41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 b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327800" y="3809880"/>
            <a:ext cx="6606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969960" y="380844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387200" y="3808440"/>
            <a:ext cx="54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278200" y="3808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490520" y="4125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303760" y="4125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988400" y="3809880"/>
            <a:ext cx="6602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327800" y="3416400"/>
            <a:ext cx="6606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387560" y="3414600"/>
            <a:ext cx="3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278200" y="3414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988400" y="3416400"/>
            <a:ext cx="6602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rot="16200000">
            <a:off x="8280360" y="3009600"/>
            <a:ext cx="88920" cy="647640"/>
          </a:xfrm>
          <a:custGeom>
            <a:avLst/>
            <a:gdLst>
              <a:gd name="textAreaLeft" fmla="*/ 0 w 88920"/>
              <a:gd name="textAreaRight" fmla="*/ 32040 w 88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12080" y="1251000"/>
            <a:ext cx="5970960" cy="5218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arse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ort[,]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tion = { {...}, {...}, ...}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state transi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yte[]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ength = { ... }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production leng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yte[]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eftSide = { ... }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left side NTS of every 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y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current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next input symb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op, n,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earStack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 = 0; sym = Nex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sh(stat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ction[state, sym]; op = a / 256; n = a % 25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witch (op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cas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 u="sng">
                <a:solidFill>
                  <a:srgbClr val="ff0000"/>
                </a:solidFill>
                <a:uFillTx/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shift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 = n; sym = Next();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cas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 u="sng">
                <a:solidFill>
                  <a:srgbClr val="ff0000"/>
                </a:solidFill>
                <a:uFillTx/>
                <a:latin typeface="Arial"/>
              </a:rPr>
              <a:t>reduc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reduce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or (int i = 0; i &lt; length[n]; i++) Pop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ction[Top(), leftSide[n]]; n = a % 256;  // shift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 = n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cas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 u="sng">
                <a:solidFill>
                  <a:srgbClr val="ff0000"/>
                </a:solidFill>
                <a:uFillTx/>
                <a:latin typeface="Arial"/>
              </a:rPr>
              <a:t>accep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 retur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cas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 u="sng">
                <a:solidFill>
                  <a:srgbClr val="ff0000"/>
                </a:solidFill>
                <a:uFillTx/>
                <a:latin typeface="Arial"/>
              </a:rPr>
              <a:t>err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 throw new Exception();  // error handling is still mi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8162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5F12-703D-42AB-B42F-2CF230B9AD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>
            <a:off x="1104840" y="2933640"/>
            <a:ext cx="5778720" cy="393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20360" y="1835280"/>
            <a:ext cx="506520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Bottom-up P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How a Bottom-up Parser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7.2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LR 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Table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Table Comp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emantic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3845-C9C2-4299-9BC0-500AB65D38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R(0) and LR(1) Gramma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71760" y="12319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LR(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488600" y="1268280"/>
            <a:ext cx="285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sable from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ght-canonical deri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lookahead tok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031760" y="2195640"/>
            <a:ext cx="379116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grammar is LR(0),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re is no reduce state that has also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shift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 every reduce state it is only possible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o reduce according to a single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5600880" y="1290600"/>
            <a:ext cx="3043440" cy="2867760"/>
            <a:chOff x="5600880" y="1290600"/>
            <a:chExt cx="3043440" cy="2867760"/>
          </a:xfrm>
        </p:grpSpPr>
        <p:sp>
          <p:nvSpPr>
            <p:cNvPr id="1031" name=""/>
            <p:cNvSpPr/>
            <p:nvPr/>
          </p:nvSpPr>
          <p:spPr>
            <a:xfrm>
              <a:off x="5600880" y="22734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674320" y="2306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172200" y="13460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246000" y="1379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870600" y="13590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931800" y="1379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400800" y="1460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538320" y="1290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185960" y="1392120"/>
              <a:ext cx="48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870600" y="1930320"/>
              <a:ext cx="2286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931800" y="195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286680" y="1574640"/>
              <a:ext cx="0" cy="47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286680" y="2044800"/>
              <a:ext cx="58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537960" y="1874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715000" y="1460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877720" y="1290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715000" y="14605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19920" y="2260440"/>
              <a:ext cx="495360" cy="24156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131160" y="228132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817680" y="1760400"/>
              <a:ext cx="36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172200" y="27432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246000" y="2776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6286680" y="2502000"/>
              <a:ext cx="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347520" y="2585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715000" y="2857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877720" y="2687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172200" y="3352680"/>
              <a:ext cx="2286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233400" y="3373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715000" y="3454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877720" y="3284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5715000" y="250200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569360" y="19303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643160" y="1963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112160" y="2044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274520" y="1874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280360" y="1930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315640" y="1951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810560" y="2044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947720" y="1874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8111880" y="174780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870600" y="27432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944400" y="2776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413400" y="2857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576480" y="2687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6985080" y="2158560"/>
              <a:ext cx="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033320" y="2408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569360" y="2743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604280" y="2763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099200" y="2857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36720" y="2687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884360" y="277668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S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28668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347520" y="3030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870600" y="335268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944400" y="3386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413400" y="3467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576120" y="329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569360" y="3352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643160" y="3373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099200" y="3467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236720" y="329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883280" y="338616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 = a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106320" y="3589200"/>
              <a:ext cx="36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643720" y="3821040"/>
              <a:ext cx="24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is grammar is not LR(0)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671760" y="4089240"/>
            <a:ext cx="4749840" cy="2132640"/>
            <a:chOff x="671760" y="4089240"/>
            <a:chExt cx="4749840" cy="2132640"/>
          </a:xfrm>
        </p:grpSpPr>
        <p:sp>
          <p:nvSpPr>
            <p:cNvPr id="1096" name=""/>
            <p:cNvSpPr/>
            <p:nvPr/>
          </p:nvSpPr>
          <p:spPr>
            <a:xfrm>
              <a:off x="671760" y="408924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LR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488600" y="4125960"/>
              <a:ext cx="2855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rsable from </a:t>
              </a: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ft to righ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ith </a:t>
              </a: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ght-canonical deriv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lookahead tok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029960" y="5052960"/>
              <a:ext cx="439164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grammar is LR(1), if in every state a si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ookahead token is sufficient to deci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hether to do a shift or a redu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ccording to which production one should redu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1D04-EF0B-41F5-9611-8058F71F30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ALR(1) Gramma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09920" y="1257480"/>
            <a:ext cx="19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Lookahead LR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52040" y="1598760"/>
            <a:ext cx="713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ubset of LR(1) gramm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ave smaller tables than LR(1) grammars, because states with the same actions but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ifferent lookahead tokens can be merg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709560" y="2514600"/>
            <a:ext cx="3243240" cy="386640"/>
            <a:chOff x="709560" y="2514600"/>
            <a:chExt cx="3243240" cy="386640"/>
          </a:xfrm>
        </p:grpSpPr>
        <p:sp>
          <p:nvSpPr>
            <p:cNvPr id="1103" name=""/>
            <p:cNvSpPr/>
            <p:nvPr/>
          </p:nvSpPr>
          <p:spPr>
            <a:xfrm>
              <a:off x="709560" y="251460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755720" y="2563920"/>
              <a:ext cx="219708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 = v | E "+" v | "(" E ")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4849920" y="3174840"/>
            <a:ext cx="3362400" cy="2603520"/>
            <a:chOff x="4849920" y="3174840"/>
            <a:chExt cx="3362400" cy="2603520"/>
          </a:xfrm>
        </p:grpSpPr>
        <p:sp>
          <p:nvSpPr>
            <p:cNvPr id="1106" name=""/>
            <p:cNvSpPr/>
            <p:nvPr/>
          </p:nvSpPr>
          <p:spPr>
            <a:xfrm>
              <a:off x="4849920" y="3174840"/>
              <a:ext cx="171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LALR(1) tab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965840" y="3759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039640" y="3792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689440" y="3772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750640" y="3792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219640" y="3873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357520" y="3703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005520" y="3805200"/>
              <a:ext cx="619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=v /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)+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664240" y="44323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738040" y="4465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092560" y="4546440"/>
              <a:ext cx="5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357880" y="4351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918040" y="4546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055560" y="4351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375240" y="44323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449040" y="4465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629400" y="4546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086600" y="4444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147800" y="4465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402680" y="4478400"/>
              <a:ext cx="74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=(E) /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)+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489720" y="46609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539040" y="47196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664240" y="51055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738040" y="513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079960" y="5219640"/>
              <a:ext cx="55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357160" y="50245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918040" y="52196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056280" y="502452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375240" y="51055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449040" y="513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629400" y="52196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086600" y="5118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147800" y="513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402320" y="5151600"/>
              <a:ext cx="81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=E+v /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)+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754320" y="5024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754680" y="43387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079960" y="3987720"/>
              <a:ext cx="0" cy="12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778360" y="533412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511960" y="5549760"/>
              <a:ext cx="520560" cy="22860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635800" y="557064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46" name=""/>
            <p:cNvCxnSpPr>
              <a:stCxn id="1114" idx="5"/>
              <a:endCxn id="1114" idx="3"/>
            </p:cNvCxnSpPr>
            <p:nvPr/>
          </p:nvCxnSpPr>
          <p:spPr>
            <a:xfrm rot="5400000">
              <a:off x="5776920" y="4547160"/>
              <a:ext cx="2520" cy="162720"/>
            </a:xfrm>
            <a:prstGeom prst="curvedConnector5">
              <a:avLst>
                <a:gd name="adj1" fmla="val 12383333"/>
                <a:gd name="adj2" fmla="val 49889"/>
                <a:gd name="adj3" fmla="val 123833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47" name=""/>
            <p:cNvSpPr/>
            <p:nvPr/>
          </p:nvSpPr>
          <p:spPr>
            <a:xfrm>
              <a:off x="5865840" y="4681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5778360" y="40003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839920" y="4148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0" name=""/>
          <p:cNvGrpSpPr/>
          <p:nvPr/>
        </p:nvGrpSpPr>
        <p:grpSpPr>
          <a:xfrm>
            <a:off x="709560" y="3174840"/>
            <a:ext cx="3312360" cy="3213360"/>
            <a:chOff x="709560" y="3174840"/>
            <a:chExt cx="3312360" cy="3213360"/>
          </a:xfrm>
        </p:grpSpPr>
        <p:sp>
          <p:nvSpPr>
            <p:cNvPr id="1151" name=""/>
            <p:cNvSpPr/>
            <p:nvPr/>
          </p:nvSpPr>
          <p:spPr>
            <a:xfrm>
              <a:off x="709560" y="3174840"/>
              <a:ext cx="13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LR(1) tab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25480" y="3759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99280" y="3792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549440" y="3772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610640" y="3792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079640" y="3873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217160" y="3703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864800" y="380520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=v /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+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523880" y="471168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597680" y="4745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952560" y="4826160"/>
              <a:ext cx="5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217520" y="46306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549440" y="4229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610640" y="424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865880" y="4237200"/>
              <a:ext cx="53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=v /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)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650960" y="444492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778040" y="4826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915560" y="46306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235240" y="471168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309040" y="4745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489040" y="4826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946240" y="4724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007440" y="4745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262320" y="4757760"/>
              <a:ext cx="74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=(E) /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)+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235240" y="51944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309040" y="5227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489040" y="530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946240" y="520704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007440" y="5227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262680" y="524016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=E+v /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)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349360" y="4940280"/>
              <a:ext cx="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712520" y="4503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398680" y="49356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523880" y="57150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597680" y="5748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939960" y="5829480"/>
              <a:ext cx="55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216800" y="56340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778040" y="5829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915920" y="56340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235240" y="57150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309040" y="5748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489040" y="5829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946240" y="5727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968920" y="5748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261960" y="5761080"/>
              <a:ext cx="75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=E+v /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+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614320" y="5634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614320" y="5126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614680" y="4618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939960" y="3987720"/>
              <a:ext cx="0" cy="18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38360" y="59436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371600" y="6159600"/>
              <a:ext cx="520560" cy="22860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495800" y="618012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209680" y="3772080"/>
              <a:ext cx="304920" cy="2538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2502000" y="3759120"/>
              <a:ext cx="114120" cy="76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578320" y="3452760"/>
              <a:ext cx="133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uccess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this 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06" name=""/>
            <p:cNvCxnSpPr>
              <a:stCxn id="1159" idx="5"/>
              <a:endCxn id="1159" idx="3"/>
            </p:cNvCxnSpPr>
            <p:nvPr/>
          </p:nvCxnSpPr>
          <p:spPr>
            <a:xfrm rot="5400000">
              <a:off x="1636920" y="4826520"/>
              <a:ext cx="2520" cy="162720"/>
            </a:xfrm>
            <a:prstGeom prst="curvedConnector5">
              <a:avLst>
                <a:gd name="adj1" fmla="val 11583333"/>
                <a:gd name="adj2" fmla="val 49889"/>
                <a:gd name="adj3" fmla="val 115833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07" name=""/>
            <p:cNvSpPr/>
            <p:nvPr/>
          </p:nvSpPr>
          <p:spPr>
            <a:xfrm>
              <a:off x="1725480" y="4973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1460520" y="3632040"/>
            <a:ext cx="3984480" cy="2977560"/>
            <a:chOff x="1460520" y="3632040"/>
            <a:chExt cx="3984480" cy="2977560"/>
          </a:xfrm>
        </p:grpSpPr>
        <p:sp>
          <p:nvSpPr>
            <p:cNvPr id="1209" name=""/>
            <p:cNvSpPr/>
            <p:nvPr/>
          </p:nvSpPr>
          <p:spPr>
            <a:xfrm>
              <a:off x="2141640" y="6272280"/>
              <a:ext cx="330336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ergeable states:   (1,5)   (6,9)   (7,1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460520" y="3632040"/>
              <a:ext cx="406440" cy="927360"/>
            </a:xfrm>
            <a:prstGeom prst="ellipse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133720" y="5092560"/>
              <a:ext cx="444240" cy="939960"/>
            </a:xfrm>
            <a:prstGeom prst="ellipse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819520" y="5092560"/>
              <a:ext cx="444240" cy="939960"/>
            </a:xfrm>
            <a:prstGeom prst="ellipse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3B2F-EBA2-4D96-8F16-99783D6DBE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R Parsing Versus Recursive Descen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10280" y="12826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52760" y="1649520"/>
            <a:ext cx="711936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ALR(1) is more powerful than LL(1)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llows left-recursive production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llows productions with the same terminal start symb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R parsers are more compact than recursive descent parser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but the tables need much memory, to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able-driven parsers are universal algorithms that can be parameterized with t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able-driven parsers allow better 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10280" y="38098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50960" y="4176720"/>
            <a:ext cx="63802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ALR(1) tables are difficult to build for large grammars (one needs too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R parsers are slightly slower than RD par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mantic processing is more complicated for LR par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R parsers are more difficult to t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51320" y="5776920"/>
            <a:ext cx="704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R parsers only pay off for complex langua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simple languages (e.g. command languages) recursive descent parsers are bet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0499-0D66-4F9B-BC96-250160FE33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104840" y="3365640"/>
            <a:ext cx="5778720" cy="3934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20360" y="1835280"/>
            <a:ext cx="506520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Bottom-up P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How a Bottom-up Parser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7.3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LR Table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Table Comp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emantic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706B-FF0C-4BAC-BB84-9E9703917D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R Item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96960" y="12700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011960" y="1700280"/>
            <a:ext cx="9212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3555000" y="1270080"/>
            <a:ext cx="4467600" cy="965880"/>
            <a:chOff x="3555000" y="1270080"/>
            <a:chExt cx="4467600" cy="965880"/>
          </a:xfrm>
        </p:grpSpPr>
        <p:sp>
          <p:nvSpPr>
            <p:cNvPr id="1226" name=""/>
            <p:cNvSpPr/>
            <p:nvPr/>
          </p:nvSpPr>
          <p:spPr>
            <a:xfrm>
              <a:off x="3555000" y="1270080"/>
              <a:ext cx="446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he parser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denoted by a point)</a:t>
              </a: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 moves throug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he produ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868200" y="1928880"/>
              <a:ext cx="102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A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3868200" y="2360520"/>
            <a:ext cx="1022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c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A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A b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3868200" y="1992240"/>
            <a:ext cx="4467600" cy="580680"/>
            <a:chOff x="3868200" y="1992240"/>
            <a:chExt cx="4467600" cy="580680"/>
          </a:xfrm>
        </p:grpSpPr>
        <p:sp>
          <p:nvSpPr>
            <p:cNvPr id="1230" name=""/>
            <p:cNvSpPr/>
            <p:nvPr/>
          </p:nvSpPr>
          <p:spPr>
            <a:xfrm>
              <a:off x="3868200" y="2144880"/>
              <a:ext cx="102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a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177160" y="1992240"/>
              <a:ext cx="3158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f the parser is in front of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it is al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t the beginning of th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-pro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4863960" y="2298600"/>
              <a:ext cx="2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3" name=""/>
          <p:cNvGrpSpPr/>
          <p:nvPr/>
        </p:nvGrpSpPr>
        <p:grpSpPr>
          <a:xfrm>
            <a:off x="696600" y="3149640"/>
            <a:ext cx="4734000" cy="2107080"/>
            <a:chOff x="696600" y="3149640"/>
            <a:chExt cx="4734000" cy="2107080"/>
          </a:xfrm>
        </p:grpSpPr>
        <p:sp>
          <p:nvSpPr>
            <p:cNvPr id="1234" name=""/>
            <p:cNvSpPr/>
            <p:nvPr/>
          </p:nvSpPr>
          <p:spPr>
            <a:xfrm>
              <a:off x="696600" y="314964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LR 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938880" y="3541680"/>
              <a:ext cx="154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rsing snapsh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006200" y="3941640"/>
              <a:ext cx="136764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 = 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 / 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235240" y="4241880"/>
              <a:ext cx="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235240" y="438156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427480" y="4189320"/>
              <a:ext cx="3003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uccessors of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n this 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unprocessed part of the pro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rser po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rocessed part of the pro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879560" y="4610160"/>
              <a:ext cx="55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701720" y="4851360"/>
              <a:ext cx="73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536840" y="5105520"/>
              <a:ext cx="90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879560" y="4241880"/>
              <a:ext cx="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701720" y="4241880"/>
              <a:ext cx="0" cy="5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536840" y="424188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6" name=""/>
          <p:cNvSpPr/>
          <p:nvPr/>
        </p:nvSpPr>
        <p:spPr>
          <a:xfrm>
            <a:off x="942480" y="5492880"/>
            <a:ext cx="60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33344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shift item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oint is not at the end of the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3344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reduce item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oint is at the end of the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5916600" y="3149640"/>
            <a:ext cx="3080880" cy="1366560"/>
            <a:chOff x="5916600" y="3149640"/>
            <a:chExt cx="3080880" cy="1366560"/>
          </a:xfrm>
        </p:grpSpPr>
        <p:sp>
          <p:nvSpPr>
            <p:cNvPr id="1248" name=""/>
            <p:cNvSpPr/>
            <p:nvPr/>
          </p:nvSpPr>
          <p:spPr>
            <a:xfrm>
              <a:off x="5916600" y="3149640"/>
              <a:ext cx="169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ontrol symb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948280" y="3529080"/>
              <a:ext cx="271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symbol after the point, e.g.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943960" y="3935520"/>
              <a:ext cx="305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b / c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ntrol symbol =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a b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/ c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ntrol symbol =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E99B-56D1-486A-87B2-5FF7AFEA9D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arser State as a Set of Item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3280" y="128268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arser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08840" y="1674720"/>
            <a:ext cx="570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presented by a set of items on which the parser works at this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216440" y="2131920"/>
            <a:ext cx="152352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 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 b 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16040" y="3287880"/>
            <a:ext cx="548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op-down parsers always work on just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produ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ottom-up parsers can work o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multiple productions in paralle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05280" y="4176720"/>
            <a:ext cx="1002240" cy="5202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 a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2349000" y="4176720"/>
            <a:ext cx="1954080" cy="520200"/>
            <a:chOff x="2349000" y="4176720"/>
            <a:chExt cx="1954080" cy="520200"/>
          </a:xfrm>
        </p:grpSpPr>
        <p:sp>
          <p:nvSpPr>
            <p:cNvPr id="1258" name=""/>
            <p:cNvSpPr/>
            <p:nvPr/>
          </p:nvSpPr>
          <p:spPr>
            <a:xfrm>
              <a:off x="3300840" y="4176720"/>
              <a:ext cx="1002240" cy="52020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 = a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 = a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362320" y="4521240"/>
              <a:ext cx="79992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349000" y="4214880"/>
              <a:ext cx="69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hift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1" name=""/>
          <p:cNvGrpSpPr/>
          <p:nvPr/>
        </p:nvGrpSpPr>
        <p:grpSpPr>
          <a:xfrm>
            <a:off x="4457160" y="3859200"/>
            <a:ext cx="4492800" cy="1310760"/>
            <a:chOff x="4457160" y="3859200"/>
            <a:chExt cx="4492800" cy="1310760"/>
          </a:xfrm>
        </p:grpSpPr>
        <p:sp>
          <p:nvSpPr>
            <p:cNvPr id="1262" name=""/>
            <p:cNvSpPr/>
            <p:nvPr/>
          </p:nvSpPr>
          <p:spPr>
            <a:xfrm>
              <a:off x="5447160" y="4176720"/>
              <a:ext cx="1002240" cy="52020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 = a a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 = a a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470480" y="4521240"/>
              <a:ext cx="79992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457160" y="4214880"/>
              <a:ext cx="69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hift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694920" y="3859200"/>
              <a:ext cx="22550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nly at this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parser has to deci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favor of one of the tw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roductions (based 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lookahead toke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6" name=""/>
          <p:cNvSpPr/>
          <p:nvPr/>
        </p:nvSpPr>
        <p:spPr>
          <a:xfrm>
            <a:off x="722160" y="5167440"/>
            <a:ext cx="597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ottom-up parsers are therefore more powerful than top-down parse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F07B-E59B-4BC9-8800-E2EA03B9CC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Kernel and Closure of a Stat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721440" y="132084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092960" y="1763640"/>
            <a:ext cx="768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ose items of a state which do not start with a point (except in the start symbol produ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364760" y="2233440"/>
            <a:ext cx="12826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 c /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091160" y="2678040"/>
            <a:ext cx="470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ll other items of a state can be derived from its kern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2" name=""/>
          <p:cNvGrpSpPr/>
          <p:nvPr/>
        </p:nvGrpSpPr>
        <p:grpSpPr>
          <a:xfrm>
            <a:off x="722160" y="3225960"/>
            <a:ext cx="5120640" cy="2808720"/>
            <a:chOff x="722160" y="3225960"/>
            <a:chExt cx="5120640" cy="2808720"/>
          </a:xfrm>
        </p:grpSpPr>
        <p:sp>
          <p:nvSpPr>
            <p:cNvPr id="1273" name=""/>
            <p:cNvSpPr/>
            <p:nvPr/>
          </p:nvSpPr>
          <p:spPr>
            <a:xfrm>
              <a:off x="1168560" y="5105520"/>
              <a:ext cx="1409400" cy="253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168560" y="5359320"/>
              <a:ext cx="1409400" cy="470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22160" y="322596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134360" y="3668760"/>
              <a:ext cx="4052520" cy="946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o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state has an item of the form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X = </a:t>
              </a:r>
              <a:r>
                <a:rPr b="0" lang="de-AT" sz="1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 . Y </a:t>
              </a:r>
              <a:r>
                <a:rPr b="0" lang="de-AT" sz="1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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 / </a:t>
              </a:r>
              <a:r>
                <a:rPr b="0" lang="de-AT" sz="1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dd all items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Y = . </a:t>
              </a:r>
              <a:r>
                <a:rPr b="0" lang="de-AT" sz="1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/ First(</a:t>
              </a:r>
              <a:r>
                <a:rPr b="0" lang="de-AT" sz="1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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to the stat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while (new items were added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152720" y="5091120"/>
              <a:ext cx="143460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A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 c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 b 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091160" y="476100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691720" y="505296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ker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327480" y="5130720"/>
              <a:ext cx="88920" cy="69876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18000 h 698760"/>
                <a:gd name="textAreaBottom" fmla="*/ 680760 h 69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466440" y="529416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910760" y="4875120"/>
              <a:ext cx="932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A B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a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b b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5CF-83A3-48C9-A6E9-E6D54A012C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Computing the Closur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08840" y="125568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08120" y="1649520"/>
            <a:ext cx="1252800" cy="15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' = S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S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 b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725920" y="1577880"/>
            <a:ext cx="906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5408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' =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S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489040" y="125568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2488680" y="1941480"/>
            <a:ext cx="1948680" cy="990720"/>
            <a:chOff x="2488680" y="1941480"/>
            <a:chExt cx="1948680" cy="990720"/>
          </a:xfrm>
        </p:grpSpPr>
        <p:sp>
          <p:nvSpPr>
            <p:cNvPr id="1289" name=""/>
            <p:cNvSpPr/>
            <p:nvPr/>
          </p:nvSpPr>
          <p:spPr>
            <a:xfrm>
              <a:off x="2727720" y="2263680"/>
              <a:ext cx="143460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5408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' =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S #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05408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05408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S A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88680" y="1941480"/>
              <a:ext cx="194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dd all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produ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2489040" y="3059280"/>
            <a:ext cx="1969920" cy="1373760"/>
            <a:chOff x="2489040" y="3059280"/>
            <a:chExt cx="1969920" cy="1373760"/>
          </a:xfrm>
        </p:grpSpPr>
        <p:sp>
          <p:nvSpPr>
            <p:cNvPr id="1292" name=""/>
            <p:cNvSpPr/>
            <p:nvPr/>
          </p:nvSpPr>
          <p:spPr>
            <a:xfrm>
              <a:off x="2727720" y="3381480"/>
              <a:ext cx="143460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5408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' =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S #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05408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05408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S A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05408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05408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a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489040" y="3059280"/>
              <a:ext cx="196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dd all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produ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2486880" y="4545000"/>
            <a:ext cx="4176720" cy="1691280"/>
            <a:chOff x="2486880" y="4545000"/>
            <a:chExt cx="4176720" cy="1691280"/>
          </a:xfrm>
        </p:grpSpPr>
        <p:sp>
          <p:nvSpPr>
            <p:cNvPr id="1295" name=""/>
            <p:cNvSpPr/>
            <p:nvPr/>
          </p:nvSpPr>
          <p:spPr>
            <a:xfrm>
              <a:off x="2727360" y="5184720"/>
              <a:ext cx="1533600" cy="1051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5408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' =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S #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05408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#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05408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S A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#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05408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05408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a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86880" y="4545000"/>
              <a:ext cx="417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dd all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productions (because of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S A B / #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uccessors of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= First(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317840" y="5181480"/>
              <a:ext cx="127080" cy="1041480"/>
            </a:xfrm>
            <a:custGeom>
              <a:avLst/>
              <a:gdLst>
                <a:gd name="textAreaLeft" fmla="*/ 0 w 127080"/>
                <a:gd name="textAreaRight" fmla="*/ 45720 w 127080"/>
                <a:gd name="textAreaTop" fmla="*/ 27000 h 1041480"/>
                <a:gd name="textAreaBottom" fmla="*/ 1014480 h 104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520520" y="553572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3D9E-367C-4D8E-9DCC-AEA65E3ADD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How a Bottom-up Parser Work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2560" y="12574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8280" y="1776240"/>
            <a:ext cx="144576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B | S A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 | a a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 | b b 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8720" y="1712880"/>
            <a:ext cx="344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ot LL(1)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annot be used for top-down par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ut no problem for bottom-up par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106680" y="5091120"/>
            <a:ext cx="1478880" cy="1445400"/>
            <a:chOff x="6106680" y="5091120"/>
            <a:chExt cx="1478880" cy="1445400"/>
          </a:xfrm>
        </p:grpSpPr>
        <p:sp>
          <p:nvSpPr>
            <p:cNvPr id="50" name=""/>
            <p:cNvSpPr/>
            <p:nvPr/>
          </p:nvSpPr>
          <p:spPr>
            <a:xfrm>
              <a:off x="610668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8604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6438960" y="623520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65280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705720" y="6133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93216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985080" y="623520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9856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7828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38960" y="623556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6159600" y="6133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7251840" y="6133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7518240" y="6133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07040" y="5916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53160" y="5916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99280" y="5916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66040" y="5916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6172200" y="581652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705720" y="581652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6172200" y="5816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6426360" y="571500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73800" y="55101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6426360" y="5409720"/>
              <a:ext cx="0" cy="101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7518240" y="5397120"/>
              <a:ext cx="0" cy="50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26360" y="5397480"/>
              <a:ext cx="1091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7251840" y="5397120"/>
              <a:ext cx="0" cy="50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934320" y="5295960"/>
              <a:ext cx="0" cy="101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81760" y="5091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604680" y="5510160"/>
            <a:ext cx="1478880" cy="1026360"/>
            <a:chOff x="3604680" y="5510160"/>
            <a:chExt cx="1478880" cy="1026360"/>
          </a:xfrm>
        </p:grpSpPr>
        <p:sp>
          <p:nvSpPr>
            <p:cNvPr id="79" name=""/>
            <p:cNvSpPr/>
            <p:nvPr/>
          </p:nvSpPr>
          <p:spPr>
            <a:xfrm>
              <a:off x="360468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8404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936960" y="623520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5080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203720" y="6133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3016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4483080" y="623520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9692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7628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36960" y="623556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3657600" y="6133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749840" y="6133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5016600" y="6133680"/>
              <a:ext cx="0" cy="203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05040" y="5916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51160" y="5916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97280" y="5916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64040" y="5916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670200" y="581652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203720" y="581652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670200" y="5816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924360" y="571500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71800" y="55101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191600" y="5510160"/>
            <a:ext cx="1471320" cy="1026360"/>
            <a:chOff x="1191600" y="5510160"/>
            <a:chExt cx="1471320" cy="1026360"/>
          </a:xfrm>
        </p:grpSpPr>
        <p:sp>
          <p:nvSpPr>
            <p:cNvPr id="102" name=""/>
            <p:cNvSpPr/>
            <p:nvPr/>
          </p:nvSpPr>
          <p:spPr>
            <a:xfrm>
              <a:off x="119160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7096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1523880" y="623520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3772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790640" y="6133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1708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2070000" y="623520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8384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63200" y="632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23880" y="623556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1244520" y="61336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2336760" y="6133680"/>
              <a:ext cx="0" cy="203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91960" y="5916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38080" y="5916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4200" y="5916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257480" y="581652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1790640" y="581652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257120" y="58165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511280" y="571500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58720" y="55101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042960" y="3681360"/>
            <a:ext cx="1471320" cy="1026360"/>
            <a:chOff x="6042960" y="3681360"/>
            <a:chExt cx="1471320" cy="1026360"/>
          </a:xfrm>
        </p:grpSpPr>
        <p:sp>
          <p:nvSpPr>
            <p:cNvPr id="123" name=""/>
            <p:cNvSpPr/>
            <p:nvPr/>
          </p:nvSpPr>
          <p:spPr>
            <a:xfrm>
              <a:off x="604296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232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375240" y="440640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8908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6642000" y="4304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6844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921360" y="4406400"/>
              <a:ext cx="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3520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1456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75240" y="440676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6095880" y="4304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43680" y="4087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89440" y="4087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108840" y="3987720"/>
              <a:ext cx="0" cy="101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6642000" y="3987720"/>
              <a:ext cx="0" cy="101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6108480" y="3987720"/>
              <a:ext cx="5331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362640" y="3886200"/>
              <a:ext cx="0" cy="101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10080" y="3681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66520" y="4087800"/>
            <a:ext cx="1471320" cy="619920"/>
            <a:chOff x="3566520" y="4087800"/>
            <a:chExt cx="1471320" cy="619920"/>
          </a:xfrm>
        </p:grpSpPr>
        <p:sp>
          <p:nvSpPr>
            <p:cNvPr id="142" name=""/>
            <p:cNvSpPr/>
            <p:nvPr/>
          </p:nvSpPr>
          <p:spPr>
            <a:xfrm>
              <a:off x="356652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4588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898800" y="4406400"/>
              <a:ext cx="0" cy="101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1264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165560" y="4304880"/>
              <a:ext cx="0" cy="203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9200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444920" y="4406400"/>
              <a:ext cx="0" cy="101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5876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3812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98800" y="4406760"/>
              <a:ext cx="5461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619440" y="430488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66880" y="4087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13000" y="4087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81840" y="2741760"/>
            <a:ext cx="3103920" cy="1965960"/>
            <a:chOff x="681840" y="2741760"/>
            <a:chExt cx="3103920" cy="1965960"/>
          </a:xfrm>
        </p:grpSpPr>
        <p:sp>
          <p:nvSpPr>
            <p:cNvPr id="156" name=""/>
            <p:cNvSpPr/>
            <p:nvPr/>
          </p:nvSpPr>
          <p:spPr>
            <a:xfrm>
              <a:off x="909360" y="2741760"/>
              <a:ext cx="165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put:  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b b a a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1840" y="3327480"/>
              <a:ext cx="31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yntax tree is built bottom-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9160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7096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3772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1708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8384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63200" y="4494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244520" y="4304880"/>
              <a:ext cx="0" cy="203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91960" y="4087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86C6-1284-4FBA-BAC8-49115CA797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uccessor Stat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84360" y="134604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ucc(s, sy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014120" y="1763640"/>
            <a:ext cx="67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state in which we get from stat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by doing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hift sym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ym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= control symbo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709560" y="2286000"/>
            <a:ext cx="2881080" cy="1143000"/>
            <a:chOff x="709560" y="2286000"/>
            <a:chExt cx="2881080" cy="1143000"/>
          </a:xfrm>
        </p:grpSpPr>
        <p:sp>
          <p:nvSpPr>
            <p:cNvPr id="1303" name=""/>
            <p:cNvSpPr/>
            <p:nvPr/>
          </p:nvSpPr>
          <p:spPr>
            <a:xfrm>
              <a:off x="709560" y="228600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013040" y="2665440"/>
              <a:ext cx="25776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05408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A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 c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5408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5408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 b 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1013040" y="4532400"/>
            <a:ext cx="257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5408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ucc(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B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1013040" y="3630600"/>
            <a:ext cx="7897680" cy="849600"/>
            <a:chOff x="1013040" y="3630600"/>
            <a:chExt cx="7897680" cy="849600"/>
          </a:xfrm>
        </p:grpSpPr>
        <p:sp>
          <p:nvSpPr>
            <p:cNvPr id="1307" name=""/>
            <p:cNvSpPr/>
            <p:nvPr/>
          </p:nvSpPr>
          <p:spPr>
            <a:xfrm>
              <a:off x="1013040" y="3630600"/>
              <a:ext cx="25682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05408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ucc(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de-AT" sz="16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b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5408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b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 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33360" y="3656160"/>
              <a:ext cx="4977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ntains all items of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that hav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s their control 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point has been moved acros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se are the productions that are worked on from 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9" name=""/>
          <p:cNvSpPr/>
          <p:nvPr/>
        </p:nvSpPr>
        <p:spPr>
          <a:xfrm>
            <a:off x="711720" y="5611680"/>
            <a:ext cx="69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ucc(s, sym)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s only the kernel of the new state; we still have to compute its clo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CD00-71C0-41F3-953D-C898AFCA6E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ALR(1) Table Gener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53480" y="1446120"/>
            <a:ext cx="7121160" cy="3357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tend the grammar by a pseudo production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S' = S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reate state 0 with the kernel S' = . S #  // the only kernel with the point at the begi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ile (not all states visited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next unvisited stat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mpute the closure of 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or (all items of 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witch (item kind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X = S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#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accep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X = </a:t>
            </a:r>
            <a:r>
              <a:rPr b="0" lang="de-AT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y </a:t>
            </a:r>
            <a:r>
              <a:rPr b="0" lang="de-AT" sz="1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/ </a:t>
            </a:r>
            <a:r>
              <a:rPr b="0" lang="de-AT" sz="1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reate new state s1 = Succ(s, y) if it does not exist ye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hift y, 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X = </a:t>
            </a:r>
            <a:r>
              <a:rPr b="0" lang="de-AT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/ </a:t>
            </a:r>
            <a:r>
              <a:rPr b="0" lang="de-AT" sz="1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reduce </a:t>
            </a:r>
            <a:r>
              <a:rPr b="0" lang="de-AT" sz="14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, (X = </a:t>
            </a:r>
            <a:r>
              <a:rPr b="0" lang="de-AT" sz="1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fault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err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2" name=""/>
          <p:cNvGrpSpPr/>
          <p:nvPr/>
        </p:nvGrpSpPr>
        <p:grpSpPr>
          <a:xfrm>
            <a:off x="693360" y="3352680"/>
            <a:ext cx="8031600" cy="3099600"/>
            <a:chOff x="693360" y="3352680"/>
            <a:chExt cx="8031600" cy="3099600"/>
          </a:xfrm>
        </p:grpSpPr>
        <p:sp>
          <p:nvSpPr>
            <p:cNvPr id="1313" name=""/>
            <p:cNvSpPr/>
            <p:nvPr/>
          </p:nvSpPr>
          <p:spPr>
            <a:xfrm>
              <a:off x="693360" y="5180040"/>
              <a:ext cx="5562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hen checking for existing states only the kernels are consider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ithout successor symbols, e.g.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569360" y="3352680"/>
              <a:ext cx="11556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8724960" y="3352680"/>
              <a:ext cx="0" cy="2108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>
              <a:off x="6171840" y="5460840"/>
              <a:ext cx="25527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161000" y="6132600"/>
              <a:ext cx="11487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E = v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  / #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180080" y="58276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xi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002400" y="6132600"/>
              <a:ext cx="110880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E = v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  / )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262320" y="582768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513160" y="61070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531680" y="6114960"/>
              <a:ext cx="25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08680" y="6132600"/>
              <a:ext cx="12081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E = v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  / )#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686B-D311-4823-8DA1-DA104C2290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4532400" y="1311120"/>
            <a:ext cx="13338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57168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ALR(1) Table Gener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326" name=""/>
          <p:cNvGrpSpPr/>
          <p:nvPr/>
        </p:nvGrpSpPr>
        <p:grpSpPr>
          <a:xfrm>
            <a:off x="2335320" y="2324160"/>
            <a:ext cx="3595680" cy="480240"/>
            <a:chOff x="2335320" y="2324160"/>
            <a:chExt cx="3595680" cy="480240"/>
          </a:xfrm>
        </p:grpSpPr>
        <p:sp>
          <p:nvSpPr>
            <p:cNvPr id="1327" name=""/>
            <p:cNvSpPr/>
            <p:nvPr/>
          </p:nvSpPr>
          <p:spPr>
            <a:xfrm>
              <a:off x="2335320" y="2327400"/>
              <a:ext cx="35182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A = a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A = a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a b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76440" y="2324160"/>
              <a:ext cx="3454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9" name=""/>
          <p:cNvGrpSpPr/>
          <p:nvPr/>
        </p:nvGrpSpPr>
        <p:grpSpPr>
          <a:xfrm>
            <a:off x="2335320" y="2768760"/>
            <a:ext cx="3595680" cy="671400"/>
            <a:chOff x="2335320" y="2768760"/>
            <a:chExt cx="3595680" cy="671400"/>
          </a:xfrm>
        </p:grpSpPr>
        <p:sp>
          <p:nvSpPr>
            <p:cNvPr id="1330" name=""/>
            <p:cNvSpPr/>
            <p:nvPr/>
          </p:nvSpPr>
          <p:spPr>
            <a:xfrm>
              <a:off x="2335320" y="2771640"/>
              <a:ext cx="351828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 = A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B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#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#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 b 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#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476440" y="2768760"/>
              <a:ext cx="3454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2333160" y="3394080"/>
            <a:ext cx="3737880" cy="860040"/>
            <a:chOff x="2333160" y="3394080"/>
            <a:chExt cx="3737880" cy="860040"/>
          </a:xfrm>
        </p:grpSpPr>
        <p:sp>
          <p:nvSpPr>
            <p:cNvPr id="1333" name=""/>
            <p:cNvSpPr/>
            <p:nvPr/>
          </p:nvSpPr>
          <p:spPr>
            <a:xfrm>
              <a:off x="2333160" y="3394080"/>
              <a:ext cx="373788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' = S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#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cc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 = S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A B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#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 (!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a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476440" y="3403440"/>
              <a:ext cx="3454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5" name=""/>
          <p:cNvGrpSpPr/>
          <p:nvPr/>
        </p:nvGrpSpPr>
        <p:grpSpPr>
          <a:xfrm>
            <a:off x="2335320" y="4194000"/>
            <a:ext cx="3595680" cy="285480"/>
            <a:chOff x="2335320" y="4194000"/>
            <a:chExt cx="3595680" cy="285480"/>
          </a:xfrm>
        </p:grpSpPr>
        <p:sp>
          <p:nvSpPr>
            <p:cNvPr id="1336" name=""/>
            <p:cNvSpPr/>
            <p:nvPr/>
          </p:nvSpPr>
          <p:spPr>
            <a:xfrm>
              <a:off x="2335320" y="4194000"/>
              <a:ext cx="35182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A = a a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b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476440" y="4203720"/>
              <a:ext cx="3454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8" name=""/>
          <p:cNvGrpSpPr/>
          <p:nvPr/>
        </p:nvGrpSpPr>
        <p:grpSpPr>
          <a:xfrm>
            <a:off x="2335320" y="4410000"/>
            <a:ext cx="3595680" cy="477000"/>
            <a:chOff x="2335320" y="4410000"/>
            <a:chExt cx="3595680" cy="477000"/>
          </a:xfrm>
        </p:grpSpPr>
        <p:sp>
          <p:nvSpPr>
            <p:cNvPr id="1339" name=""/>
            <p:cNvSpPr/>
            <p:nvPr/>
          </p:nvSpPr>
          <p:spPr>
            <a:xfrm>
              <a:off x="2335320" y="4410000"/>
              <a:ext cx="35182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B = b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#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#,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B = b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b a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#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476440" y="4432320"/>
              <a:ext cx="3454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1" name=""/>
          <p:cNvGrpSpPr/>
          <p:nvPr/>
        </p:nvGrpSpPr>
        <p:grpSpPr>
          <a:xfrm>
            <a:off x="2335320" y="4816440"/>
            <a:ext cx="3595680" cy="285480"/>
            <a:chOff x="2335320" y="4816440"/>
            <a:chExt cx="3595680" cy="285480"/>
          </a:xfrm>
        </p:grpSpPr>
        <p:sp>
          <p:nvSpPr>
            <p:cNvPr id="1342" name=""/>
            <p:cNvSpPr/>
            <p:nvPr/>
          </p:nvSpPr>
          <p:spPr>
            <a:xfrm>
              <a:off x="2335320" y="4816440"/>
              <a:ext cx="35182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 = A B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#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#,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476440" y="4838760"/>
              <a:ext cx="3454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2334960" y="5032440"/>
            <a:ext cx="3617280" cy="668520"/>
            <a:chOff x="2334960" y="5032440"/>
            <a:chExt cx="3617280" cy="668520"/>
          </a:xfrm>
        </p:grpSpPr>
        <p:sp>
          <p:nvSpPr>
            <p:cNvPr id="1345" name=""/>
            <p:cNvSpPr/>
            <p:nvPr/>
          </p:nvSpPr>
          <p:spPr>
            <a:xfrm>
              <a:off x="2334960" y="5032440"/>
              <a:ext cx="361728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 = S A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B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#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#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 b 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#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476440" y="5054760"/>
              <a:ext cx="3454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2335320" y="5641920"/>
            <a:ext cx="3595680" cy="285480"/>
            <a:chOff x="2335320" y="5641920"/>
            <a:chExt cx="3595680" cy="285480"/>
          </a:xfrm>
        </p:grpSpPr>
        <p:sp>
          <p:nvSpPr>
            <p:cNvPr id="1348" name=""/>
            <p:cNvSpPr/>
            <p:nvPr/>
          </p:nvSpPr>
          <p:spPr>
            <a:xfrm>
              <a:off x="2335320" y="5641920"/>
              <a:ext cx="35182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A = a a b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476440" y="5651640"/>
              <a:ext cx="3454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0" name=""/>
          <p:cNvGrpSpPr/>
          <p:nvPr/>
        </p:nvGrpSpPr>
        <p:grpSpPr>
          <a:xfrm>
            <a:off x="2334960" y="5857920"/>
            <a:ext cx="3617280" cy="285480"/>
            <a:chOff x="2334960" y="5857920"/>
            <a:chExt cx="3617280" cy="285480"/>
          </a:xfrm>
        </p:grpSpPr>
        <p:sp>
          <p:nvSpPr>
            <p:cNvPr id="1351" name=""/>
            <p:cNvSpPr/>
            <p:nvPr/>
          </p:nvSpPr>
          <p:spPr>
            <a:xfrm>
              <a:off x="2334960" y="5857920"/>
              <a:ext cx="36172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B = b b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a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#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476440" y="5880240"/>
              <a:ext cx="3454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2335320" y="6086520"/>
            <a:ext cx="3595680" cy="285480"/>
            <a:chOff x="2335320" y="6086520"/>
            <a:chExt cx="3595680" cy="285480"/>
          </a:xfrm>
        </p:grpSpPr>
        <p:sp>
          <p:nvSpPr>
            <p:cNvPr id="1354" name=""/>
            <p:cNvSpPr/>
            <p:nvPr/>
          </p:nvSpPr>
          <p:spPr>
            <a:xfrm>
              <a:off x="2335320" y="6086520"/>
              <a:ext cx="35182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 = S A B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#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#,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76440" y="6095880"/>
              <a:ext cx="3454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2335320" y="6315120"/>
            <a:ext cx="3595680" cy="285480"/>
            <a:chOff x="2335320" y="6315120"/>
            <a:chExt cx="3595680" cy="285480"/>
          </a:xfrm>
        </p:grpSpPr>
        <p:sp>
          <p:nvSpPr>
            <p:cNvPr id="1357" name=""/>
            <p:cNvSpPr/>
            <p:nvPr/>
          </p:nvSpPr>
          <p:spPr>
            <a:xfrm>
              <a:off x="2476440" y="6324480"/>
              <a:ext cx="3454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335320" y="6315120"/>
              <a:ext cx="35182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B = b b a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#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#,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708840" y="125568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08120" y="1649520"/>
            <a:ext cx="1252800" cy="15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' = S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S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 b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332080" y="1311120"/>
            <a:ext cx="1287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' =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S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2333880" y="1501920"/>
            <a:ext cx="191448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#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S A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#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 a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5FC4-8484-4553-8658-CAAE96B7BF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2766960" y="1311120"/>
            <a:ext cx="13338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57168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arser Tab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69880" y="2327400"/>
            <a:ext cx="35182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A = a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A = a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a b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11360" y="2324160"/>
            <a:ext cx="34542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69880" y="2771640"/>
            <a:ext cx="35182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 = A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B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 #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#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 b 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#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11360" y="2768760"/>
            <a:ext cx="34542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69880" y="3394080"/>
            <a:ext cx="351828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' = S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 = S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A B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 #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 a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11360" y="3403440"/>
            <a:ext cx="34542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69880" y="4194000"/>
            <a:ext cx="3518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A = a a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b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11360" y="4203720"/>
            <a:ext cx="34542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69880" y="4410000"/>
            <a:ext cx="35182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B = b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 #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,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B = b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b a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 #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11360" y="4432320"/>
            <a:ext cx="34542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69880" y="4816440"/>
            <a:ext cx="3518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 = A B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 #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,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711360" y="4838760"/>
            <a:ext cx="34542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69520" y="5032440"/>
            <a:ext cx="36172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 = S A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B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 #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#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 b 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#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11360" y="5054760"/>
            <a:ext cx="34542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69880" y="5641920"/>
            <a:ext cx="3518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A = a a b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11360" y="5651640"/>
            <a:ext cx="34542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69520" y="5857920"/>
            <a:ext cx="3617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B = b b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a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 #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11360" y="5880240"/>
            <a:ext cx="34542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69880" y="6086520"/>
            <a:ext cx="3518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 = S A B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 #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,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11360" y="6095880"/>
            <a:ext cx="34542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711360" y="6324480"/>
            <a:ext cx="34542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69880" y="6315120"/>
            <a:ext cx="3518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B = b b a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 #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,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67000" y="1311120"/>
            <a:ext cx="1287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' =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S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68440" y="1501920"/>
            <a:ext cx="191448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#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S A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#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 a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801680" y="1282680"/>
            <a:ext cx="33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tate transition table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parser tab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836240" y="1725480"/>
            <a:ext cx="3427920" cy="2931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915080" y="199404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245200" y="1816200"/>
            <a:ext cx="0" cy="27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756480" y="1816200"/>
            <a:ext cx="0" cy="27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B705-4DDC-4FF7-BEBC-8924FCA77B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arser Table as a Lis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95880" y="1344600"/>
            <a:ext cx="3427920" cy="29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74720" y="16128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104840" y="1434960"/>
            <a:ext cx="0" cy="27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616120" y="1434960"/>
            <a:ext cx="0" cy="27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174680" y="4341960"/>
            <a:ext cx="38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rror actions for NT symbols can never occ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2666880" y="4177800"/>
            <a:ext cx="114480" cy="203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675400" y="1268280"/>
            <a:ext cx="2884320" cy="4935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S actions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NTS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r" pos="190440"/>
                <a:tab algn="l" pos="380880"/>
                <a:tab algn="l" pos="673200"/>
                <a:tab algn="l" pos="1714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17040" y="5268960"/>
            <a:ext cx="47059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actions in every state are checked sequential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last T action in every state is *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or *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ri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lookahead tokens are not checked i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reduc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ctions;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reduc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was wrong this is detected at the next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ists are more compact but slower than t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321160" y="5384880"/>
            <a:ext cx="0" cy="11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5321160" y="5499000"/>
            <a:ext cx="30492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7E86-9676-4163-BABF-A60B6ECBE1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ALR(1) Tables Versus LR(1) Tabl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25400" y="1268280"/>
            <a:ext cx="71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R(1) is slightly more powerful than LALR(1), but its tables are about 10 times lar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709560" y="1816200"/>
            <a:ext cx="7835040" cy="2242800"/>
            <a:chOff x="709560" y="1816200"/>
            <a:chExt cx="7835040" cy="2242800"/>
          </a:xfrm>
        </p:grpSpPr>
        <p:sp>
          <p:nvSpPr>
            <p:cNvPr id="1408" name=""/>
            <p:cNvSpPr/>
            <p:nvPr/>
          </p:nvSpPr>
          <p:spPr>
            <a:xfrm>
              <a:off x="709560" y="1816200"/>
              <a:ext cx="13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LR(1) tab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24320" y="2208240"/>
              <a:ext cx="6669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tates are never mer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grammar is LR(1) if none of the states has one of the following conflict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929160" y="2855880"/>
              <a:ext cx="181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hift-reduce confli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082320" y="2881440"/>
              <a:ext cx="86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296240" y="2855880"/>
              <a:ext cx="424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parser cannot decide with 1 symbol lookahe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hether to shift or to redu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928800" y="3490920"/>
              <a:ext cx="201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reduce-reduce confli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083760" y="3516480"/>
              <a:ext cx="85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296240" y="3478320"/>
              <a:ext cx="424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parser cannot decide with 1 symbol lookahe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ccording to which production it should redu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709920" y="4521240"/>
            <a:ext cx="6747840" cy="1753560"/>
            <a:chOff x="709920" y="4521240"/>
            <a:chExt cx="6747840" cy="1753560"/>
          </a:xfrm>
        </p:grpSpPr>
        <p:sp>
          <p:nvSpPr>
            <p:cNvPr id="1417" name=""/>
            <p:cNvSpPr/>
            <p:nvPr/>
          </p:nvSpPr>
          <p:spPr>
            <a:xfrm>
              <a:off x="709920" y="4521240"/>
              <a:ext cx="171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LALR(1) tab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25400" y="4913280"/>
              <a:ext cx="6732360" cy="13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tates can be merged if their kernels (without successor symbols) are identical</a:t>
              </a:r>
              <a:br>
                <a:rPr sz="1600"/>
              </a:b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grammar is LALR(1) if there is no reduce-reduce conflict after merging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shift-reduce conflicts cannot arise; why?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61000" y="5281560"/>
              <a:ext cx="11487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E = v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  / #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002400" y="5281560"/>
              <a:ext cx="110880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E = v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  / )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13160" y="52563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531680" y="5264280"/>
              <a:ext cx="25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008680" y="5281560"/>
              <a:ext cx="12081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E = v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  / )#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C372-2E74-4FCC-A8A8-60D0F1266C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LR(1) Grammar which is not LALR(1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21800" y="124308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833760" y="1585800"/>
            <a:ext cx="912240" cy="15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' = S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x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x B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B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414600" y="1298520"/>
            <a:ext cx="351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' =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S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x A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x B 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 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434960"/>
                <a:tab algn="l" pos="2197080"/>
                <a:tab algn="l" pos="2768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8" name=""/>
          <p:cNvGrpSpPr/>
          <p:nvPr/>
        </p:nvGrpSpPr>
        <p:grpSpPr>
          <a:xfrm>
            <a:off x="3414600" y="2682720"/>
            <a:ext cx="3849840" cy="860040"/>
            <a:chOff x="3414600" y="2682720"/>
            <a:chExt cx="3849840" cy="860040"/>
          </a:xfrm>
        </p:grpSpPr>
        <p:sp>
          <p:nvSpPr>
            <p:cNvPr id="1429" name=""/>
            <p:cNvSpPr/>
            <p:nvPr/>
          </p:nvSpPr>
          <p:spPr>
            <a:xfrm>
              <a:off x="3414600" y="2682720"/>
              <a:ext cx="351828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 = x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A b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#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 = x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B a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#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c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c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556080" y="2692440"/>
              <a:ext cx="370836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1" name=""/>
          <p:cNvGrpSpPr/>
          <p:nvPr/>
        </p:nvGrpSpPr>
        <p:grpSpPr>
          <a:xfrm>
            <a:off x="3412440" y="3495600"/>
            <a:ext cx="3951000" cy="477000"/>
            <a:chOff x="3412440" y="3495600"/>
            <a:chExt cx="3951000" cy="477000"/>
          </a:xfrm>
        </p:grpSpPr>
        <p:sp>
          <p:nvSpPr>
            <p:cNvPr id="1432" name=""/>
            <p:cNvSpPr/>
            <p:nvPr/>
          </p:nvSpPr>
          <p:spPr>
            <a:xfrm>
              <a:off x="3412440" y="3495600"/>
              <a:ext cx="39510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A = c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A = 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B = c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B = 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556080" y="3505320"/>
              <a:ext cx="370836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3412440" y="3940200"/>
            <a:ext cx="3951000" cy="1009440"/>
            <a:chOff x="3412440" y="3940200"/>
            <a:chExt cx="3951000" cy="1009440"/>
          </a:xfrm>
        </p:grpSpPr>
        <p:sp>
          <p:nvSpPr>
            <p:cNvPr id="1435" name=""/>
            <p:cNvSpPr/>
            <p:nvPr/>
          </p:nvSpPr>
          <p:spPr>
            <a:xfrm>
              <a:off x="3413160" y="3940200"/>
              <a:ext cx="7124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556080" y="3949560"/>
              <a:ext cx="370836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412440" y="4232160"/>
              <a:ext cx="39510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A = c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A = 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B = c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B = 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556080" y="4241880"/>
              <a:ext cx="370836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413160" y="4664160"/>
              <a:ext cx="7124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556080" y="4673520"/>
              <a:ext cx="370836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1" name=""/>
          <p:cNvGrpSpPr/>
          <p:nvPr/>
        </p:nvGrpSpPr>
        <p:grpSpPr>
          <a:xfrm>
            <a:off x="3412440" y="5154480"/>
            <a:ext cx="5221080" cy="1103400"/>
            <a:chOff x="3412440" y="5154480"/>
            <a:chExt cx="5221080" cy="1103400"/>
          </a:xfrm>
        </p:grpSpPr>
        <p:sp>
          <p:nvSpPr>
            <p:cNvPr id="1442" name=""/>
            <p:cNvSpPr/>
            <p:nvPr/>
          </p:nvSpPr>
          <p:spPr>
            <a:xfrm>
              <a:off x="3469320" y="5154480"/>
              <a:ext cx="516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Merging states 2 and 6 would lead to the following situation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412440" y="5629320"/>
              <a:ext cx="39510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A = c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a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,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A = 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B = c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a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,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B = 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416720" y="5676840"/>
              <a:ext cx="88920" cy="38124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9720 h 381240"/>
                <a:gd name="textAreaBottom" fmla="*/ 3715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557840" y="5433840"/>
              <a:ext cx="889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reduce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redu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conflict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6" name=""/>
          <p:cNvGrpSpPr/>
          <p:nvPr/>
        </p:nvGrpSpPr>
        <p:grpSpPr>
          <a:xfrm>
            <a:off x="518760" y="3449520"/>
            <a:ext cx="2465640" cy="2740320"/>
            <a:chOff x="518760" y="3449520"/>
            <a:chExt cx="2465640" cy="2740320"/>
          </a:xfrm>
        </p:grpSpPr>
        <p:sp>
          <p:nvSpPr>
            <p:cNvPr id="1447" name=""/>
            <p:cNvSpPr/>
            <p:nvPr/>
          </p:nvSpPr>
          <p:spPr>
            <a:xfrm>
              <a:off x="635040" y="45846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08840" y="461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333440" y="40640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407240" y="4097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62120" y="4178160"/>
              <a:ext cx="58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026360" y="3983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587600" y="4178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724760" y="398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044800" y="407664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333440" y="45846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407240" y="461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863640" y="46990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026720" y="4503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587600" y="4699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725120" y="4503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044800" y="45846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118600" y="461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298600" y="4699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755800" y="459756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423160" y="4503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49160" y="3645000"/>
              <a:ext cx="0" cy="9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447920" y="5143680"/>
              <a:ext cx="59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725120" y="4948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044800" y="50292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118600" y="5062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298600" y="514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755800" y="504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423160" y="494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447920" y="4826160"/>
              <a:ext cx="0" cy="66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333440" y="54990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394640" y="5519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49160" y="4826160"/>
              <a:ext cx="0" cy="66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35040" y="54990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96240" y="5519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333440" y="35305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407240" y="3564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62120" y="3645000"/>
              <a:ext cx="58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026360" y="34495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587600" y="3645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724760" y="3449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044800" y="3543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85520" y="4935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318680" y="5202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18760" y="5824440"/>
              <a:ext cx="480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=c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/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=c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/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217160" y="5824440"/>
              <a:ext cx="480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=c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/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=c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/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742D-2EC3-4C51-B7A7-154FF258D01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LR(1) Tables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Simple LR(1)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708480" y="1230480"/>
            <a:ext cx="5145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LR(1) parsing is less powerful than LALR(1) par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LR(1) tables are simpler to generate than LALR(1) t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709560" y="212076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LR(1)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945720" y="2635200"/>
            <a:ext cx="23522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shift item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reduce item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/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3314880" y="280656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888000" y="2627280"/>
            <a:ext cx="21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o successors are sto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flipH="1">
            <a:off x="3314880" y="311148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3878280" y="2940120"/>
            <a:ext cx="44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= Follow(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, i.e. </a:t>
            </a: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successors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6EC5-E94C-49B0-B1A7-2E822B7F009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LALR(1) Grammar, which is not SLR(1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21800" y="124308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834120" y="1585800"/>
            <a:ext cx="92124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' = S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b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741760" y="1336680"/>
            <a:ext cx="285768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523880"/>
                <a:tab algn="l" pos="2095560"/>
                <a:tab algn="l" pos="257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' = </a:t>
            </a: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S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523880"/>
                <a:tab algn="l" pos="2095560"/>
                <a:tab algn="l" pos="257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 A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523880"/>
                <a:tab algn="l" pos="2095560"/>
                <a:tab algn="l" pos="257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 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1523880"/>
                <a:tab algn="l" pos="2095560"/>
                <a:tab algn="l" pos="257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2739600" y="2149560"/>
            <a:ext cx="3299760" cy="668520"/>
            <a:chOff x="2739600" y="2149560"/>
            <a:chExt cx="3299760" cy="668520"/>
          </a:xfrm>
        </p:grpSpPr>
        <p:sp>
          <p:nvSpPr>
            <p:cNvPr id="1505" name=""/>
            <p:cNvSpPr/>
            <p:nvPr/>
          </p:nvSpPr>
          <p:spPr>
            <a:xfrm>
              <a:off x="2946240" y="2158920"/>
              <a:ext cx="262908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739600" y="2149560"/>
              <a:ext cx="329976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523880"/>
                  <a:tab algn="l" pos="2095560"/>
                  <a:tab algn="l" pos="2577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 = b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A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523880"/>
                  <a:tab algn="l" pos="2095560"/>
                  <a:tab algn="l" pos="2577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A = b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,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A =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523880"/>
                  <a:tab algn="l" pos="2095560"/>
                  <a:tab algn="l" pos="2577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7" name=""/>
          <p:cNvSpPr/>
          <p:nvPr/>
        </p:nvSpPr>
        <p:spPr>
          <a:xfrm>
            <a:off x="736560" y="2766960"/>
            <a:ext cx="173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llow(S) = {#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llow(A) = {a, b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6083280" y="2081160"/>
            <a:ext cx="2209680" cy="824040"/>
            <a:chOff x="6083280" y="2081160"/>
            <a:chExt cx="2209680" cy="824040"/>
          </a:xfrm>
        </p:grpSpPr>
        <p:sp>
          <p:nvSpPr>
            <p:cNvPr id="1509" name=""/>
            <p:cNvSpPr/>
            <p:nvPr/>
          </p:nvSpPr>
          <p:spPr>
            <a:xfrm>
              <a:off x="6083280" y="2197080"/>
              <a:ext cx="88920" cy="40644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10440 h 406440"/>
                <a:gd name="textAreaBottom" fmla="*/ 396000 h 40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312240" y="2081160"/>
              <a:ext cx="1980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shift-reduce conflic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hich would not ar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LALR(1) t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557640" y="3873600"/>
            <a:ext cx="7836480" cy="2286000"/>
            <a:chOff x="557640" y="3873600"/>
            <a:chExt cx="7836480" cy="2286000"/>
          </a:xfrm>
        </p:grpSpPr>
        <p:sp>
          <p:nvSpPr>
            <p:cNvPr id="1512" name=""/>
            <p:cNvSpPr/>
            <p:nvPr/>
          </p:nvSpPr>
          <p:spPr>
            <a:xfrm>
              <a:off x="5575320" y="4597560"/>
              <a:ext cx="2286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333440" y="4597560"/>
              <a:ext cx="2286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35040" y="45846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08840" y="461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407240" y="461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63640" y="46990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026360" y="4707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562040" y="469908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813680" y="4707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209680" y="459756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447920" y="51436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801080" y="4973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209680" y="50292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283480" y="5062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463840" y="514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921040" y="504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588400" y="494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447920" y="482616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49160" y="482616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196440" y="5062680"/>
              <a:ext cx="95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red # (S=bA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283480" y="461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994840" y="5075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320840" y="54356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394640" y="546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49160" y="5549760"/>
              <a:ext cx="55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026360" y="5367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549440" y="5549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674000" y="5354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006640" y="5448240"/>
              <a:ext cx="571320" cy="21600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143440" y="545616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320840" y="59310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394640" y="5964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749160" y="6045120"/>
              <a:ext cx="55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026360" y="5862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549440" y="604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674000" y="5850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006640" y="59310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080440" y="5964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485440" y="4618080"/>
              <a:ext cx="89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red a,b (A=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282400" y="5938920"/>
              <a:ext cx="87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red # (S=A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013400" y="4376880"/>
              <a:ext cx="90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red </a:t>
              </a:r>
              <a:r>
                <a:rPr b="1" lang="de-AT" sz="1200" spc="-1" strike="noStrike">
                  <a:solidFill>
                    <a:srgbClr val="ff0000"/>
                  </a:solidFill>
                  <a:latin typeface="Arial"/>
                </a:rPr>
                <a:t>a,b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(A=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57640" y="387360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LR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876920" y="45846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950720" y="461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649120" y="461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105520" y="469908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268240" y="4707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803920" y="469908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055560" y="4707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451560" y="459756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689440" y="5143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042960" y="4973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451560" y="50292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525360" y="5062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705720" y="514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162920" y="504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830280" y="494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689440" y="482616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991040" y="482616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437960" y="5062680"/>
              <a:ext cx="95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red # (S=bA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525360" y="461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236720" y="5075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562720" y="54356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636520" y="546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991040" y="5549760"/>
              <a:ext cx="55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268240" y="5367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791320" y="5549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915880" y="5354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248520" y="5448240"/>
              <a:ext cx="571320" cy="21600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384960" y="545616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562720" y="59310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636520" y="5964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991040" y="6045120"/>
              <a:ext cx="55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268240" y="5862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791320" y="604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915880" y="5850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248520" y="59310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322320" y="5964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727680" y="4618080"/>
              <a:ext cx="76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red b (A=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524280" y="5938920"/>
              <a:ext cx="87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red # (S=A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254560" y="4376880"/>
              <a:ext cx="768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red </a:t>
              </a:r>
              <a:r>
                <a:rPr b="1" lang="de-AT" sz="12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(A=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799520" y="387360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LALR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7E86-863A-4EF0-8546-798C3E60845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/>
          <p:nvPr/>
        </p:nvSpPr>
        <p:spPr>
          <a:xfrm>
            <a:off x="1104840" y="3822840"/>
            <a:ext cx="5778720" cy="3934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20360" y="1835280"/>
            <a:ext cx="506520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Bottom-up P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How a Bottom-up Parser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Table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7.4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LR Table Comp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emantic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F7E7-FD0C-4D7B-BE02-DA470B5D9AA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Using a Stack for Parsing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1760" y="2525760"/>
            <a:ext cx="307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r" pos="762120"/>
                <a:tab algn="l" pos="1054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ck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3280" y="2830680"/>
            <a:ext cx="81568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r" pos="762120"/>
                <a:tab algn="l" pos="1054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b a a b #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hift (i.e. read next token and push it on the st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1054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b a a b #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duc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1054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b a a b #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1054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a a b #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hift (not reduce, because that would lead to a dead end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1054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a b #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1054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b 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#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duc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 b 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1054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#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duc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 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1054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#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1054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#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duc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1054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#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1054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A 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duc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1054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A 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duc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 A 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1054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ntence recognized (stack contains the start symbol; input is emp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8280" y="1471680"/>
            <a:ext cx="144576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B | S A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 | a a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 | b b 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2240" y="115416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47840" y="1154160"/>
            <a:ext cx="59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55400" y="1509840"/>
            <a:ext cx="11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b a a b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51280" y="148428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# ... eof tok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AD82-47CF-4DDC-A37B-50C7A2F9FC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Back of the Envelope Calcul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722160" y="138420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ssumption (e.g. C#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055520" y="1801800"/>
            <a:ext cx="246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r" pos="48276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erminal symb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276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onterminal symb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276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2500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540960" y="2279520"/>
            <a:ext cx="2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871440" y="2271600"/>
            <a:ext cx="25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280 x 2'500 = 700'000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1054440" y="2728800"/>
            <a:ext cx="175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r" pos="48276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ytes / 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3540960" y="2736720"/>
            <a:ext cx="2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870720" y="2728800"/>
            <a:ext cx="37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700'000 x 4 = 2'800'000 bytes = 2.8 M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90560" y="363060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ut the table size can be reduced by 9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6601-D042-4FD5-B391-DFA6EBC3B15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mbining Shift and Reduce Ac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924120" y="1268280"/>
            <a:ext cx="176652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003320" y="1536840"/>
            <a:ext cx="196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333440" y="1359000"/>
            <a:ext cx="0" cy="139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844720" y="1359000"/>
            <a:ext cx="0" cy="139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486080" y="3086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559520" y="3119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1155600" y="320040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191240" y="3017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71468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839240" y="3005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2171880" y="3086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245320" y="3119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446920" y="3094200"/>
            <a:ext cx="6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=aab /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988920" y="3068640"/>
            <a:ext cx="1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3327480" y="1268280"/>
            <a:ext cx="5113440" cy="2413800"/>
            <a:chOff x="3327480" y="1268280"/>
            <a:chExt cx="5113440" cy="2413800"/>
          </a:xfrm>
        </p:grpSpPr>
        <p:sp>
          <p:nvSpPr>
            <p:cNvPr id="1622" name=""/>
            <p:cNvSpPr/>
            <p:nvPr/>
          </p:nvSpPr>
          <p:spPr>
            <a:xfrm>
              <a:off x="4403880" y="1268280"/>
              <a:ext cx="1766520" cy="10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r4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483080" y="1536840"/>
              <a:ext cx="196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813200" y="135900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324480" y="135900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576600" y="2563920"/>
              <a:ext cx="4864320" cy="111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f a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hif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leads to a stat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n which only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reduc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ctions 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ith the same production occur,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i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hif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can be replaced with a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hift-reduc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can be elimin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327480" y="187956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8" name=""/>
          <p:cNvGrpSpPr/>
          <p:nvPr/>
        </p:nvGrpSpPr>
        <p:grpSpPr>
          <a:xfrm>
            <a:off x="783360" y="3975120"/>
            <a:ext cx="4876560" cy="2667960"/>
            <a:chOff x="783360" y="3975120"/>
            <a:chExt cx="4876560" cy="2667960"/>
          </a:xfrm>
        </p:grpSpPr>
        <p:sp>
          <p:nvSpPr>
            <p:cNvPr id="1629" name=""/>
            <p:cNvSpPr/>
            <p:nvPr/>
          </p:nvSpPr>
          <p:spPr>
            <a:xfrm>
              <a:off x="783360" y="3975120"/>
              <a:ext cx="386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Modification in the parsing algorith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056600" y="4417920"/>
              <a:ext cx="4603320" cy="2225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witch (op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shift:   // shift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 = n; sym = Next();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shiftred:  // shiftred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or (int i = 0; i &lt; length[n]</a:t>
              </a: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 i++) Pop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ction[Top(), leftSide[n]]; n = a % 256;  // shift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 = n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BBDB-184C-41AA-90A1-059914237D6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Merging Row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898920" y="1217520"/>
            <a:ext cx="189468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r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977760" y="1486080"/>
            <a:ext cx="1930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308240" y="1308240"/>
            <a:ext cx="0" cy="11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2819520" y="1308240"/>
            <a:ext cx="0" cy="11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6" name=""/>
          <p:cNvGrpSpPr/>
          <p:nvPr/>
        </p:nvGrpSpPr>
        <p:grpSpPr>
          <a:xfrm>
            <a:off x="5127120" y="4102200"/>
            <a:ext cx="3957120" cy="2241720"/>
            <a:chOff x="5127120" y="4102200"/>
            <a:chExt cx="3957120" cy="2241720"/>
          </a:xfrm>
        </p:grpSpPr>
        <p:sp>
          <p:nvSpPr>
            <p:cNvPr id="1637" name=""/>
            <p:cNvSpPr/>
            <p:nvPr/>
          </p:nvSpPr>
          <p:spPr>
            <a:xfrm>
              <a:off x="5127120" y="4102200"/>
              <a:ext cx="39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Modifications in the parsing algorith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230080" y="4545000"/>
              <a:ext cx="2654280" cy="1798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itArray[] valid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ort[] ptr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ction[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ptr[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]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, sym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op = a / 256; n = a % 256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f (!valid[state][sym]) op = error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witch (op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9" name=""/>
          <p:cNvGrpSpPr/>
          <p:nvPr/>
        </p:nvGrpSpPr>
        <p:grpSpPr>
          <a:xfrm>
            <a:off x="882360" y="1217520"/>
            <a:ext cx="5658120" cy="1924920"/>
            <a:chOff x="882360" y="1217520"/>
            <a:chExt cx="5658120" cy="1924920"/>
          </a:xfrm>
        </p:grpSpPr>
        <p:sp>
          <p:nvSpPr>
            <p:cNvPr id="1640" name=""/>
            <p:cNvSpPr/>
            <p:nvPr/>
          </p:nvSpPr>
          <p:spPr>
            <a:xfrm>
              <a:off x="882360" y="2805120"/>
              <a:ext cx="4801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ows whose actions are not in conflict can be merg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531320" y="1217520"/>
              <a:ext cx="189468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r4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610160" y="1486080"/>
              <a:ext cx="19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940280" y="1308240"/>
              <a:ext cx="0" cy="12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451560" y="1308240"/>
              <a:ext cx="0" cy="12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137120" y="1531800"/>
              <a:ext cx="279720" cy="9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356000" y="1562040"/>
              <a:ext cx="190440" cy="16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432320" y="214632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432320" y="231156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V="1">
              <a:off x="4635360" y="1638360"/>
              <a:ext cx="0" cy="67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444920" y="163836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251160" y="1892160"/>
              <a:ext cx="584280" cy="228600"/>
            </a:xfrm>
            <a:prstGeom prst="rightArrow">
              <a:avLst>
                <a:gd name="adj1" fmla="val 50000"/>
                <a:gd name="adj2" fmla="val 6389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244040" y="125568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356000" y="1727280"/>
              <a:ext cx="190440" cy="16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356000" y="1892160"/>
              <a:ext cx="190440" cy="16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356000" y="2057400"/>
              <a:ext cx="190440" cy="16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356000" y="2222640"/>
              <a:ext cx="190440" cy="16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356000" y="2387520"/>
              <a:ext cx="190440" cy="16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073760" y="2284560"/>
              <a:ext cx="331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9" name=""/>
          <p:cNvSpPr/>
          <p:nvPr/>
        </p:nvSpPr>
        <p:spPr>
          <a:xfrm>
            <a:off x="882000" y="4430880"/>
            <a:ext cx="38826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 and NT actions should be merged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dependently (more chances for merging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same technique can also be used to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erge colum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urther compaction is possible, but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ecomes more and more expens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0" name=""/>
          <p:cNvGrpSpPr/>
          <p:nvPr/>
        </p:nvGrpSpPr>
        <p:grpSpPr>
          <a:xfrm>
            <a:off x="887760" y="1230480"/>
            <a:ext cx="7633800" cy="2511000"/>
            <a:chOff x="887760" y="1230480"/>
            <a:chExt cx="7633800" cy="2511000"/>
          </a:xfrm>
        </p:grpSpPr>
        <p:sp>
          <p:nvSpPr>
            <p:cNvPr id="1661" name=""/>
            <p:cNvSpPr/>
            <p:nvPr/>
          </p:nvSpPr>
          <p:spPr>
            <a:xfrm>
              <a:off x="6994800" y="1230480"/>
              <a:ext cx="1385640" cy="12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762120"/>
                  <a:tab algn="l" pos="105408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r" pos="190440"/>
                  <a:tab algn="l" pos="482760"/>
                  <a:tab algn="l" pos="762120"/>
                  <a:tab algn="l" pos="105408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r" pos="190440"/>
                  <a:tab algn="l" pos="482760"/>
                  <a:tab algn="l" pos="762120"/>
                  <a:tab algn="l" pos="105408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r" pos="190440"/>
                  <a:tab algn="l" pos="482760"/>
                  <a:tab algn="l" pos="762120"/>
                  <a:tab algn="l" pos="105408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r" pos="190440"/>
                  <a:tab algn="l" pos="482760"/>
                  <a:tab algn="l" pos="762120"/>
                  <a:tab algn="l" pos="105408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r" pos="190440"/>
                  <a:tab algn="l" pos="482760"/>
                  <a:tab algn="l" pos="762120"/>
                  <a:tab algn="l" pos="105408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074000" y="14986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404120" y="1320840"/>
              <a:ext cx="0" cy="11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8381880" y="1320840"/>
              <a:ext cx="0" cy="11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151760" y="2475000"/>
              <a:ext cx="120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vali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-Matri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87760" y="3110040"/>
              <a:ext cx="58240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eeds a pointer array in order to address the correct row indirect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eeds a bit matrix that tells which actions are valid in every stat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7EDE-C500-4AF2-B51F-4647BAB367F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73200" y="1193760"/>
            <a:ext cx="52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Original tabl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6 columns x 12 rows x 2 bytes =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144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by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013400" y="1560600"/>
            <a:ext cx="3427920" cy="26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092240" y="18288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422360" y="1650960"/>
            <a:ext cx="0" cy="256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933640" y="1650960"/>
            <a:ext cx="0" cy="256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75000" y="4368960"/>
            <a:ext cx="63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mbining shift and reduc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6 columns x 8 rows x 2 bytes =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96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by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013400" y="4748040"/>
            <a:ext cx="3388320" cy="19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r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092240" y="5016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422360" y="4838760"/>
            <a:ext cx="0" cy="173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2933640" y="4838760"/>
            <a:ext cx="0" cy="173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150E-651E-46B3-8BDC-86DF3594217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 (cont.)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71400" y="1244520"/>
            <a:ext cx="42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fter combining shift and reduc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96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by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1013400" y="1623960"/>
            <a:ext cx="3388320" cy="19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r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1092240" y="18921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1422360" y="1714680"/>
            <a:ext cx="0" cy="173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933640" y="1714680"/>
            <a:ext cx="0" cy="173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74640" y="3772080"/>
            <a:ext cx="6561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Merging row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3 columns * 6 rows * 2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+ 2 * 8 rows * 2 bytes + 8 * 1 byte = 36 + 32 + 8 =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76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by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1013040" y="4735440"/>
            <a:ext cx="208548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80880"/>
                <a:tab algn="l" pos="673200"/>
                <a:tab algn="l" pos="1143000"/>
                <a:tab algn="l" pos="1625760"/>
                <a:tab algn="l" pos="2197080"/>
                <a:tab algn="l" pos="26668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380880"/>
                <a:tab algn="l" pos="673200"/>
                <a:tab algn="l" pos="1143000"/>
                <a:tab algn="l" pos="1625760"/>
                <a:tab algn="l" pos="2197080"/>
                <a:tab algn="l" pos="26668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,3,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r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380880"/>
                <a:tab algn="l" pos="673200"/>
                <a:tab algn="l" pos="1143000"/>
                <a:tab algn="l" pos="1625760"/>
                <a:tab algn="l" pos="2197080"/>
                <a:tab algn="l" pos="26668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380880"/>
                <a:tab algn="l" pos="673200"/>
                <a:tab algn="l" pos="1143000"/>
                <a:tab algn="l" pos="1625760"/>
                <a:tab algn="l" pos="2197080"/>
                <a:tab algn="l" pos="26668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,7,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380880"/>
                <a:tab algn="l" pos="673200"/>
                <a:tab algn="l" pos="1143000"/>
                <a:tab algn="l" pos="1625760"/>
                <a:tab algn="l" pos="2197080"/>
                <a:tab algn="l" pos="26668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092240" y="5003640"/>
            <a:ext cx="204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1625760" y="4826160"/>
            <a:ext cx="0" cy="10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137040" y="4826160"/>
            <a:ext cx="0" cy="10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566160" y="4735440"/>
            <a:ext cx="205488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80880"/>
                <a:tab algn="l" pos="673200"/>
                <a:tab algn="l" pos="1143000"/>
                <a:tab algn="l" pos="1625760"/>
                <a:tab algn="l" pos="2197080"/>
                <a:tab algn="l" pos="26668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380880"/>
                <a:tab algn="l" pos="673200"/>
                <a:tab algn="l" pos="1143000"/>
                <a:tab algn="l" pos="1625760"/>
                <a:tab algn="l" pos="2197080"/>
                <a:tab algn="l" pos="26668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,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380880"/>
                <a:tab algn="l" pos="673200"/>
                <a:tab algn="l" pos="1143000"/>
                <a:tab algn="l" pos="1625760"/>
                <a:tab algn="l" pos="2197080"/>
                <a:tab algn="l" pos="26668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,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645000" y="5003640"/>
            <a:ext cx="20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4178160" y="4826160"/>
            <a:ext cx="0" cy="62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689440" y="4826160"/>
            <a:ext cx="0" cy="62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234120" y="4748040"/>
            <a:ext cx="1333800" cy="19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762120"/>
                <a:tab algn="l" pos="105408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190440"/>
                <a:tab algn="l" pos="482760"/>
                <a:tab algn="l" pos="762120"/>
                <a:tab algn="l" pos="105408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762120"/>
                <a:tab algn="l" pos="105408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762120"/>
                <a:tab algn="l" pos="105408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762120"/>
                <a:tab algn="l" pos="105408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762120"/>
                <a:tab algn="l" pos="105408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762120"/>
                <a:tab algn="l" pos="105408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762120"/>
                <a:tab algn="l" pos="105408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762120"/>
                <a:tab algn="l" pos="105408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311880" y="5016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6642000" y="4838760"/>
            <a:ext cx="0" cy="173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07160" y="4838760"/>
            <a:ext cx="0" cy="173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1561320" y="4392720"/>
            <a:ext cx="9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151520" y="439272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NT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641280" y="43927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04C7-E584-4B6F-B497-A3B30F25256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"/>
          <p:cNvSpPr/>
          <p:nvPr/>
        </p:nvSpPr>
        <p:spPr>
          <a:xfrm>
            <a:off x="1104840" y="4254480"/>
            <a:ext cx="5778720" cy="393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720360" y="1835280"/>
            <a:ext cx="506520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Bottom-up P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How a Bottom-up Parser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Table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Table Comp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Semantic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D143-EB17-4690-A72B-36C76692E4B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emantic Ac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709920" y="1244520"/>
            <a:ext cx="60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re only allowed at the end of a productio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i.e. when reduc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5" name=""/>
          <p:cNvGrpSpPr/>
          <p:nvPr/>
        </p:nvGrpSpPr>
        <p:grpSpPr>
          <a:xfrm>
            <a:off x="754200" y="1738440"/>
            <a:ext cx="7745760" cy="1581840"/>
            <a:chOff x="754200" y="1738440"/>
            <a:chExt cx="7745760" cy="1581840"/>
          </a:xfrm>
        </p:grpSpPr>
        <p:sp>
          <p:nvSpPr>
            <p:cNvPr id="1706" name=""/>
            <p:cNvSpPr/>
            <p:nvPr/>
          </p:nvSpPr>
          <p:spPr>
            <a:xfrm>
              <a:off x="755280" y="1738440"/>
              <a:ext cx="397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emantic actions in the middle of a pro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54200" y="2449440"/>
              <a:ext cx="286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ust be implemented as follow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159200" y="2119320"/>
              <a:ext cx="13237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 = a (. ... .) 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166760" y="2792520"/>
              <a:ext cx="1305000" cy="520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 = a Y 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Y = (. ... .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714040" y="2982960"/>
              <a:ext cx="578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mpty production; when it is reduced the semantic action is exec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>
              <a:off x="2184120" y="316224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2" name=""/>
          <p:cNvGrpSpPr/>
          <p:nvPr/>
        </p:nvGrpSpPr>
        <p:grpSpPr>
          <a:xfrm>
            <a:off x="752400" y="3632040"/>
            <a:ext cx="4255920" cy="1176480"/>
            <a:chOff x="752400" y="3632040"/>
            <a:chExt cx="4255920" cy="1176480"/>
          </a:xfrm>
        </p:grpSpPr>
        <p:sp>
          <p:nvSpPr>
            <p:cNvPr id="1713" name=""/>
            <p:cNvSpPr/>
            <p:nvPr/>
          </p:nvSpPr>
          <p:spPr>
            <a:xfrm>
              <a:off x="752400" y="3632040"/>
              <a:ext cx="425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Problem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 this can destroy the LALR(1)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166760" y="4075200"/>
              <a:ext cx="148284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 = a b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 = a (. ... .) b 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728800" y="4049640"/>
              <a:ext cx="1377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FG would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ALR(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748080" y="4075200"/>
            <a:ext cx="8254800" cy="2629440"/>
            <a:chOff x="748080" y="4075200"/>
            <a:chExt cx="8254800" cy="2629440"/>
          </a:xfrm>
        </p:grpSpPr>
        <p:sp>
          <p:nvSpPr>
            <p:cNvPr id="1717" name=""/>
            <p:cNvSpPr/>
            <p:nvPr/>
          </p:nvSpPr>
          <p:spPr>
            <a:xfrm>
              <a:off x="4076640" y="4267080"/>
              <a:ext cx="711360" cy="241560"/>
            </a:xfrm>
            <a:prstGeom prst="rightArrow">
              <a:avLst>
                <a:gd name="adj1" fmla="val 50000"/>
                <a:gd name="adj2" fmla="val 7362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167440" y="4075200"/>
              <a:ext cx="1482480" cy="733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 = a b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 = a Y b 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Y = (. ... .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48080" y="4913280"/>
              <a:ext cx="157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able gen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72560" y="5299200"/>
              <a:ext cx="376056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X = a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b c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#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X = a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Y b d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 #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Y=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Y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+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521240" y="5321160"/>
              <a:ext cx="88920" cy="43200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11160 h 432000"/>
                <a:gd name="textAreaBottom" fmla="*/ 4208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652640" y="5357880"/>
              <a:ext cx="190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shift-reduce confli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651200" y="5637240"/>
              <a:ext cx="4351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ason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 the parser cannot work on both produ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parallel any more, but must decide on one of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wo productions (i.e. whether to execute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emantic action or not)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DFE-A60D-47F0-BDDD-D4C4366F723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ttribut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07400" y="1332000"/>
            <a:ext cx="7191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very symbol ha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output attribute (possibly an object with multiple fiel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enever a symbol has been recognized its attribute is pushed on a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emantics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6" name=""/>
          <p:cNvGrpSpPr/>
          <p:nvPr/>
        </p:nvGrpSpPr>
        <p:grpSpPr>
          <a:xfrm>
            <a:off x="735120" y="2260440"/>
            <a:ext cx="6197400" cy="1442160"/>
            <a:chOff x="735120" y="2260440"/>
            <a:chExt cx="6197400" cy="1442160"/>
          </a:xfrm>
        </p:grpSpPr>
        <p:sp>
          <p:nvSpPr>
            <p:cNvPr id="1727" name=""/>
            <p:cNvSpPr/>
            <p:nvPr/>
          </p:nvSpPr>
          <p:spPr>
            <a:xfrm>
              <a:off x="735120" y="226044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005480" y="2843280"/>
              <a:ext cx="172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      = Term    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378080" y="2963880"/>
              <a:ext cx="33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266920" y="2963880"/>
              <a:ext cx="33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008360" y="3274920"/>
              <a:ext cx="592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6880"/>
                  <a:tab algn="l" pos="4863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      = Expr     "+" Term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push(pop() + pop(); .)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x = x + y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378080" y="3395520"/>
              <a:ext cx="33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216160" y="3395520"/>
              <a:ext cx="33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130560" y="3395520"/>
              <a:ext cx="33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5" name=""/>
          <p:cNvGrpSpPr/>
          <p:nvPr/>
        </p:nvGrpSpPr>
        <p:grpSpPr>
          <a:xfrm>
            <a:off x="1004400" y="3706920"/>
            <a:ext cx="5894640" cy="834120"/>
            <a:chOff x="1004400" y="3706920"/>
            <a:chExt cx="5894640" cy="834120"/>
          </a:xfrm>
        </p:grpSpPr>
        <p:sp>
          <p:nvSpPr>
            <p:cNvPr id="1736" name=""/>
            <p:cNvSpPr/>
            <p:nvPr/>
          </p:nvSpPr>
          <p:spPr>
            <a:xfrm>
              <a:off x="1004400" y="3706920"/>
              <a:ext cx="18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      = Factor    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467000" y="3827520"/>
              <a:ext cx="33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406600" y="3827520"/>
              <a:ext cx="33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008360" y="4113360"/>
              <a:ext cx="589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6880"/>
                  <a:tab algn="l" pos="4863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      = Term     "*" Fact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push(pop() * pop(); .)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x = x * y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467000" y="4233960"/>
              <a:ext cx="33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330640" y="4233960"/>
              <a:ext cx="33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321000" y="4233960"/>
              <a:ext cx="33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3" name=""/>
          <p:cNvGrpSpPr/>
          <p:nvPr/>
        </p:nvGrpSpPr>
        <p:grpSpPr>
          <a:xfrm>
            <a:off x="1001880" y="4557600"/>
            <a:ext cx="4874760" cy="834120"/>
            <a:chOff x="1001880" y="4557600"/>
            <a:chExt cx="4874760" cy="834120"/>
          </a:xfrm>
        </p:grpSpPr>
        <p:sp>
          <p:nvSpPr>
            <p:cNvPr id="1744" name=""/>
            <p:cNvSpPr/>
            <p:nvPr/>
          </p:nvSpPr>
          <p:spPr>
            <a:xfrm>
              <a:off x="1002240" y="4557600"/>
              <a:ext cx="48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6880"/>
                  <a:tab algn="l" pos="4863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      = cons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t = pop(); push(t.val); .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542960" y="4678200"/>
              <a:ext cx="33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444760" y="4678200"/>
              <a:ext cx="29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001880" y="4964040"/>
              <a:ext cx="22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6880"/>
                  <a:tab algn="l" pos="4863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      = "(" Expr     ")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542960" y="5084640"/>
              <a:ext cx="33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584440" y="5084640"/>
              <a:ext cx="33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AD71-A118-4C85-99C5-828A5713D3C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Modifications in the Pars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70680" y="12574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roduction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911880" y="1712880"/>
            <a:ext cx="223236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10540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eftSid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91960"/>
                <a:tab algn="l" pos="10540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10540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10540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10540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10540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10540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193760" y="1790640"/>
            <a:ext cx="0" cy="14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977760" y="1981080"/>
            <a:ext cx="210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5" name=""/>
          <p:cNvGrpSpPr/>
          <p:nvPr/>
        </p:nvGrpSpPr>
        <p:grpSpPr>
          <a:xfrm>
            <a:off x="4442760" y="1257480"/>
            <a:ext cx="4589640" cy="2661840"/>
            <a:chOff x="4442760" y="1257480"/>
            <a:chExt cx="4589640" cy="2661840"/>
          </a:xfrm>
        </p:grpSpPr>
        <p:sp>
          <p:nvSpPr>
            <p:cNvPr id="1756" name=""/>
            <p:cNvSpPr/>
            <p:nvPr/>
          </p:nvSpPr>
          <p:spPr>
            <a:xfrm>
              <a:off x="4442760" y="1257480"/>
              <a:ext cx="215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emantics evalu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515840" y="1674720"/>
              <a:ext cx="3978360" cy="1585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emActio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int n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witch (n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1: Push(Pop() + Pop());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2: Push(Pop() * Pop());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3: Token t = Pop(); Push(t.val);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467240" y="3338640"/>
              <a:ext cx="4565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Variables occurring in multiple semantic actions mu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e declared global (problems with recursive NTS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4443120" y="4229280"/>
            <a:ext cx="3510720" cy="2216160"/>
            <a:chOff x="4443120" y="4229280"/>
            <a:chExt cx="3510720" cy="2216160"/>
          </a:xfrm>
        </p:grpSpPr>
        <p:sp>
          <p:nvSpPr>
            <p:cNvPr id="1760" name=""/>
            <p:cNvSpPr/>
            <p:nvPr/>
          </p:nvSpPr>
          <p:spPr>
            <a:xfrm>
              <a:off x="4443120" y="4229280"/>
              <a:ext cx="82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518000" y="4646520"/>
              <a:ext cx="3435840" cy="1798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witch(op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reduce:  // red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f (sem[n] != 0) SemAction(sem[n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or (int i = 0; i &lt; length[n]; i++) Pop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A6A5-2340-4396-9B8E-F8791719B02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put Attribut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734760" y="1332000"/>
            <a:ext cx="565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an be implemented as semantic actions with attribute assign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1081800" y="1808280"/>
            <a:ext cx="133488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a Y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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v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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w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= ..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725400" y="251316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an be written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1056960" y="2919240"/>
            <a:ext cx="18140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a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w = v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Y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Y  = ..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29000" y="3567240"/>
            <a:ext cx="49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ut this can destroy the LALR(1) property as we have s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8" name=""/>
          <p:cNvGrpSpPr/>
          <p:nvPr/>
        </p:nvGrpSpPr>
        <p:grpSpPr>
          <a:xfrm>
            <a:off x="721440" y="4317840"/>
            <a:ext cx="6854040" cy="1330560"/>
            <a:chOff x="721440" y="4317840"/>
            <a:chExt cx="6854040" cy="1330560"/>
          </a:xfrm>
        </p:grpSpPr>
        <p:sp>
          <p:nvSpPr>
            <p:cNvPr id="1769" name=""/>
            <p:cNvSpPr/>
            <p:nvPr/>
          </p:nvSpPr>
          <p:spPr>
            <a:xfrm>
              <a:off x="721440" y="4317840"/>
              <a:ext cx="116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heref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38000" y="4773600"/>
              <a:ext cx="683748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practice LALR(1) parsers build a syntax tree (this can be implemented easily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ith output attributes and semantic actions at the end of productions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emantic processing is then done on the syntax tre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4E2B-9412-4F50-9E90-FE15EA9227C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Using a Stack for Parsing (cont.)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320" y="1295280"/>
            <a:ext cx="373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What does the parser need to know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6680" y="1636560"/>
            <a:ext cx="589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oes the stack end contain something that can be reduc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o which NTS should it be reduc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hould the parser shift or reduce in order not to get into a dead e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80240" y="1790640"/>
            <a:ext cx="698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63680" y="176364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b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6261120" y="1485360"/>
            <a:ext cx="127080" cy="381240"/>
          </a:xfrm>
          <a:custGeom>
            <a:avLst/>
            <a:gdLst>
              <a:gd name="textAreaLeft" fmla="*/ 0 w 127080"/>
              <a:gd name="textAreaRight" fmla="*/ 45720 w 1270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96320" y="13572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90520" y="17254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71040" y="2793960"/>
            <a:ext cx="5866200" cy="1497600"/>
            <a:chOff x="671040" y="2793960"/>
            <a:chExt cx="5866200" cy="1497600"/>
          </a:xfrm>
        </p:grpSpPr>
        <p:sp>
          <p:nvSpPr>
            <p:cNvPr id="183" name=""/>
            <p:cNvSpPr/>
            <p:nvPr/>
          </p:nvSpPr>
          <p:spPr>
            <a:xfrm>
              <a:off x="671040" y="2793960"/>
              <a:ext cx="22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Four parsing a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57240" y="3224160"/>
              <a:ext cx="5580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shif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ad and push next input token (T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reduc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duce the end of a stack to a 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entence recognized (only if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. #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one of the above actions is possible (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error handli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46640" y="4722840"/>
            <a:ext cx="7199640" cy="1774440"/>
            <a:chOff x="746640" y="4722840"/>
            <a:chExt cx="7199640" cy="1774440"/>
          </a:xfrm>
        </p:grpSpPr>
        <p:sp>
          <p:nvSpPr>
            <p:cNvPr id="186" name=""/>
            <p:cNvSpPr/>
            <p:nvPr/>
          </p:nvSpPr>
          <p:spPr>
            <a:xfrm>
              <a:off x="746640" y="4722840"/>
              <a:ext cx="668196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ottom-up parsers are therefore call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Shift-reduce pars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LR parsers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y recognize sentences from </a:t>
              </a:r>
              <a:r>
                <a:rPr b="1" lang="de-AT" sz="16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ft to right using </a:t>
              </a:r>
              <a:r>
                <a:rPr b="1" lang="de-AT" sz="1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ght-canonical deriv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49320" y="5916600"/>
              <a:ext cx="4530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ight-canonical derivation = left-canonical re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.e. the leftmost simple phrase (th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handl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is redu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74960" y="6221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54320" y="6221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21080" y="6221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00440" y="6221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67200" y="6221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46560" y="6221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6527880" y="6082920"/>
              <a:ext cx="0" cy="15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75320" y="58784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57E2-712B-4562-A1AC-9EF8B54353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/>
          <p:nvPr/>
        </p:nvSpPr>
        <p:spPr>
          <a:xfrm>
            <a:off x="1104840" y="4686480"/>
            <a:ext cx="5778720" cy="3934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20360" y="1835280"/>
            <a:ext cx="506520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Bottom-up P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How a Bottom-up Parser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Table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R Table Comp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emantic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7.6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LR 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4254-D220-48D8-98F5-FD7ABF5A493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dea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82920" y="129528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ituation when an error occ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1130760" y="1738440"/>
            <a:ext cx="1575360" cy="33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 s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t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 rot="5400000">
            <a:off x="1472760" y="1778040"/>
            <a:ext cx="88920" cy="622440"/>
          </a:xfrm>
          <a:custGeom>
            <a:avLst/>
            <a:gdLst>
              <a:gd name="textAreaLeft" fmla="*/ 0 w 88920"/>
              <a:gd name="textAreaRight" fmla="*/ 32040 w 88920"/>
              <a:gd name="textAreaTop" fmla="*/ 16200 h 622440"/>
              <a:gd name="textAreaBottom" fmla="*/ 606240 h 62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rot="5400000">
            <a:off x="2266560" y="1797120"/>
            <a:ext cx="88920" cy="584280"/>
          </a:xfrm>
          <a:custGeom>
            <a:avLst/>
            <a:gdLst>
              <a:gd name="textAreaLeft" fmla="*/ 0 w 88920"/>
              <a:gd name="textAreaRight" fmla="*/ 32040 w 88920"/>
              <a:gd name="textAreaTop" fmla="*/ 15120 h 584280"/>
              <a:gd name="textAreaBottom" fmla="*/ 569160 h 5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1218240" y="209376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2043000" y="2093760"/>
            <a:ext cx="59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1" name=""/>
          <p:cNvGrpSpPr/>
          <p:nvPr/>
        </p:nvGrpSpPr>
        <p:grpSpPr>
          <a:xfrm>
            <a:off x="689400" y="2692440"/>
            <a:ext cx="5004360" cy="1232640"/>
            <a:chOff x="689400" y="2692440"/>
            <a:chExt cx="5004360" cy="1232640"/>
          </a:xfrm>
        </p:grpSpPr>
        <p:sp>
          <p:nvSpPr>
            <p:cNvPr id="1782" name=""/>
            <p:cNvSpPr/>
            <p:nvPr/>
          </p:nvSpPr>
          <p:spPr>
            <a:xfrm>
              <a:off x="689400" y="2692440"/>
              <a:ext cx="50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Goal: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synchronize the stack and the input so that we hav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127520" y="3160800"/>
              <a:ext cx="1505520" cy="336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de-AT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 s</a:t>
              </a:r>
              <a:r>
                <a:rPr b="0" lang="de-AT" sz="1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 t</a:t>
              </a:r>
              <a:r>
                <a:rPr b="0" lang="de-AT" sz="14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t</a:t>
              </a:r>
              <a:r>
                <a:rPr b="0" lang="de-AT" sz="14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93720" y="3554280"/>
              <a:ext cx="1930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nd t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s accepted in s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5" name=""/>
          <p:cNvGrpSpPr/>
          <p:nvPr/>
        </p:nvGrpSpPr>
        <p:grpSpPr>
          <a:xfrm>
            <a:off x="722160" y="4241880"/>
            <a:ext cx="2300400" cy="1080000"/>
            <a:chOff x="722160" y="4241880"/>
            <a:chExt cx="2300400" cy="1080000"/>
          </a:xfrm>
        </p:grpSpPr>
        <p:sp>
          <p:nvSpPr>
            <p:cNvPr id="1786" name=""/>
            <p:cNvSpPr/>
            <p:nvPr/>
          </p:nvSpPr>
          <p:spPr>
            <a:xfrm>
              <a:off x="722160" y="424188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61760" y="4697280"/>
              <a:ext cx="184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ush or pop st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270080" y="5118120"/>
              <a:ext cx="114120" cy="114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486080" y="5118120"/>
              <a:ext cx="114120" cy="114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689120" y="5118120"/>
              <a:ext cx="114120" cy="114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892160" y="5118120"/>
              <a:ext cx="114480" cy="114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286000" y="5118120"/>
              <a:ext cx="114480" cy="1141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502000" y="5118120"/>
              <a:ext cx="114120" cy="1141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705040" y="5118120"/>
              <a:ext cx="114480" cy="1141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908440" y="5118120"/>
              <a:ext cx="114120" cy="1141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017440" y="501480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7" name=""/>
          <p:cNvGrpSpPr/>
          <p:nvPr/>
        </p:nvGrpSpPr>
        <p:grpSpPr>
          <a:xfrm>
            <a:off x="1066680" y="5040360"/>
            <a:ext cx="1955880" cy="510120"/>
            <a:chOff x="1066680" y="5040360"/>
            <a:chExt cx="1955880" cy="510120"/>
          </a:xfrm>
        </p:grpSpPr>
        <p:sp>
          <p:nvSpPr>
            <p:cNvPr id="1798" name=""/>
            <p:cNvSpPr/>
            <p:nvPr/>
          </p:nvSpPr>
          <p:spPr>
            <a:xfrm>
              <a:off x="1270080" y="5346720"/>
              <a:ext cx="114120" cy="114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486080" y="5346720"/>
              <a:ext cx="114120" cy="114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689120" y="5346720"/>
              <a:ext cx="11412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892160" y="5346720"/>
              <a:ext cx="11448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286000" y="5346720"/>
              <a:ext cx="114480" cy="1141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502000" y="5346720"/>
              <a:ext cx="114120" cy="1141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705040" y="5346720"/>
              <a:ext cx="114480" cy="1141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908440" y="5346720"/>
              <a:ext cx="114120" cy="1141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017440" y="524340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066680" y="5346720"/>
              <a:ext cx="114480" cy="114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839960" y="50403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030760" y="50403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0" name=""/>
          <p:cNvGrpSpPr/>
          <p:nvPr/>
        </p:nvGrpSpPr>
        <p:grpSpPr>
          <a:xfrm>
            <a:off x="770400" y="5675400"/>
            <a:ext cx="5107680" cy="611640"/>
            <a:chOff x="770400" y="5675400"/>
            <a:chExt cx="5107680" cy="611640"/>
          </a:xfrm>
        </p:grpSpPr>
        <p:sp>
          <p:nvSpPr>
            <p:cNvPr id="1811" name=""/>
            <p:cNvSpPr/>
            <p:nvPr/>
          </p:nvSpPr>
          <p:spPr>
            <a:xfrm>
              <a:off x="770400" y="5675400"/>
              <a:ext cx="510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sert or delete tokens at the beginning of the input str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270080" y="6083280"/>
              <a:ext cx="114120" cy="114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486080" y="6083280"/>
              <a:ext cx="114120" cy="114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689120" y="608328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892160" y="608328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286000" y="6083280"/>
              <a:ext cx="114480" cy="1144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502000" y="6083280"/>
              <a:ext cx="114120" cy="1144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705040" y="6083280"/>
              <a:ext cx="114480" cy="1144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2908440" y="6083280"/>
              <a:ext cx="114120" cy="1144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2017440" y="597996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066680" y="6083280"/>
              <a:ext cx="114480" cy="114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2" name=""/>
          <p:cNvGrpSpPr/>
          <p:nvPr/>
        </p:nvGrpSpPr>
        <p:grpSpPr>
          <a:xfrm>
            <a:off x="1066680" y="6005520"/>
            <a:ext cx="1752840" cy="523080"/>
            <a:chOff x="1066680" y="6005520"/>
            <a:chExt cx="1752840" cy="523080"/>
          </a:xfrm>
        </p:grpSpPr>
        <p:sp>
          <p:nvSpPr>
            <p:cNvPr id="1823" name=""/>
            <p:cNvSpPr/>
            <p:nvPr/>
          </p:nvSpPr>
          <p:spPr>
            <a:xfrm>
              <a:off x="1270080" y="6324480"/>
              <a:ext cx="114120" cy="114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486080" y="6324480"/>
              <a:ext cx="114120" cy="114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689120" y="632448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892160" y="632448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286000" y="6324480"/>
              <a:ext cx="114480" cy="1144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502000" y="6324480"/>
              <a:ext cx="114120" cy="1144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705040" y="6324480"/>
              <a:ext cx="114480" cy="1144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017440" y="622152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066680" y="6324480"/>
              <a:ext cx="114480" cy="114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208600" y="60055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614680" y="60055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B56E-8181-433F-A345-D66E99C726A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lgorithm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95520" y="1371600"/>
            <a:ext cx="24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earch escape ro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1026720" y="1725480"/>
            <a:ext cx="6598440" cy="12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..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with a virtual input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..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which drives the parser from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error stat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nto a final state as quickly as possi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ile parsing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..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collect all tokens which are valid in the traversed state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ch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7" name=""/>
          <p:cNvGrpSpPr/>
          <p:nvPr/>
        </p:nvGrpSpPr>
        <p:grpSpPr>
          <a:xfrm>
            <a:off x="695880" y="3060720"/>
            <a:ext cx="6903000" cy="724680"/>
            <a:chOff x="695880" y="3060720"/>
            <a:chExt cx="6903000" cy="724680"/>
          </a:xfrm>
        </p:grpSpPr>
        <p:sp>
          <p:nvSpPr>
            <p:cNvPr id="1838" name=""/>
            <p:cNvSpPr/>
            <p:nvPr/>
          </p:nvSpPr>
          <p:spPr>
            <a:xfrm>
              <a:off x="695880" y="3060720"/>
              <a:ext cx="250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elete invalid toke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028880" y="3414600"/>
              <a:ext cx="6570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kip tokens from the input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..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until a toke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occurs, which is an anch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0" name=""/>
          <p:cNvGrpSpPr/>
          <p:nvPr/>
        </p:nvGrpSpPr>
        <p:grpSpPr>
          <a:xfrm>
            <a:off x="697320" y="4013280"/>
            <a:ext cx="7562880" cy="1052280"/>
            <a:chOff x="697320" y="4013280"/>
            <a:chExt cx="7562880" cy="1052280"/>
          </a:xfrm>
        </p:grpSpPr>
        <p:sp>
          <p:nvSpPr>
            <p:cNvPr id="1841" name=""/>
            <p:cNvSpPr/>
            <p:nvPr/>
          </p:nvSpPr>
          <p:spPr>
            <a:xfrm>
              <a:off x="697320" y="4013280"/>
              <a:ext cx="254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nsert missing toke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041120" y="4367160"/>
              <a:ext cx="72190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rive the parser from s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with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..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until it gets into a state s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n which t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s accep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sert all "read" virtual tokens from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..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nto the input in front of t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457B-01A1-46A9-9352-06959841E1C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774720" y="15876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848520" y="1620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473120" y="15876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546920" y="1620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1003320" y="1701720"/>
            <a:ext cx="4446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1166040" y="1506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727280" y="1701720"/>
            <a:ext cx="457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1864440" y="1506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2184480" y="15876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2258280" y="1620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2438280" y="1701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2895480" y="1600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2563560" y="15066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2969280" y="1620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184920" y="1620720"/>
            <a:ext cx="52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 =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1473120" y="2171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1546920" y="2205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888840" y="228600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1166040" y="2090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172728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1864440" y="2090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2258280" y="2205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243828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184480" y="21844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2563560" y="20908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2917800" y="22050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2067480" y="2433600"/>
            <a:ext cx="46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 =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2895480" y="2171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14964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3274200" y="2090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629160" y="22050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3606840" y="2171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3909960" y="2179800"/>
            <a:ext cx="1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1473120" y="275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546920" y="2789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888840" y="287028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1166040" y="2674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1727280" y="2870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1864440" y="2674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2184480" y="2768760"/>
            <a:ext cx="571320" cy="2538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2321280" y="2801880"/>
            <a:ext cx="29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2298600" y="125748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2562840" y="1062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2969280" y="117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2895480" y="11430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3149640" y="1257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3274200" y="1062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680640" y="117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606840" y="11430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3909960" y="1150920"/>
            <a:ext cx="1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flipV="1">
            <a:off x="2298600" y="125712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888840" y="1816200"/>
            <a:ext cx="0" cy="10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4799520" y="157320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5647320" y="1598760"/>
            <a:ext cx="7279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a 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8" name=""/>
          <p:cNvGrpSpPr/>
          <p:nvPr/>
        </p:nvGrpSpPr>
        <p:grpSpPr>
          <a:xfrm>
            <a:off x="784440" y="3301920"/>
            <a:ext cx="2397600" cy="1816920"/>
            <a:chOff x="784440" y="3301920"/>
            <a:chExt cx="2397600" cy="1816920"/>
          </a:xfrm>
        </p:grpSpPr>
        <p:sp>
          <p:nvSpPr>
            <p:cNvPr id="1899" name=""/>
            <p:cNvSpPr/>
            <p:nvPr/>
          </p:nvSpPr>
          <p:spPr>
            <a:xfrm>
              <a:off x="1067400" y="3656160"/>
              <a:ext cx="123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virtual input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612520" y="368136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 b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066320" y="3986280"/>
              <a:ext cx="86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nchor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311560" y="403848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385360" y="4071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311560" y="43052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85360" y="4338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11560" y="45720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85360" y="4605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311560" y="483876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385360" y="48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612880" y="4011480"/>
              <a:ext cx="47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,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614680" y="4278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614320" y="453240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614680" y="4811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784440" y="3301920"/>
              <a:ext cx="21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earch escape ro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785160" y="5143680"/>
            <a:ext cx="2693160" cy="1203120"/>
            <a:chOff x="785160" y="5143680"/>
            <a:chExt cx="2693160" cy="1203120"/>
          </a:xfrm>
        </p:grpSpPr>
        <p:sp>
          <p:nvSpPr>
            <p:cNvPr id="1916" name=""/>
            <p:cNvSpPr/>
            <p:nvPr/>
          </p:nvSpPr>
          <p:spPr>
            <a:xfrm>
              <a:off x="785160" y="5143680"/>
              <a:ext cx="227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elete missing toke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066320" y="5522760"/>
              <a:ext cx="2412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othing is skipped beca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next input toke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s already an anch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8" name=""/>
          <p:cNvGrpSpPr/>
          <p:nvPr/>
        </p:nvGrpSpPr>
        <p:grpSpPr>
          <a:xfrm>
            <a:off x="4405680" y="3314880"/>
            <a:ext cx="3587760" cy="1135800"/>
            <a:chOff x="4405680" y="3314880"/>
            <a:chExt cx="3587760" cy="1135800"/>
          </a:xfrm>
        </p:grpSpPr>
        <p:sp>
          <p:nvSpPr>
            <p:cNvPr id="1919" name=""/>
            <p:cNvSpPr/>
            <p:nvPr/>
          </p:nvSpPr>
          <p:spPr>
            <a:xfrm>
              <a:off x="4405680" y="3314880"/>
              <a:ext cx="225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nsert missing toke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719240" y="3719520"/>
              <a:ext cx="327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sert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 c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in order to get to       and      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896160" y="3784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69960" y="3805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7569360" y="378468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7643160" y="3817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716360" y="4113360"/>
              <a:ext cx="319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      the parser can continue with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29200" y="417816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03000" y="421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8" name=""/>
          <p:cNvGrpSpPr/>
          <p:nvPr/>
        </p:nvGrpSpPr>
        <p:grpSpPr>
          <a:xfrm>
            <a:off x="4404960" y="5156280"/>
            <a:ext cx="1750320" cy="737280"/>
            <a:chOff x="4404960" y="5156280"/>
            <a:chExt cx="1750320" cy="737280"/>
          </a:xfrm>
        </p:grpSpPr>
        <p:sp>
          <p:nvSpPr>
            <p:cNvPr id="1929" name=""/>
            <p:cNvSpPr/>
            <p:nvPr/>
          </p:nvSpPr>
          <p:spPr>
            <a:xfrm>
              <a:off x="4770000" y="5586480"/>
              <a:ext cx="8773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a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404960" y="5156280"/>
              <a:ext cx="175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orrected 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9353-04DB-4814-BB28-760F266BE1A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rror Messag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694080" y="1434960"/>
            <a:ext cx="49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ey simply report what was inserted or 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757080" y="1967040"/>
            <a:ext cx="428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the token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were deleted from the inp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229400" y="2398680"/>
            <a:ext cx="24926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ine ... col ... :  "a b c" dele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756000" y="3033720"/>
            <a:ext cx="404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the token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x, y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were inserted into the inp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1229760" y="3465360"/>
            <a:ext cx="23842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ine ... col ... :  "x y" inser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59240" y="4138560"/>
            <a:ext cx="57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the token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were deleted and the token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were insert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1225440" y="4570560"/>
            <a:ext cx="32392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ine ... col ... :  "a b c" replaced by "x y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B1B1-CBBF-4286-85E3-6C9FCFFD5F1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nother Example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With a Parser Simulation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372400" y="1230480"/>
            <a:ext cx="4147200" cy="26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u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2451240" y="1498680"/>
            <a:ext cx="402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2781360" y="1320840"/>
            <a:ext cx="0" cy="256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4292640" y="1320840"/>
            <a:ext cx="0" cy="256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708840" y="125568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708120" y="1649520"/>
            <a:ext cx="1252800" cy="15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' = S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S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 b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881760" y="1255680"/>
            <a:ext cx="14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rroneous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7119360" y="1649520"/>
            <a:ext cx="8773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a a b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90320" y="4710240"/>
            <a:ext cx="2783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673200"/>
                <a:tab algn="l" pos="8636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a a 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8636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a 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8636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1 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- error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9" name=""/>
          <p:cNvGrpSpPr/>
          <p:nvPr/>
        </p:nvGrpSpPr>
        <p:grpSpPr>
          <a:xfrm>
            <a:off x="722160" y="4102200"/>
            <a:ext cx="2468160" cy="666000"/>
            <a:chOff x="722160" y="4102200"/>
            <a:chExt cx="2468160" cy="666000"/>
          </a:xfrm>
        </p:grpSpPr>
        <p:sp>
          <p:nvSpPr>
            <p:cNvPr id="1950" name=""/>
            <p:cNvSpPr/>
            <p:nvPr/>
          </p:nvSpPr>
          <p:spPr>
            <a:xfrm>
              <a:off x="722160" y="41022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tart of pars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735840" y="44308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382760" y="4430880"/>
              <a:ext cx="59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500560" y="4430880"/>
              <a:ext cx="68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4" name=""/>
          <p:cNvSpPr/>
          <p:nvPr/>
        </p:nvSpPr>
        <p:spPr>
          <a:xfrm>
            <a:off x="3932640" y="4710240"/>
            <a:ext cx="3155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673200"/>
                <a:tab algn="l" pos="952560"/>
                <a:tab algn="l" pos="16257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1 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952560"/>
                <a:tab algn="l" pos="16257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1 4 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4, s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952560"/>
                <a:tab algn="l" pos="16257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952560"/>
                <a:tab algn="l" pos="16257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 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, s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, b,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952560"/>
                <a:tab algn="l" pos="16257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 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, s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,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952560"/>
                <a:tab algn="l" pos="16257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,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5816520" y="1320840"/>
            <a:ext cx="0" cy="256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6503040" y="2843280"/>
            <a:ext cx="1963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very state h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"guide symbol"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e will explain l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ow this is compu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 flipH="1" flipV="1">
            <a:off x="6184440" y="2514240"/>
            <a:ext cx="368280" cy="368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8" name=""/>
          <p:cNvGrpSpPr/>
          <p:nvPr/>
        </p:nvGrpSpPr>
        <p:grpSpPr>
          <a:xfrm>
            <a:off x="4173840" y="4102200"/>
            <a:ext cx="4066920" cy="666000"/>
            <a:chOff x="4173840" y="4102200"/>
            <a:chExt cx="4066920" cy="666000"/>
          </a:xfrm>
        </p:grpSpPr>
        <p:sp>
          <p:nvSpPr>
            <p:cNvPr id="1959" name=""/>
            <p:cNvSpPr/>
            <p:nvPr/>
          </p:nvSpPr>
          <p:spPr>
            <a:xfrm>
              <a:off x="4173840" y="4102200"/>
              <a:ext cx="40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earch escape route and collect anch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4177440" y="44308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4824360" y="4430880"/>
              <a:ext cx="63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gui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447160" y="4430880"/>
              <a:ext cx="68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6246360" y="4430880"/>
              <a:ext cx="83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nch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4" name=""/>
          <p:cNvSpPr/>
          <p:nvPr/>
        </p:nvSpPr>
        <p:spPr>
          <a:xfrm>
            <a:off x="6221880" y="6183360"/>
            <a:ext cx="173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chors = {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#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F815-1A70-4901-8320-3E091606591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cont.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2372400" y="1230480"/>
            <a:ext cx="4147200" cy="24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u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451240" y="1498680"/>
            <a:ext cx="402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2781360" y="1320840"/>
            <a:ext cx="0" cy="229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292640" y="1320840"/>
            <a:ext cx="0" cy="229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708840" y="125568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708120" y="1649520"/>
            <a:ext cx="1252800" cy="15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' = S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S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 b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633960" y="37846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kip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5816520" y="1320840"/>
            <a:ext cx="0" cy="229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649080" y="4113360"/>
            <a:ext cx="423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othing is skipped because the next input toke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s already in the anchor set {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#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04640" y="5408640"/>
            <a:ext cx="275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673200"/>
                <a:tab algn="l" pos="952560"/>
                <a:tab algn="l" pos="16257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1 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952560"/>
                <a:tab algn="l" pos="16257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1 4 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4, 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952560"/>
                <a:tab algn="l" pos="16257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952560"/>
                <a:tab algn="l" pos="162576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 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6" name=""/>
          <p:cNvGrpSpPr/>
          <p:nvPr/>
        </p:nvGrpSpPr>
        <p:grpSpPr>
          <a:xfrm>
            <a:off x="633600" y="4826160"/>
            <a:ext cx="2919600" cy="640440"/>
            <a:chOff x="633600" y="4826160"/>
            <a:chExt cx="2919600" cy="640440"/>
          </a:xfrm>
        </p:grpSpPr>
        <p:sp>
          <p:nvSpPr>
            <p:cNvPr id="1977" name=""/>
            <p:cNvSpPr/>
            <p:nvPr/>
          </p:nvSpPr>
          <p:spPr>
            <a:xfrm>
              <a:off x="633600" y="4826160"/>
              <a:ext cx="225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nsert missing toke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646920" y="51292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293840" y="5129280"/>
              <a:ext cx="63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gui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916640" y="5129280"/>
              <a:ext cx="68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2717280" y="5129280"/>
              <a:ext cx="83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ser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2" name=""/>
          <p:cNvSpPr/>
          <p:nvPr/>
        </p:nvSpPr>
        <p:spPr>
          <a:xfrm>
            <a:off x="636480" y="642456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ere we can continue with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3124080" y="5396040"/>
            <a:ext cx="4536000" cy="337320"/>
            <a:chOff x="3124080" y="5396040"/>
            <a:chExt cx="4536000" cy="337320"/>
          </a:xfrm>
        </p:grpSpPr>
        <p:sp>
          <p:nvSpPr>
            <p:cNvPr id="1984" name=""/>
            <p:cNvSpPr/>
            <p:nvPr/>
          </p:nvSpPr>
          <p:spPr>
            <a:xfrm>
              <a:off x="3382560" y="5396040"/>
              <a:ext cx="42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nly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hif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causes a token to be inserted, not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redu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3124080" y="5575320"/>
              <a:ext cx="2541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6" name=""/>
          <p:cNvSpPr/>
          <p:nvPr/>
        </p:nvSpPr>
        <p:spPr>
          <a:xfrm>
            <a:off x="6882120" y="125568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remaining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7121160" y="1649520"/>
            <a:ext cx="5785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6894000" y="2093760"/>
            <a:ext cx="8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nch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7119360" y="2424240"/>
            <a:ext cx="7981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a, b, #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9295-55C7-4144-93FB-9ECD090F2ED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cont.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2372400" y="1230480"/>
            <a:ext cx="4147200" cy="24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u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2451240" y="1498680"/>
            <a:ext cx="402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2781360" y="1320840"/>
            <a:ext cx="0" cy="229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4292640" y="1320840"/>
            <a:ext cx="0" cy="229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708840" y="125568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08120" y="1649520"/>
            <a:ext cx="1252800" cy="15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' = S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S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 b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816520" y="1320840"/>
            <a:ext cx="0" cy="229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620280" y="4038480"/>
            <a:ext cx="19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arsing contin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402120" y="4646520"/>
            <a:ext cx="27345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673200"/>
                <a:tab algn="l" pos="8636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 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, s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8636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 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, 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8636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8636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3 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3, s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8636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3 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8636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3 7 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, s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8636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3 7 1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, 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73200"/>
                <a:tab algn="l" pos="8636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646920" y="436716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293840" y="4367160"/>
            <a:ext cx="59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411640" y="436716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3" name=""/>
          <p:cNvGrpSpPr/>
          <p:nvPr/>
        </p:nvGrpSpPr>
        <p:grpSpPr>
          <a:xfrm>
            <a:off x="4112280" y="4051440"/>
            <a:ext cx="2532600" cy="1715040"/>
            <a:chOff x="4112280" y="4051440"/>
            <a:chExt cx="2532600" cy="1715040"/>
          </a:xfrm>
        </p:grpSpPr>
        <p:sp>
          <p:nvSpPr>
            <p:cNvPr id="2004" name=""/>
            <p:cNvSpPr/>
            <p:nvPr/>
          </p:nvSpPr>
          <p:spPr>
            <a:xfrm>
              <a:off x="4113000" y="4051440"/>
              <a:ext cx="175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orrected 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349160" y="4456080"/>
              <a:ext cx="11761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a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b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b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112280" y="5003640"/>
              <a:ext cx="161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rror mess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342680" y="5459400"/>
              <a:ext cx="230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ine ... col ...: "b b" inser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8" name=""/>
          <p:cNvSpPr/>
          <p:nvPr/>
        </p:nvSpPr>
        <p:spPr>
          <a:xfrm>
            <a:off x="6882120" y="125568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remaining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7121160" y="1649520"/>
            <a:ext cx="5785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D4E9-9879-4F90-B321-0D33A9183E5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mputing the Guide Symbols?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746280" y="1459080"/>
            <a:ext cx="695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rder the productions so that the first production of every NTS is non-recur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d as short as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316880" y="2170080"/>
            <a:ext cx="1011240" cy="1372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S A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 a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 b 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505600" y="2360520"/>
            <a:ext cx="41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recursive production becomes the second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 flipH="1">
            <a:off x="2234880" y="2527200"/>
            <a:ext cx="2286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504160" y="2805120"/>
            <a:ext cx="395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longer production becomes the second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 flipH="1">
            <a:off x="2234880" y="2971800"/>
            <a:ext cx="2286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504160" y="3211560"/>
            <a:ext cx="395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longer production becomes the second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 flipH="1">
            <a:off x="2234880" y="3378240"/>
            <a:ext cx="2286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9" name=""/>
          <p:cNvGrpSpPr/>
          <p:nvPr/>
        </p:nvGrpSpPr>
        <p:grpSpPr>
          <a:xfrm>
            <a:off x="752040" y="3871800"/>
            <a:ext cx="7301880" cy="1780200"/>
            <a:chOff x="752040" y="3871800"/>
            <a:chExt cx="7301880" cy="1780200"/>
          </a:xfrm>
        </p:grpSpPr>
        <p:sp>
          <p:nvSpPr>
            <p:cNvPr id="2020" name=""/>
            <p:cNvSpPr/>
            <p:nvPr/>
          </p:nvSpPr>
          <p:spPr>
            <a:xfrm>
              <a:off x="752040" y="3871800"/>
              <a:ext cx="7301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mpute the LALR(1) tables in the normal w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first generated T action in every state determines the guide symbol for this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116000" y="4722840"/>
              <a:ext cx="1810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950760" y="4600440"/>
              <a:ext cx="351828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' =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S #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#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S A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#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r" pos="190440"/>
                  <a:tab algn="l" pos="380880"/>
                  <a:tab algn="l" pos="1434960"/>
                  <a:tab algn="l" pos="2197080"/>
                  <a:tab algn="l" pos="276876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a 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736880" y="4570560"/>
              <a:ext cx="162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uide symbol i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4470120" y="4737240"/>
              <a:ext cx="2286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8ACF-737F-4192-BD6D-9C413553DC9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Assessment of this Error Handling Technique</a:t>
            </a:r>
            <a:endParaRPr b="0" i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729000" y="1674720"/>
            <a:ext cx="467604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oes not slow down error-free par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lways terminates (# is always an anch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oes not only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errors but even "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rrect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" them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but the correction is not always what we want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enerates good error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B005-1B2C-495F-9C59-BB28A4F6957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The Parser as a Push-down Automat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12880" y="29336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6680" y="2967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84200" y="20066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58000" y="2039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82960" y="2019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43800" y="2039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12800" y="2120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50320" y="1951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97960" y="2052720"/>
            <a:ext cx="4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 =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82960" y="2590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143800" y="2611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98680" y="2235240"/>
            <a:ext cx="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98680" y="270504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50320" y="2535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7000" y="2120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90080" y="1951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27000" y="212076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31920" y="2921040"/>
            <a:ext cx="495360" cy="2412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43160" y="2941560"/>
            <a:ext cx="29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29680" y="2421000"/>
            <a:ext cx="36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 =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84200" y="3403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58000" y="3436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498680" y="3162240"/>
            <a:ext cx="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5952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27000" y="3517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90080" y="3348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84200" y="4013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45400" y="4033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270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89720" y="3944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927000" y="3162240"/>
            <a:ext cx="0" cy="9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81360" y="25909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55160" y="2624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24160" y="2705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86880" y="2535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92360" y="2590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27640" y="26114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22560" y="2705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59720" y="2535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6640" y="2624040"/>
            <a:ext cx="53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 = b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82960" y="3403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56760" y="3436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25760" y="3517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88480" y="3348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197080" y="2819520"/>
            <a:ext cx="0" cy="58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45320" y="3068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81360" y="34034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6280" y="34243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11560" y="3517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48720" y="3348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96360" y="3436920"/>
            <a:ext cx="58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 = S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98680" y="36320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59520" y="3691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82960" y="4013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56760" y="4046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25760" y="412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88120" y="3957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81360" y="4013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55160" y="4033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11560" y="412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48720" y="3957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95280" y="4046400"/>
            <a:ext cx="53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 = a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23600" y="12826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ush-down automa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21800" y="45720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3720" y="4938840"/>
            <a:ext cx="1392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S A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 b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00280" y="6373800"/>
            <a:ext cx="22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nly plain BNF allow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800960" y="1282680"/>
            <a:ext cx="3577320" cy="4988160"/>
            <a:chOff x="4800960" y="1282680"/>
            <a:chExt cx="3577320" cy="4988160"/>
          </a:xfrm>
        </p:grpSpPr>
        <p:sp>
          <p:nvSpPr>
            <p:cNvPr id="264" name=""/>
            <p:cNvSpPr/>
            <p:nvPr/>
          </p:nvSpPr>
          <p:spPr>
            <a:xfrm>
              <a:off x="4800960" y="1282680"/>
              <a:ext cx="346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tate transition table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parsing tab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50360" y="2106720"/>
              <a:ext cx="3427920" cy="29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cc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7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8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5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9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5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4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1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90440"/>
                  <a:tab algn="l" pos="482760"/>
                  <a:tab algn="l" pos="927000"/>
                  <a:tab algn="l" pos="1434960"/>
                  <a:tab algn="l" pos="2006640"/>
                  <a:tab algn="l" pos="2476440"/>
                  <a:tab algn="l" pos="2959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6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6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29200" y="237492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59320" y="2197080"/>
              <a:ext cx="0" cy="275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70600" y="2197080"/>
              <a:ext cx="0" cy="275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6032160" y="1498320"/>
              <a:ext cx="76320" cy="11811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30600 h 1181160"/>
                <a:gd name="textAreaBottom" fmla="*/ 1150560 h 118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6200000">
              <a:off x="7556400" y="1498320"/>
              <a:ext cx="76320" cy="11811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30600 h 1181160"/>
                <a:gd name="textAreaBottom" fmla="*/ 1150560 h 118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53240" y="1725480"/>
              <a:ext cx="41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26360" y="172548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17320" y="5446800"/>
              <a:ext cx="3349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9196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hift to stat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9196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duce acording to production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196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1318320" y="4249800"/>
            <a:ext cx="36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 =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397-BA15-477D-AEA0-D79F6FE233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arsing with Shift-Reduce Ac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8480" y="1535040"/>
            <a:ext cx="3427920" cy="29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90440"/>
                <a:tab algn="l" pos="482760"/>
                <a:tab algn="l" pos="927000"/>
                <a:tab algn="l" pos="1434960"/>
                <a:tab algn="l" pos="2006640"/>
                <a:tab algn="l" pos="247644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87320" y="180324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17440" y="1625760"/>
            <a:ext cx="0" cy="27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629080" y="1625760"/>
            <a:ext cx="0" cy="27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08920" y="4938840"/>
            <a:ext cx="1392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S A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 a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 b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91000" y="114300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b a a b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45360" y="150984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ck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44280" y="1819440"/>
            <a:ext cx="2846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 b a a 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39240" y="2212920"/>
            <a:ext cx="3931200" cy="33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b a a 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2 (shift with A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 a a 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 a 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 5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 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 5 9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6 (B=bb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1 (S=A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3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3 (A=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3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3 7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5 (B=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3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3 7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2 (S=SA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762120"/>
                <a:tab algn="l" pos="952560"/>
                <a:tab algn="l" pos="124452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#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620880" y="2009880"/>
            <a:ext cx="5325840" cy="4756320"/>
            <a:chOff x="3620880" y="2009880"/>
            <a:chExt cx="5325840" cy="4756320"/>
          </a:xfrm>
        </p:grpSpPr>
        <p:sp>
          <p:nvSpPr>
            <p:cNvPr id="286" name=""/>
            <p:cNvSpPr/>
            <p:nvPr/>
          </p:nvSpPr>
          <p:spPr>
            <a:xfrm>
              <a:off x="3620880" y="5637240"/>
              <a:ext cx="4261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01520" indent="-101520">
                <a:lnSpc>
                  <a:spcPct val="10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..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duce according to production 3 (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59520" y="5942160"/>
              <a:ext cx="468720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op 1 state (because the right-hand side has length 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sert the left-hand side (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into the input str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duce is always followed by a shift with a 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42840" y="2009880"/>
              <a:ext cx="33062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r" pos="762120"/>
                  <a:tab algn="l" pos="952560"/>
                  <a:tab algn="l" pos="124452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 a a b #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3 (A=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79F9-5135-49CD-8059-CCA2668C2D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imulating a Push-down Automat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12880" y="257796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86680" y="2611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84200" y="16509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58000" y="1684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82960" y="166356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43800" y="1684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12800" y="1765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50320" y="159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397960" y="1697040"/>
            <a:ext cx="4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 =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82960" y="2235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43800" y="2255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98680" y="1879560"/>
            <a:ext cx="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498680" y="234936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50320" y="2179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27000" y="1765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90080" y="159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27000" y="1765440"/>
            <a:ext cx="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31920" y="2565360"/>
            <a:ext cx="495360" cy="2412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43160" y="2585880"/>
            <a:ext cx="29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29680" y="2065320"/>
            <a:ext cx="36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 =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84200" y="30481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58000" y="3081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1498680" y="2806200"/>
            <a:ext cx="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59520" y="2890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27000" y="3162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90080" y="2992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365760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45400" y="3678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27000" y="3759120"/>
            <a:ext cx="457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89720" y="3589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927000" y="2806560"/>
            <a:ext cx="0" cy="952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81360" y="22352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55160" y="2268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24160" y="234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86880" y="2179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92360" y="2235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27640" y="22557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22560" y="234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59720" y="2179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6640" y="2268360"/>
            <a:ext cx="53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 = b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82960" y="30481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56760" y="3081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25760" y="3162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88480" y="2992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197080" y="2463480"/>
            <a:ext cx="0" cy="5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45320" y="2712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81360" y="3048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16280" y="30686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11560" y="3162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48720" y="2992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96360" y="3081240"/>
            <a:ext cx="58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 = S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9868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59520" y="3335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082960" y="36576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56760" y="3691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25760" y="377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88120" y="3602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81360" y="36576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55160" y="3678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311560" y="377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48720" y="3602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95280" y="3691080"/>
            <a:ext cx="53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 = a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1600" y="1243080"/>
            <a:ext cx="11757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 b a a b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812880" y="4125960"/>
            <a:ext cx="3526200" cy="2643120"/>
            <a:chOff x="812880" y="4125960"/>
            <a:chExt cx="3526200" cy="2643120"/>
          </a:xfrm>
        </p:grpSpPr>
        <p:sp>
          <p:nvSpPr>
            <p:cNvPr id="354" name=""/>
            <p:cNvSpPr/>
            <p:nvPr/>
          </p:nvSpPr>
          <p:spPr>
            <a:xfrm>
              <a:off x="812880" y="5460840"/>
              <a:ext cx="228600" cy="228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86680" y="5494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84200" y="4533840"/>
              <a:ext cx="228600" cy="228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458000" y="4567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82960" y="454644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43800" y="4567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1280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50320" y="4478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97960" y="4579920"/>
              <a:ext cx="48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82960" y="5118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43800" y="513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98680" y="476244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98680" y="5232240"/>
              <a:ext cx="5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50320" y="5062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927000" y="464832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90080" y="4478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27000" y="4648320"/>
              <a:ext cx="0" cy="799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31920" y="5448240"/>
              <a:ext cx="495360" cy="24120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343160" y="546876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29680" y="4948200"/>
              <a:ext cx="36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84200" y="59310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58000" y="5964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1498680" y="5689080"/>
              <a:ext cx="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559520" y="5773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27000" y="604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90080" y="5875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384200" y="6540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45400" y="6561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27000" y="6642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89720" y="6472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927000" y="568944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81360" y="5118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55160" y="5151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24160" y="5232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86880" y="5062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92360" y="5118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27640" y="5138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22560" y="5232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159720" y="5062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06640" y="515160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82960" y="59310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56760" y="5964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25760" y="604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88480" y="5875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2197080" y="5346360"/>
              <a:ext cx="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45320" y="5595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781360" y="59310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16280" y="595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11560" y="604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48720" y="5875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96360" y="596412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S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98680" y="6159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59520" y="6218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82960" y="654048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56760" y="657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25760" y="6654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88120" y="6485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781360" y="6540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55160" y="6561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11560" y="6654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48720" y="6485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95280" y="657396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 = a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31960" y="4125960"/>
              <a:ext cx="12049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 b a a b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749840" y="1243080"/>
            <a:ext cx="3526200" cy="2643120"/>
            <a:chOff x="4749840" y="1243080"/>
            <a:chExt cx="3526200" cy="2643120"/>
          </a:xfrm>
        </p:grpSpPr>
        <p:sp>
          <p:nvSpPr>
            <p:cNvPr id="418" name=""/>
            <p:cNvSpPr/>
            <p:nvPr/>
          </p:nvSpPr>
          <p:spPr>
            <a:xfrm>
              <a:off x="4749840" y="257796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23640" y="261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21160" y="1650960"/>
              <a:ext cx="228600" cy="228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94960" y="1684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019920" y="166356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080760" y="1684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549760" y="1765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687280" y="15955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34920" y="1697040"/>
              <a:ext cx="48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19920" y="223524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80760" y="225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35640" y="1879560"/>
              <a:ext cx="0" cy="469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35640" y="2349360"/>
              <a:ext cx="584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688000" y="21798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63960" y="176544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27040" y="15955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63960" y="1765440"/>
              <a:ext cx="0" cy="799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68880" y="2565360"/>
              <a:ext cx="495360" cy="24120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80120" y="258588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66640" y="2065320"/>
              <a:ext cx="36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21160" y="3048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94960" y="308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435640" y="2806200"/>
              <a:ext cx="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96840" y="289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63960" y="3162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27040" y="2992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321160" y="3657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82360" y="367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63960" y="375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26680" y="3589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4863960" y="280656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18320" y="22352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92120" y="226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61120" y="234936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24560" y="21798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429680" y="2235240"/>
              <a:ext cx="2286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64600" y="22557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59520" y="234936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97040" y="217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43600" y="226836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19920" y="3048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93720" y="308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62720" y="3162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725440" y="2992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6134040" y="2463480"/>
              <a:ext cx="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182640" y="2712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18320" y="3048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53240" y="3068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48520" y="3162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86040" y="2992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33320" y="308124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S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43564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96840" y="3335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19920" y="36576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93720" y="369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62720" y="3772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725440" y="3602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18320" y="3657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92120" y="367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248520" y="3772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385680" y="3602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32240" y="369108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 = a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769640" y="1243080"/>
              <a:ext cx="10447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b b a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b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4749840" y="4125960"/>
            <a:ext cx="3526200" cy="2643120"/>
            <a:chOff x="4749840" y="4125960"/>
            <a:chExt cx="3526200" cy="2643120"/>
          </a:xfrm>
        </p:grpSpPr>
        <p:sp>
          <p:nvSpPr>
            <p:cNvPr id="482" name=""/>
            <p:cNvSpPr/>
            <p:nvPr/>
          </p:nvSpPr>
          <p:spPr>
            <a:xfrm>
              <a:off x="4749840" y="54608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823640" y="5494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321160" y="4533840"/>
              <a:ext cx="228600" cy="228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394960" y="4567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019920" y="4546440"/>
              <a:ext cx="2286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80760" y="4567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49760" y="464832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87640" y="4478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334920" y="4579920"/>
              <a:ext cx="48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019920" y="5118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080760" y="513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35640" y="476244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35640" y="5232240"/>
              <a:ext cx="5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687280" y="5062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863960" y="464832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027040" y="4478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863960" y="4648320"/>
              <a:ext cx="0" cy="799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168880" y="5448240"/>
              <a:ext cx="495360" cy="24120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80120" y="546876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966640" y="4948200"/>
              <a:ext cx="36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321160" y="59310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394960" y="5964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5435640" y="5689080"/>
              <a:ext cx="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96840" y="5773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863960" y="604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027040" y="5875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321160" y="6540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82360" y="6561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863960" y="6642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26680" y="6472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4863960" y="568944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18320" y="5118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792120" y="5151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261120" y="5232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23840" y="5062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429680" y="5118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464600" y="5138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59520" y="5232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097040" y="5062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43600" y="515160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019920" y="59310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093720" y="5964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562720" y="604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725440" y="5875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6134040" y="5346360"/>
              <a:ext cx="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82640" y="5595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18320" y="59310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753240" y="595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48520" y="604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386040" y="5875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33320" y="596412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S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35640" y="6159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96840" y="6218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19920" y="654048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93720" y="657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562720" y="6654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725440" y="6485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718320" y="6540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92120" y="6561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248520" y="6654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85680" y="6485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032240" y="657396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 = a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771440" y="4125960"/>
              <a:ext cx="75708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b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1318320" y="3881520"/>
            <a:ext cx="36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 =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9CCB-321F-43E2-9DFE-95278D8341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imulating a Push-down Automat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12880" y="257796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86680" y="2611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384200" y="16509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458000" y="1684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82960" y="166356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143800" y="1684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612800" y="1765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750320" y="159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397960" y="1697040"/>
            <a:ext cx="4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 =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082960" y="2235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143800" y="2255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498680" y="1879560"/>
            <a:ext cx="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498680" y="234936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750320" y="2179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927000" y="1765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090080" y="159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27000" y="1765440"/>
            <a:ext cx="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231920" y="2565360"/>
            <a:ext cx="495360" cy="2412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43160" y="2585880"/>
            <a:ext cx="29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29680" y="2065320"/>
            <a:ext cx="36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 =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384200" y="304812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458000" y="3081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1498680" y="2806200"/>
            <a:ext cx="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559520" y="2890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27000" y="3162240"/>
            <a:ext cx="457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090080" y="2992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384200" y="36576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445400" y="3678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27000" y="3759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89720" y="3589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927000" y="2806560"/>
            <a:ext cx="0" cy="9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781360" y="22352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855160" y="2268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324160" y="234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486880" y="2179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492360" y="2235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27640" y="22557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022560" y="234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159720" y="2179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06640" y="2268360"/>
            <a:ext cx="53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 = b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82960" y="30481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156760" y="3081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625760" y="3162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788480" y="2992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197080" y="2463480"/>
            <a:ext cx="0" cy="5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245320" y="2712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81360" y="3048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816280" y="30686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311560" y="3162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448720" y="2992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096360" y="3081240"/>
            <a:ext cx="58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 = S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49868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559520" y="3335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082960" y="36576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156760" y="3691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625760" y="377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788120" y="3602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781360" y="36576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855160" y="3678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311560" y="377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48720" y="3602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95280" y="3691080"/>
            <a:ext cx="53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 = a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34480" y="1243080"/>
            <a:ext cx="7477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 b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927000" y="2819520"/>
            <a:ext cx="0" cy="342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812880" y="3998880"/>
            <a:ext cx="3526200" cy="2821320"/>
            <a:chOff x="812880" y="3998880"/>
            <a:chExt cx="3526200" cy="2821320"/>
          </a:xfrm>
        </p:grpSpPr>
        <p:sp>
          <p:nvSpPr>
            <p:cNvPr id="612" name=""/>
            <p:cNvSpPr/>
            <p:nvPr/>
          </p:nvSpPr>
          <p:spPr>
            <a:xfrm>
              <a:off x="812880" y="5334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86680" y="536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384200" y="440676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458000" y="4440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082960" y="4419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43800" y="4440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612800" y="4521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750320" y="4351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397960" y="4452840"/>
              <a:ext cx="48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082960" y="499104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43800" y="5011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498680" y="4635360"/>
              <a:ext cx="0" cy="47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498680" y="5105520"/>
              <a:ext cx="5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50320" y="4935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927000" y="4521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90080" y="4351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927000" y="452124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231920" y="5321160"/>
              <a:ext cx="495360" cy="24156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343160" y="534204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029680" y="4821120"/>
              <a:ext cx="36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384200" y="5803920"/>
              <a:ext cx="228600" cy="228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58000" y="583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1498680" y="5562720"/>
              <a:ext cx="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559520" y="5646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927000" y="591804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090080" y="5748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384200" y="6413400"/>
              <a:ext cx="2286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45400" y="6434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927000" y="651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89720" y="6345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927000" y="556272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781360" y="49910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855160" y="502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324160" y="510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486880" y="4935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492360" y="499104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527640" y="50115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022560" y="510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159720" y="4935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806640" y="502452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082960" y="58039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156760" y="583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625760" y="5918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788480" y="5748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2197080" y="5219280"/>
              <a:ext cx="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45320" y="546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81360" y="5803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816280" y="58244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311560" y="5918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448720" y="5748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096360" y="583740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S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98680" y="6032520"/>
              <a:ext cx="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559520" y="609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082960" y="64134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156760" y="6446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625760" y="652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788120" y="635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781360" y="6413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855160" y="6434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11560" y="652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448720" y="635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095280" y="644688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 = a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34840" y="3998880"/>
              <a:ext cx="5785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318320" y="6637320"/>
              <a:ext cx="36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927000" y="5575320"/>
              <a:ext cx="0" cy="342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4749840" y="1243080"/>
            <a:ext cx="3526200" cy="2643120"/>
            <a:chOff x="4749840" y="1243080"/>
            <a:chExt cx="3526200" cy="2643120"/>
          </a:xfrm>
        </p:grpSpPr>
        <p:sp>
          <p:nvSpPr>
            <p:cNvPr id="678" name=""/>
            <p:cNvSpPr/>
            <p:nvPr/>
          </p:nvSpPr>
          <p:spPr>
            <a:xfrm>
              <a:off x="4749840" y="257796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823640" y="261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321160" y="165096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394960" y="1684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019920" y="166356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080760" y="1684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49760" y="1765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687280" y="15955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334920" y="1697040"/>
              <a:ext cx="48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19920" y="223524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080760" y="225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435640" y="187956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435640" y="2349360"/>
              <a:ext cx="5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687280" y="217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863960" y="1765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027040" y="15955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63960" y="176544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168880" y="2565360"/>
              <a:ext cx="495360" cy="24120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280120" y="258588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966640" y="2065320"/>
              <a:ext cx="36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321160" y="3048120"/>
              <a:ext cx="228600" cy="228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394960" y="308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5435640" y="2806200"/>
              <a:ext cx="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96840" y="289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863960" y="316224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27040" y="2992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321160" y="3657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382360" y="367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863960" y="375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026680" y="3589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4863960" y="280656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718320" y="22352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792120" y="226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261120" y="234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23840" y="217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429680" y="223524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464600" y="22557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959520" y="234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097040" y="217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743600" y="226836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019920" y="3048120"/>
              <a:ext cx="228600" cy="228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093720" y="308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562720" y="31622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725800" y="29923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6134040" y="2463480"/>
              <a:ext cx="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182640" y="2712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718320" y="3048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53240" y="3068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248520" y="3162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386040" y="2992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33320" y="308124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S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43564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96840" y="3335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019920" y="36576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093720" y="369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562720" y="3772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725440" y="3602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18320" y="3657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792120" y="367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248520" y="3772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385680" y="3602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32240" y="369108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 = a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72520" y="1243080"/>
              <a:ext cx="6073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63960" y="2819520"/>
              <a:ext cx="0" cy="342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749840" y="4125960"/>
            <a:ext cx="3526200" cy="2643120"/>
            <a:chOff x="4749840" y="4125960"/>
            <a:chExt cx="3526200" cy="2643120"/>
          </a:xfrm>
        </p:grpSpPr>
        <p:sp>
          <p:nvSpPr>
            <p:cNvPr id="743" name=""/>
            <p:cNvSpPr/>
            <p:nvPr/>
          </p:nvSpPr>
          <p:spPr>
            <a:xfrm>
              <a:off x="4749840" y="54608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823640" y="5494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321160" y="45338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394960" y="4567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19920" y="454644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80760" y="4567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54976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687280" y="4478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334920" y="4579920"/>
              <a:ext cx="48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19920" y="5118120"/>
              <a:ext cx="2286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80760" y="513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435640" y="476244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435640" y="5232240"/>
              <a:ext cx="5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687280" y="5062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6396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27040" y="4478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63960" y="464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168880" y="5448240"/>
              <a:ext cx="495360" cy="24120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80120" y="546876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966640" y="4948200"/>
              <a:ext cx="36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321160" y="59310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394960" y="5964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5435640" y="5689080"/>
              <a:ext cx="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496840" y="5773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63960" y="604512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027040" y="5875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321160" y="6540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382360" y="6561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863960" y="6642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026680" y="6472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4863960" y="568944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18320" y="5118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92120" y="5151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261120" y="5232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423840" y="5062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429680" y="5118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464600" y="5138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959520" y="5232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097040" y="5062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43600" y="515160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19920" y="5931000"/>
              <a:ext cx="228600" cy="228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3720" y="5964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562720" y="604512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725440" y="5875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6134040" y="5346360"/>
              <a:ext cx="0" cy="584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183360" y="5595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718320" y="59310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53240" y="595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248520" y="604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386040" y="5875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033320" y="596412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S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435640" y="6159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96840" y="6218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19920" y="654048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093720" y="657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562720" y="6654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725440" y="6485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718320" y="6540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792120" y="6561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248520" y="6654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385680" y="6485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032240" y="657396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 = a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772880" y="4125960"/>
              <a:ext cx="43848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863960" y="5702400"/>
              <a:ext cx="0" cy="342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EBAE-67D0-4615-81EE-E8115AD0AC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imulating a Push-down Automat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812880" y="25779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886680" y="2611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384200" y="16509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458000" y="1684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082960" y="166356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143800" y="1684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612800" y="1765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750320" y="159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397960" y="1697040"/>
            <a:ext cx="4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 =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082960" y="2235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43800" y="2255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498680" y="1879560"/>
            <a:ext cx="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498680" y="234936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750320" y="2179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927000" y="1765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090080" y="159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927000" y="1765440"/>
            <a:ext cx="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231920" y="2565360"/>
            <a:ext cx="495360" cy="2412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343160" y="2585880"/>
            <a:ext cx="29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029680" y="2065320"/>
            <a:ext cx="36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 =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384200" y="30481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458000" y="3081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1498680" y="2806200"/>
            <a:ext cx="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559520" y="2890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927000" y="316224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090080" y="2992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384200" y="36576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445400" y="3678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927000" y="3759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089720" y="3589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927000" y="2806560"/>
            <a:ext cx="0" cy="9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781360" y="22352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855160" y="2268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24160" y="234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486880" y="2179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492360" y="2235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527640" y="22557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022560" y="234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159720" y="2179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06640" y="2268360"/>
            <a:ext cx="53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 = b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082960" y="304812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156760" y="3081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625760" y="316224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788480" y="2992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3333cc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2197080" y="2463480"/>
            <a:ext cx="0" cy="5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245320" y="2712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781360" y="304812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16280" y="30686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311560" y="3162240"/>
            <a:ext cx="457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449080" y="2992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096360" y="3081240"/>
            <a:ext cx="58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 = S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49868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559520" y="3335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82960" y="36576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156760" y="3691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625760" y="377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788120" y="3602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781360" y="36576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855160" y="3678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311560" y="377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448720" y="3602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095280" y="3691080"/>
            <a:ext cx="53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 = a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36280" y="1243080"/>
            <a:ext cx="4582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927000" y="2819520"/>
            <a:ext cx="0" cy="342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812880" y="3998880"/>
            <a:ext cx="3526200" cy="2821320"/>
            <a:chOff x="812880" y="3998880"/>
            <a:chExt cx="3526200" cy="2821320"/>
          </a:xfrm>
        </p:grpSpPr>
        <p:sp>
          <p:nvSpPr>
            <p:cNvPr id="873" name=""/>
            <p:cNvSpPr/>
            <p:nvPr/>
          </p:nvSpPr>
          <p:spPr>
            <a:xfrm>
              <a:off x="812880" y="5334120"/>
              <a:ext cx="228600" cy="228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86680" y="536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384200" y="440676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458000" y="4440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82960" y="4419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43800" y="4440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612800" y="4521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750320" y="4351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397960" y="4452840"/>
              <a:ext cx="48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82960" y="499104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143800" y="5011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498680" y="4635360"/>
              <a:ext cx="0" cy="47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498680" y="5105520"/>
              <a:ext cx="5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50320" y="4935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927000" y="4521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090080" y="4351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927000" y="452124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231920" y="5321160"/>
              <a:ext cx="495360" cy="24156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343160" y="534204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29680" y="4821120"/>
              <a:ext cx="36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384200" y="5803920"/>
              <a:ext cx="228600" cy="228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458000" y="583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1498680" y="5562720"/>
              <a:ext cx="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559520" y="5646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927000" y="59180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090080" y="5748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384200" y="6413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45400" y="6434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927000" y="651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089720" y="6345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927000" y="556272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781360" y="49910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855160" y="502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324160" y="510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486880" y="4935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92360" y="499104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527640" y="50115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022560" y="510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159720" y="4935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806640" y="502452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82960" y="58039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56760" y="583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625760" y="5918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788480" y="5748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2197080" y="5219280"/>
              <a:ext cx="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245320" y="546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781360" y="5803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816280" y="58244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311560" y="5918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448720" y="5748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096360" y="583740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S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498680" y="6032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559520" y="609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082960" y="64134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56760" y="6446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625760" y="652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788120" y="635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781360" y="6413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855160" y="6434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311560" y="652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48720" y="635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095280" y="644688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 = a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6640" y="3998880"/>
              <a:ext cx="2797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318320" y="6637320"/>
              <a:ext cx="36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927000" y="5575320"/>
              <a:ext cx="0" cy="342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749840" y="1243080"/>
            <a:ext cx="3526200" cy="2643120"/>
            <a:chOff x="4749840" y="1243080"/>
            <a:chExt cx="3526200" cy="2643120"/>
          </a:xfrm>
        </p:grpSpPr>
        <p:sp>
          <p:nvSpPr>
            <p:cNvPr id="939" name=""/>
            <p:cNvSpPr/>
            <p:nvPr/>
          </p:nvSpPr>
          <p:spPr>
            <a:xfrm>
              <a:off x="4749840" y="257796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823640" y="261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321160" y="165096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394960" y="1684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019920" y="166356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080760" y="1684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549760" y="1765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687280" y="15955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334920" y="1697040"/>
              <a:ext cx="48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019920" y="223524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080760" y="225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435640" y="187956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435640" y="2349360"/>
              <a:ext cx="5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687280" y="217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863960" y="1765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027040" y="15955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863960" y="176544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168880" y="2565360"/>
              <a:ext cx="495360" cy="241200"/>
            </a:xfrm>
            <a:prstGeom prst="roundRect">
              <a:avLst>
                <a:gd name="adj" fmla="val 5000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280120" y="258588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966640" y="2065320"/>
              <a:ext cx="36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321160" y="3048120"/>
              <a:ext cx="228600" cy="228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394960" y="308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5435640" y="2806200"/>
              <a:ext cx="0" cy="241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96840" y="289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863960" y="316224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027040" y="2992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321160" y="3657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382360" y="367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863960" y="375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026680" y="3589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4863960" y="280656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718320" y="22352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792120" y="226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61120" y="234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423840" y="217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29680" y="223524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464600" y="22557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959520" y="234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097040" y="217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743600" y="226836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 = b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19920" y="3048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093720" y="308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562720" y="3162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725440" y="2992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6134040" y="2463480"/>
              <a:ext cx="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182640" y="2712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718320" y="3048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753240" y="3068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248520" y="3162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386040" y="2992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033320" y="308124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 = S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43564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496840" y="3335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019920" y="36576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093720" y="369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562720" y="3772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725440" y="3602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718320" y="3657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792120" y="367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248520" y="3772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385680" y="3602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032240" y="369108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 = a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773240" y="1243080"/>
              <a:ext cx="2311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863960" y="2819520"/>
              <a:ext cx="0" cy="342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06C8-93C0-4F72-B7DD-0730A479B2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2T09:29:13Z</dcterms:created>
  <dc:creator>Mössenböck</dc:creator>
  <dc:description/>
  <dc:language>en-US</dc:language>
  <cp:lastModifiedBy>Hanspeter Mössenböck</cp:lastModifiedBy>
  <cp:lastPrinted>2001-09-28T08:52:55Z</cp:lastPrinted>
  <dcterms:modified xsi:type="dcterms:W3CDTF">2004-12-16T09:09:17Z</dcterms:modified>
  <cp:revision>566</cp:revision>
  <dc:subject/>
  <dc:title>Javascript-Anweisungen</dc:title>
</cp:coreProperties>
</file>