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D0F-AEF1-400D-A8BC-0A7945C6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876-5DBC-4043-BE3F-5FAA4D7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4B9-93D3-4335-899D-7C08D208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A00-D4C4-4EF7-8CBB-B519E83B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7F7-FCBD-4617-BD97-9F8B6813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6F0-1D73-403C-83B9-CEE1F45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5F8-2A35-4A55-B7C7-648DFFD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0CE-6D12-4E1F-82DB-D8E32C0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06A-061F-4F57-AB7A-98CCDED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822-F61C-4CD8-8B4B-EAE6745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11E-F560-4689-BE46-0D1B801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4AE-3B61-4617-AC1B-49B9089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2F1D-4E2B-46B6-BFF8-AE71872AD9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489040"/>
            <a:ext cx="673092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AF9-5EC5-4330-B85E-401D26A50C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er versus Interpret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000" y="15368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77200" y="154944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ranslates to machin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00480" y="2197080"/>
            <a:ext cx="266400" cy="317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9600" y="22208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798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5840" y="222084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608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3840" y="22208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926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97440" y="2220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4984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2197080"/>
            <a:ext cx="266760" cy="317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1400" y="222084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4200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960" y="2362320"/>
            <a:ext cx="1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37400" y="2017800"/>
            <a:ext cx="611280" cy="655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016000" y="25891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12920" y="258912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machine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16000" y="4927680"/>
            <a:ext cx="6946200" cy="1645920"/>
            <a:chOff x="2016000" y="4927680"/>
            <a:chExt cx="6946200" cy="1645920"/>
          </a:xfrm>
        </p:grpSpPr>
        <p:sp>
          <p:nvSpPr>
            <p:cNvPr id="271" name=""/>
            <p:cNvSpPr/>
            <p:nvPr/>
          </p:nvSpPr>
          <p:spPr>
            <a:xfrm>
              <a:off x="2073960" y="4927680"/>
              <a:ext cx="41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ariant: interpretation of intermediat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0480" y="5448240"/>
              <a:ext cx="26640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29240" y="5472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... compil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79840" y="56134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4040" y="56134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6000" y="584028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6000" y="5448240"/>
              <a:ext cx="26676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35360" y="56134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31520" y="584028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termediat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(e.g. Common Intermediate</a:t>
              </a:r>
              <a:br>
                <a:rPr sz="1400"/>
              </a:b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Language (CIL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3760" y="54849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23040"/>
              <a:ext cx="660600" cy="44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34600" y="5319720"/>
              <a:ext cx="302760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ource code is translated into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de of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virtual machin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V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M interprets the cod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imulating the physical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3640" y="3276720"/>
            <a:ext cx="7537320" cy="1372320"/>
            <a:chOff x="683640" y="3276720"/>
            <a:chExt cx="7537320" cy="1372320"/>
          </a:xfrm>
        </p:grpSpPr>
        <p:sp>
          <p:nvSpPr>
            <p:cNvPr id="284" name=""/>
            <p:cNvSpPr/>
            <p:nvPr/>
          </p:nvSpPr>
          <p:spPr>
            <a:xfrm>
              <a:off x="683640" y="327672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terpr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77920" y="3289320"/>
              <a:ext cx="30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executes source code "directly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00480" y="3936960"/>
              <a:ext cx="266400" cy="3175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29600" y="396072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7984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5840" y="396072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608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2640" y="41022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16000" y="432900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source 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602240" y="3745080"/>
              <a:ext cx="61128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23960" y="434196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400" spc="-1" strike="noStrike">
                  <a:solidFill>
                    <a:srgbClr val="000000"/>
                  </a:solidFill>
                  <a:latin typeface="Times New Roman"/>
                </a:rPr>
                <a:t>interpre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3643200"/>
              <a:ext cx="228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tements in a loop ar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d and parsed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gain and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153-33A6-4DC2-8A3C-259A4BA426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at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88760" y="180180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714680"/>
            <a:ext cx="166356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90200" y="312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36840" y="3086280"/>
            <a:ext cx="10666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3880" y="39099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67160" y="3873600"/>
            <a:ext cx="1270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67120" y="3122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6080" y="3086280"/>
            <a:ext cx="1587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89240" y="246384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590920" y="2463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2463840"/>
            <a:ext cx="83808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749840" y="3276720"/>
            <a:ext cx="8762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1200" y="3745080"/>
            <a:ext cx="18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vides token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87560" y="453240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tains informatio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d names 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65440" y="37450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enerates machin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1040" y="1611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"main progra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s the who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8840" y="5613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49520" y="5446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35040" y="2145960"/>
            <a:ext cx="7581960" cy="4107960"/>
            <a:chOff x="635040" y="2145960"/>
            <a:chExt cx="7581960" cy="4107960"/>
          </a:xfrm>
        </p:grpSpPr>
        <p:sp>
          <p:nvSpPr>
            <p:cNvPr id="316" name=""/>
            <p:cNvSpPr/>
            <p:nvPr/>
          </p:nvSpPr>
          <p:spPr>
            <a:xfrm>
              <a:off x="63504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2316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044800" y="2145960"/>
              <a:ext cx="1218960" cy="939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848040" y="2463480"/>
              <a:ext cx="0" cy="1359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28880" y="3301920"/>
              <a:ext cx="495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64440" y="3301920"/>
              <a:ext cx="49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0280" y="2171880"/>
              <a:ext cx="1143000" cy="90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8840" y="6083280"/>
              <a:ext cx="571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50960" y="59166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9D7-DAA3-4B18-8A56-4E2FF60C1E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33656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BF6-0DC7-425F-8134-7A6000D9A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is a grammar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1409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49320" y="1471680"/>
            <a:ext cx="50803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"if" "(" Condition ")"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35120" y="2413080"/>
            <a:ext cx="7383960" cy="3180600"/>
            <a:chOff x="735120" y="2413080"/>
            <a:chExt cx="7383960" cy="3180600"/>
          </a:xfrm>
        </p:grpSpPr>
        <p:sp>
          <p:nvSpPr>
            <p:cNvPr id="332" name=""/>
            <p:cNvSpPr/>
            <p:nvPr/>
          </p:nvSpPr>
          <p:spPr>
            <a:xfrm>
              <a:off x="735120" y="241308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640" y="2995560"/>
              <a:ext cx="167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21320" y="299556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ato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0320" y="302112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, "&gt;=", ident, number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7280" y="378288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21680" y="378288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deri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to smaller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81040" y="3808440"/>
              <a:ext cx="22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, Expr, Type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6200" y="451944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20600" y="451944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ules how to deco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e nontermi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9240" y="4545000"/>
              <a:ext cx="303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Designator "=" Expr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920" y="52563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1320" y="525636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most non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90400" y="52815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Sha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E0B-1F79-4C2C-8A34-1250D2699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6960" y="1359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tended Backus-Nau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98800" y="1370160"/>
            <a:ext cx="37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John Backus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developed the first Fortra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Peter Naur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edited the Algol60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2520" y="21193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7000" y="211932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37680" y="2119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240" y="2589120"/>
            <a:ext cx="644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19440" y="2589120"/>
            <a:ext cx="29725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it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s a T or 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parates the sides of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tes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40560" y="2589120"/>
            <a:ext cx="149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"=", "wh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dent,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= b c d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0280" y="2489040"/>
            <a:ext cx="688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22160" y="3821040"/>
            <a:ext cx="6972120" cy="1227600"/>
            <a:chOff x="722160" y="3821040"/>
            <a:chExt cx="6972120" cy="1227600"/>
          </a:xfrm>
        </p:grpSpPr>
        <p:sp>
          <p:nvSpPr>
            <p:cNvPr id="356" name=""/>
            <p:cNvSpPr/>
            <p:nvPr/>
          </p:nvSpPr>
          <p:spPr>
            <a:xfrm>
              <a:off x="722160" y="3821040"/>
              <a:ext cx="52668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19440" y="3821040"/>
              <a:ext cx="1910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oup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tional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etitive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3828960"/>
              <a:ext cx="283500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| b |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 or  b  or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( b | c )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[ a ]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{ a }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 | ab | aab | aaab |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24680" y="5473800"/>
            <a:ext cx="57052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start with lower-case letters (e.g. i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 start with upper-case letters (e.g. Stat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557-4406-41FD-8A86-195B78A0E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Gramma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6960" y="1371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26440" y="178920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33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6265800" y="1446120"/>
            <a:ext cx="2276640" cy="12477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95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6259680" y="2668680"/>
            <a:ext cx="1552320" cy="1038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357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278400" y="3706920"/>
            <a:ext cx="2428920" cy="1019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739120" y="2055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0960" y="326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5000" y="43164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6600" y="2882880"/>
            <a:ext cx="4145400" cy="1573920"/>
            <a:chOff x="696600" y="2882880"/>
            <a:chExt cx="4145400" cy="1573920"/>
          </a:xfrm>
        </p:grpSpPr>
        <p:sp>
          <p:nvSpPr>
            <p:cNvPr id="373" name=""/>
            <p:cNvSpPr/>
            <p:nvPr/>
          </p:nvSpPr>
          <p:spPr>
            <a:xfrm>
              <a:off x="696600" y="2882880"/>
              <a:ext cx="19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2120" y="3287880"/>
              <a:ext cx="1526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imple 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terminal class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96760" y="3287880"/>
              <a:ext cx="21452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+", "-", "*", "/", "(",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just 1 instan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,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multiple instanc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96960" y="4699080"/>
            <a:ext cx="2270160" cy="716760"/>
            <a:chOff x="696960" y="4699080"/>
            <a:chExt cx="2270160" cy="716760"/>
          </a:xfrm>
        </p:grpSpPr>
        <p:sp>
          <p:nvSpPr>
            <p:cNvPr id="377" name=""/>
            <p:cNvSpPr/>
            <p:nvPr/>
          </p:nvSpPr>
          <p:spPr>
            <a:xfrm>
              <a:off x="696960" y="46990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31760" y="50785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, Term,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96960" y="5638680"/>
            <a:ext cx="1432080" cy="716760"/>
            <a:chOff x="696960" y="5638680"/>
            <a:chExt cx="1432080" cy="716760"/>
          </a:xfrm>
        </p:grpSpPr>
        <p:sp>
          <p:nvSpPr>
            <p:cNvPr id="380" name=""/>
            <p:cNvSpPr/>
            <p:nvPr/>
          </p:nvSpPr>
          <p:spPr>
            <a:xfrm>
              <a:off x="696960" y="563868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27440" y="6018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2E6-0027-43E1-96CE-AAA3362E84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Operator Prior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4960" y="127008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Grammars can be used to define the priority of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13480" y="177624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440" y="285588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- a * 3 + b / 4 -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20160" y="3220920"/>
            <a:ext cx="3678480" cy="368280"/>
            <a:chOff x="920160" y="3220920"/>
            <a:chExt cx="3678480" cy="368280"/>
          </a:xfrm>
        </p:grpSpPr>
        <p:sp>
          <p:nvSpPr>
            <p:cNvPr id="387" name=""/>
            <p:cNvSpPr/>
            <p:nvPr/>
          </p:nvSpPr>
          <p:spPr>
            <a:xfrm>
              <a:off x="1254240" y="3262320"/>
              <a:ext cx="334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ident * number + ident / number -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0160" y="32209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920160" y="3513240"/>
            <a:ext cx="3837240" cy="368280"/>
            <a:chOff x="920160" y="3513240"/>
            <a:chExt cx="3837240" cy="368280"/>
          </a:xfrm>
        </p:grpSpPr>
        <p:sp>
          <p:nvSpPr>
            <p:cNvPr id="390" name=""/>
            <p:cNvSpPr/>
            <p:nvPr/>
          </p:nvSpPr>
          <p:spPr>
            <a:xfrm>
              <a:off x="1251360" y="3554280"/>
              <a:ext cx="35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 Factor * Factor + Factor / Factor - 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0160" y="35132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20160" y="3803400"/>
            <a:ext cx="8133480" cy="420840"/>
            <a:chOff x="920160" y="3803400"/>
            <a:chExt cx="8133480" cy="420840"/>
          </a:xfrm>
        </p:grpSpPr>
        <p:sp>
          <p:nvSpPr>
            <p:cNvPr id="393" name=""/>
            <p:cNvSpPr/>
            <p:nvPr/>
          </p:nvSpPr>
          <p:spPr>
            <a:xfrm>
              <a:off x="1268280" y="38973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20160" y="38559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2012760" y="3282480"/>
              <a:ext cx="88920" cy="11304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3384360" y="3282480"/>
              <a:ext cx="88920" cy="11304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362480" y="3612960"/>
              <a:ext cx="88920" cy="4698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2240 h 469800"/>
                <a:gd name="textAreaBottom" fmla="*/ 4575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292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52840" y="38973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6008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0720" y="389736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87080" y="3897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69800" y="3871800"/>
              <a:ext cx="40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"*" and "/" have higher priority than "+" and "-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20160" y="4133880"/>
            <a:ext cx="6914520" cy="420480"/>
            <a:chOff x="920160" y="4133880"/>
            <a:chExt cx="6914520" cy="420480"/>
          </a:xfrm>
        </p:grpSpPr>
        <p:sp>
          <p:nvSpPr>
            <p:cNvPr id="405" name=""/>
            <p:cNvSpPr/>
            <p:nvPr/>
          </p:nvSpPr>
          <p:spPr>
            <a:xfrm>
              <a:off x="920160" y="41860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2921040" y="2565360"/>
              <a:ext cx="101520" cy="3238560"/>
            </a:xfrm>
            <a:custGeom>
              <a:avLst/>
              <a:gdLst>
                <a:gd name="textAreaLeft" fmla="*/ 64800 w 101520"/>
                <a:gd name="textAreaRight" fmla="*/ 101880 w 101520"/>
                <a:gd name="textAreaTop" fmla="*/ 84240 h 3238560"/>
                <a:gd name="textAreaBottom" fmla="*/ 315432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28080" y="42148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68360" y="4176720"/>
              <a:ext cx="28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"-" does not refer to </a:t>
              </a:r>
              <a:r>
                <a:rPr b="0" i="1" lang="de-AT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, but to </a:t>
              </a:r>
              <a:r>
                <a:rPr b="0" i="1" lang="de-AT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r>
                <a:rPr b="0" lang="de-AT" sz="1600" spc="-1" strike="noStrike">
                  <a:solidFill>
                    <a:srgbClr val="808080"/>
                  </a:solidFill>
                  <a:latin typeface="Times New Roman"/>
                </a:rPr>
                <a:t>*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111680" y="5294160"/>
            <a:ext cx="411876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( ident | number | "(" Expr ")"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4960" y="4838760"/>
            <a:ext cx="59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must the grammar be transformed, so that "-" refers to </a:t>
            </a: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5194440"/>
            <a:ext cx="640080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41E-C97C-40F9-9332-FB88AFDB8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tart Symbol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6680" y="133344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terminal symbols can a nonterminal start wi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00" y="3251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3640" y="3251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440" y="3886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5080" y="3886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2560" y="42418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5160" y="4915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360" y="4915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irst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1840" y="529596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E6C-CF84-4AC8-8D40-D2EF64D18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uccessor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4160" y="1333440"/>
            <a:ext cx="73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ch terminal symbols can follow after a nonterminal in the gramm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0880" y="1814400"/>
            <a:ext cx="370728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 "+" | "-" ] Term { ( "+" | "-" )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 ( "*" | "/" )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5160" y="325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5440" y="325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440" y="3886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4720" y="3886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ollow(Ex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3640" y="4241880"/>
            <a:ext cx="18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00" y="4915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64720" y="4915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*", "/", Follow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3640" y="52959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*", "/", 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50400" y="3046320"/>
            <a:ext cx="27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ccu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terminal symbols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8C1-FC98-49B5-8AD8-B30F8D6E0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ome Terminolo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7320" y="1346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1160" y="1700280"/>
            <a:ext cx="49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set of terminal and nonterminal symbols of a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96960" y="2400480"/>
            <a:ext cx="4412880" cy="691200"/>
            <a:chOff x="696960" y="2400480"/>
            <a:chExt cx="4412880" cy="691200"/>
          </a:xfrm>
        </p:grpSpPr>
        <p:sp>
          <p:nvSpPr>
            <p:cNvPr id="439" name=""/>
            <p:cNvSpPr/>
            <p:nvPr/>
          </p:nvSpPr>
          <p:spPr>
            <a:xfrm>
              <a:off x="696960" y="24004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85760" y="2754360"/>
              <a:ext cx="40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finite sequence of symbols from an alphab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072800" y="3143160"/>
            <a:ext cx="404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rings are denoted by greek letters (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ident +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600" spc="-1" strike="noStrike">
                <a:solidFill>
                  <a:srgbClr val="3333cc"/>
                </a:solidFill>
                <a:latin typeface="Times New Roman"/>
              </a:rPr>
              <a:t>- Term + Factor *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96960" y="4292640"/>
            <a:ext cx="4656600" cy="699120"/>
            <a:chOff x="696960" y="4292640"/>
            <a:chExt cx="4656600" cy="699120"/>
          </a:xfrm>
        </p:grpSpPr>
        <p:sp>
          <p:nvSpPr>
            <p:cNvPr id="443" name=""/>
            <p:cNvSpPr/>
            <p:nvPr/>
          </p:nvSpPr>
          <p:spPr>
            <a:xfrm>
              <a:off x="696960" y="4292640"/>
              <a:ext cx="15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mpty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83600" y="4654440"/>
              <a:ext cx="42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tring that contains no symbol (denoted by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782-F1EA-4B77-A3B0-D52861850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hort History of Compiler Construc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0920" y="1244520"/>
            <a:ext cx="67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rmerly "a mystery", today one of the best-known areas of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5920" y="1739880"/>
            <a:ext cx="609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Fortran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 compi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arithmetic expressions, statements, proced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451240"/>
            <a:ext cx="732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Algol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irst formal language defin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grammars in Backus-Naur form, block structure, recursion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760" y="3200400"/>
            <a:ext cx="58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Pascal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r-defined types, virtual machines (P-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2680" y="3886200"/>
            <a:ext cx="54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C++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bject-orientation, exceptions,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1240" y="4572000"/>
            <a:ext cx="41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st-in-tim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1080" y="5308560"/>
            <a:ext cx="705852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e only look at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imperative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nctional languages (e.g. Lisp) and logical languages (e.g. Prolog) require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chn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3A7-357E-439E-A25D-8AADB563415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rivations and Redu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1040" y="12574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00880" y="1671480"/>
            <a:ext cx="27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ff0000"/>
                </a:solidFill>
                <a:latin typeface="MT Symbol"/>
                <a:ea typeface="MT Symbol"/>
              </a:rPr>
              <a:t>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(direct deriv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30280" y="1738440"/>
            <a:ext cx="208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+ 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*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5130720" y="799920"/>
            <a:ext cx="88920" cy="1841400"/>
          </a:xfrm>
          <a:custGeom>
            <a:avLst/>
            <a:gdLst>
              <a:gd name="textAreaLeft" fmla="*/ 0 w 88920"/>
              <a:gd name="textAreaRight" fmla="*/ 32040 w 889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14800" y="1379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43200" y="169704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96360" y="1738440"/>
            <a:ext cx="19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+ 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*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7696080" y="799920"/>
            <a:ext cx="88920" cy="1841400"/>
          </a:xfrm>
          <a:custGeom>
            <a:avLst/>
            <a:gdLst>
              <a:gd name="textAreaLeft" fmla="*/ 0 w 88920"/>
              <a:gd name="textAreaRight" fmla="*/ 32040 w 889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80520" y="1379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5117760" y="1828800"/>
            <a:ext cx="88920" cy="507960"/>
          </a:xfrm>
          <a:custGeom>
            <a:avLst/>
            <a:gdLst>
              <a:gd name="textAreaLeft" fmla="*/ 0 w 88920"/>
              <a:gd name="textAreaRight" fmla="*/ 32040 w 8892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88080" y="206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7632360" y="1828800"/>
            <a:ext cx="88920" cy="507960"/>
          </a:xfrm>
          <a:custGeom>
            <a:avLst/>
            <a:gdLst>
              <a:gd name="textAreaLeft" fmla="*/ 0 w 88920"/>
              <a:gd name="textAreaRight" fmla="*/ 32040 w 8892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18040" y="206856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duction of 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00520" y="2814480"/>
            <a:ext cx="5421240" cy="394920"/>
            <a:chOff x="1100520" y="2814480"/>
            <a:chExt cx="5421240" cy="394920"/>
          </a:xfrm>
        </p:grpSpPr>
        <p:sp>
          <p:nvSpPr>
            <p:cNvPr id="460" name=""/>
            <p:cNvSpPr/>
            <p:nvPr/>
          </p:nvSpPr>
          <p:spPr>
            <a:xfrm>
              <a:off x="1100520" y="2814480"/>
              <a:ext cx="288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indirect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52560" y="2838600"/>
              <a:ext cx="196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...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099440" y="3551400"/>
            <a:ext cx="7072200" cy="368280"/>
            <a:chOff x="1099440" y="3551400"/>
            <a:chExt cx="7072200" cy="368280"/>
          </a:xfrm>
        </p:grpSpPr>
        <p:sp>
          <p:nvSpPr>
            <p:cNvPr id="463" name=""/>
            <p:cNvSpPr/>
            <p:nvPr/>
          </p:nvSpPr>
          <p:spPr>
            <a:xfrm>
              <a:off x="1099440" y="3551400"/>
              <a:ext cx="344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left-canonical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85280" y="3575160"/>
              <a:ext cx="31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ftmo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rived 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099800" y="4287960"/>
            <a:ext cx="7185240" cy="368280"/>
            <a:chOff x="1099800" y="4287960"/>
            <a:chExt cx="7185240" cy="368280"/>
          </a:xfrm>
        </p:grpSpPr>
        <p:sp>
          <p:nvSpPr>
            <p:cNvPr id="466" name=""/>
            <p:cNvSpPr/>
            <p:nvPr/>
          </p:nvSpPr>
          <p:spPr>
            <a:xfrm>
              <a:off x="1099800" y="4287960"/>
              <a:ext cx="35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800" spc="-1" strike="noStrike" baseline="30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de-AT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de-AT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(right-canonical deriv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84560" y="4311720"/>
              <a:ext cx="330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ightmo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NT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s derived 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71760" y="5232240"/>
            <a:ext cx="8033760" cy="909000"/>
            <a:chOff x="671760" y="5232240"/>
            <a:chExt cx="8033760" cy="909000"/>
          </a:xfrm>
        </p:grpSpPr>
        <p:sp>
          <p:nvSpPr>
            <p:cNvPr id="469" name=""/>
            <p:cNvSpPr/>
            <p:nvPr/>
          </p:nvSpPr>
          <p:spPr>
            <a:xfrm>
              <a:off x="671760" y="523224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28960" y="5560560"/>
              <a:ext cx="757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converse of a deriv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right-hand side of a production occurs in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t is replaced with the corresponding 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809-18A0-4859-A86E-45150AFD2C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eletabil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8880" y="1498680"/>
            <a:ext cx="65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A string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is called deletable, if it can be derived to the empty st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2160" y="2400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5720" y="2894040"/>
            <a:ext cx="10447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 = [ b 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 = c | d |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4880" y="395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64880" y="42861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90880" y="464184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is deletable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B 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5FE-840B-49E3-B013-534FA8ABDF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ore Terminolog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9560" y="11304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4960" y="1496880"/>
            <a:ext cx="49492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string that can be derived from a nonterminal symb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 phrases: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actor * Facto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dent *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08840" y="2781360"/>
            <a:ext cx="6144120" cy="1728000"/>
            <a:chOff x="708840" y="2781360"/>
            <a:chExt cx="6144120" cy="1728000"/>
          </a:xfrm>
        </p:grpSpPr>
        <p:sp>
          <p:nvSpPr>
            <p:cNvPr id="482" name=""/>
            <p:cNvSpPr/>
            <p:nvPr/>
          </p:nvSpPr>
          <p:spPr>
            <a:xfrm>
              <a:off x="708840" y="27813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ntential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280" y="3147840"/>
              <a:ext cx="577368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string that can be derived from the start symbol of the gramm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 + Term + Term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erm + Factor * ident + 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709560" y="4432320"/>
            <a:ext cx="5153040" cy="998280"/>
            <a:chOff x="709560" y="4432320"/>
            <a:chExt cx="5153040" cy="998280"/>
          </a:xfrm>
        </p:grpSpPr>
        <p:sp>
          <p:nvSpPr>
            <p:cNvPr id="485" name=""/>
            <p:cNvSpPr/>
            <p:nvPr/>
          </p:nvSpPr>
          <p:spPr>
            <a:xfrm>
              <a:off x="709560" y="44323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76400" y="4799160"/>
              <a:ext cx="47862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sentential form that consists of terminal symbols on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 * number + i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8840" y="5613480"/>
            <a:ext cx="5659200" cy="947160"/>
            <a:chOff x="708840" y="5613480"/>
            <a:chExt cx="5659200" cy="947160"/>
          </a:xfrm>
        </p:grpSpPr>
        <p:sp>
          <p:nvSpPr>
            <p:cNvPr id="488" name=""/>
            <p:cNvSpPr/>
            <p:nvPr/>
          </p:nvSpPr>
          <p:spPr>
            <a:xfrm>
              <a:off x="708840" y="561348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nguage (formal languag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80360" y="5979960"/>
              <a:ext cx="528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set of all sentences of a grammar (usually infinitely larg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.: the 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language is the set of all valid C# pro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79E-0DF3-4091-BFF7-ACA043F2A2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4800" y="127008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 production is recursiv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22760" y="1289160"/>
            <a:ext cx="1247040" cy="370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AT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0440" y="1662120"/>
            <a:ext cx="48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be used to represent repetitions and nested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95520" y="2362320"/>
            <a:ext cx="3398040" cy="389880"/>
            <a:chOff x="695520" y="2362320"/>
            <a:chExt cx="3398040" cy="389880"/>
          </a:xfrm>
        </p:grpSpPr>
        <p:sp>
          <p:nvSpPr>
            <p:cNvPr id="495" name=""/>
            <p:cNvSpPr/>
            <p:nvPr/>
          </p:nvSpPr>
          <p:spPr>
            <a:xfrm>
              <a:off x="695520" y="236232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irect recu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48400" y="2381400"/>
              <a:ext cx="1145160" cy="370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169280" y="2906640"/>
            <a:ext cx="6654240" cy="338760"/>
            <a:chOff x="1169280" y="2906640"/>
            <a:chExt cx="6654240" cy="338760"/>
          </a:xfrm>
        </p:grpSpPr>
        <p:sp>
          <p:nvSpPr>
            <p:cNvPr id="498" name=""/>
            <p:cNvSpPr/>
            <p:nvPr/>
          </p:nvSpPr>
          <p:spPr>
            <a:xfrm>
              <a:off x="1169280" y="2906640"/>
              <a:ext cx="141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Left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15640" y="293220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60120" y="2938320"/>
              <a:ext cx="32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b a a a a 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168920" y="3300480"/>
            <a:ext cx="6654600" cy="338760"/>
            <a:chOff x="1168920" y="3300480"/>
            <a:chExt cx="6654600" cy="338760"/>
          </a:xfrm>
        </p:grpSpPr>
        <p:sp>
          <p:nvSpPr>
            <p:cNvPr id="502" name=""/>
            <p:cNvSpPr/>
            <p:nvPr/>
          </p:nvSpPr>
          <p:spPr>
            <a:xfrm>
              <a:off x="1168920" y="330048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Right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15640" y="332568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60120" y="3332160"/>
              <a:ext cx="32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a a a 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a a a a 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169640" y="3693960"/>
            <a:ext cx="6351840" cy="339120"/>
            <a:chOff x="1169640" y="3693960"/>
            <a:chExt cx="6351840" cy="339120"/>
          </a:xfrm>
        </p:grpSpPr>
        <p:sp>
          <p:nvSpPr>
            <p:cNvPr id="506" name=""/>
            <p:cNvSpPr/>
            <p:nvPr/>
          </p:nvSpPr>
          <p:spPr>
            <a:xfrm>
              <a:off x="1169640" y="3693960"/>
              <a:ext cx="171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Central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13840" y="3719520"/>
              <a:ext cx="13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"("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0840" y="3726000"/>
              <a:ext cx="296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A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A)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(A)))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((... (b)...)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95880" y="4483080"/>
            <a:ext cx="6507720" cy="1544400"/>
            <a:chOff x="695880" y="4483080"/>
            <a:chExt cx="6507720" cy="1544400"/>
          </a:xfrm>
        </p:grpSpPr>
        <p:sp>
          <p:nvSpPr>
            <p:cNvPr id="510" name=""/>
            <p:cNvSpPr/>
            <p:nvPr/>
          </p:nvSpPr>
          <p:spPr>
            <a:xfrm>
              <a:off x="695880" y="4483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direct recu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8040" y="4502160"/>
              <a:ext cx="1247040" cy="370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AT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81160" y="490068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87880" y="5294160"/>
              <a:ext cx="24868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Term { "+" Term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Factor { "*" Factor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id | "(" Expr ")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43760" y="5275440"/>
              <a:ext cx="285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erm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Factor </a:t>
              </a:r>
              <a:r>
                <a:rPr b="0" lang="de-AT" sz="14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(" Expr ")"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AA2-7D5B-4A22-81EF-51CBFA21BC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0120" y="1181160"/>
            <a:ext cx="57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Left recursion cannot be handled in topdown syntax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85320" y="163656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= b | A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15600" y="1598760"/>
            <a:ext cx="393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h alternatives start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cannot decide which one to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3360" y="2476440"/>
            <a:ext cx="4684320" cy="838800"/>
            <a:chOff x="693360" y="2476440"/>
            <a:chExt cx="4684320" cy="838800"/>
          </a:xfrm>
        </p:grpSpPr>
        <p:sp>
          <p:nvSpPr>
            <p:cNvPr id="520" name=""/>
            <p:cNvSpPr/>
            <p:nvPr/>
          </p:nvSpPr>
          <p:spPr>
            <a:xfrm>
              <a:off x="693360" y="2476440"/>
              <a:ext cx="46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eft recursion can be transformed to it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7200" y="300816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T | E "+" 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51680" y="3478320"/>
            <a:ext cx="2774520" cy="1327320"/>
            <a:chOff x="751680" y="3478320"/>
            <a:chExt cx="2774520" cy="1327320"/>
          </a:xfrm>
        </p:grpSpPr>
        <p:sp>
          <p:nvSpPr>
            <p:cNvPr id="523" name=""/>
            <p:cNvSpPr/>
            <p:nvPr/>
          </p:nvSpPr>
          <p:spPr>
            <a:xfrm>
              <a:off x="751680" y="3478320"/>
              <a:ext cx="277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at sentences can be deri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9000" y="3859200"/>
              <a:ext cx="913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+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+ T +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56000" y="4875120"/>
            <a:ext cx="4271040" cy="700920"/>
            <a:chOff x="756000" y="4875120"/>
            <a:chExt cx="4271040" cy="700920"/>
          </a:xfrm>
        </p:grpSpPr>
        <p:sp>
          <p:nvSpPr>
            <p:cNvPr id="526" name=""/>
            <p:cNvSpPr/>
            <p:nvPr/>
          </p:nvSpPr>
          <p:spPr>
            <a:xfrm>
              <a:off x="756000" y="4875120"/>
              <a:ext cx="42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rom this one can deduce the iterative EBNF ru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1160" y="5268960"/>
              <a:ext cx="132228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 = T { "+" 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F07-16BF-42D7-9965-9335CBB431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143000" y="3797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321-0180-4A6B-86B1-AB19FCBF7B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lain 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1480" y="1306440"/>
            <a:ext cx="59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inal symbo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written without quotes (ident, +,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onterminal symbol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written in angle brackets (&lt;Expr&gt;, &lt;Term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ides of a productio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separated by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55920" y="2247840"/>
            <a:ext cx="7992000" cy="3978000"/>
            <a:chOff x="655920" y="2247840"/>
            <a:chExt cx="7992000" cy="3978000"/>
          </a:xfrm>
        </p:grpSpPr>
        <p:sp>
          <p:nvSpPr>
            <p:cNvPr id="534" name=""/>
            <p:cNvSpPr/>
            <p:nvPr/>
          </p:nvSpPr>
          <p:spPr>
            <a:xfrm>
              <a:off x="655920" y="2247840"/>
              <a:ext cx="42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NF grammar for arithmetic expr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03600"/>
              <a:ext cx="3641760" cy="3522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 &lt;Te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Expr&gt; &lt;Addop&gt; &lt;Ter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Sig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dd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Add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Term&gt; &lt;Mulop&gt; &lt;Facto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Mul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Mulop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Factor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::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 &lt;Expr&gt;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9400" y="2690640"/>
              <a:ext cx="381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ternatives are transformed into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 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petition must be expressed by recur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33360" y="4102200"/>
            <a:ext cx="3248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ewer meta symbols (no |, (), [], {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t is easier to build a syntax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35000" y="5156280"/>
            <a:ext cx="196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ore clum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743-019A-4FC5-920E-0A800516BB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13590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hows the structure of a particular sen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4680" y="16876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.g. for 10 + 3 *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9120" y="222264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crete Syntax Tree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 tre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92320" y="4106880"/>
            <a:ext cx="2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34760" y="41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38360" y="41004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06560" y="41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25680" y="41004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94040" y="4076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86240" y="379584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94040" y="3772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86960" y="34909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03320" y="41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62240" y="4076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54440" y="379584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62240" y="3772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55520" y="34909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349092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Mu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37120" y="34909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2284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4492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89000" y="34909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20840" y="37591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1622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822840" y="3327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4492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62240" y="344160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28720" y="30592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9080" y="305928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dd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3340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9940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333440" y="345420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33440" y="344160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81320" y="3059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50960" y="33271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650960" y="3009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679840" y="2908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822840" y="3009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650600" y="30099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5760" y="26398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07840" y="2563920"/>
            <a:ext cx="307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ould not be possible with EB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cause of [...] and {...}, e.g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= [ Sign ] Term { Addop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25480" y="3541680"/>
            <a:ext cx="3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so reflects operator priorities: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erators further down in the t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ave a higher priority than opera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urther up in the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02000" y="4749840"/>
            <a:ext cx="6845400" cy="1575360"/>
            <a:chOff x="702000" y="4749840"/>
            <a:chExt cx="6845400" cy="1575360"/>
          </a:xfrm>
        </p:grpSpPr>
        <p:sp>
          <p:nvSpPr>
            <p:cNvPr id="583" name=""/>
            <p:cNvSpPr/>
            <p:nvPr/>
          </p:nvSpPr>
          <p:spPr>
            <a:xfrm>
              <a:off x="702000" y="4749840"/>
              <a:ext cx="59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bstract Syntax Tree</a:t>
              </a: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leaves = operands, inner nodes = operato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3560" y="601812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440" y="601812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778040" y="580392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66680" y="5586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2171880" y="580392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1778040" y="539748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422360" y="539748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98760" y="516744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26800" y="559908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Times New Roman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98040" y="5256360"/>
              <a:ext cx="41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ften used as an internal program representa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d for optim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7E3-7355-452B-A3A0-EC6BB539E5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7240" y="1268280"/>
            <a:ext cx="73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grammar is ambiguous, if more than one syntax tree can be built for a given sent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1400" y="1828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76320" y="2233440"/>
            <a:ext cx="13129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50320" y="218448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ntence: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 * id *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91920" y="2957400"/>
            <a:ext cx="4862160" cy="2851920"/>
            <a:chOff x="691920" y="2957400"/>
            <a:chExt cx="4862160" cy="2851920"/>
          </a:xfrm>
        </p:grpSpPr>
        <p:sp>
          <p:nvSpPr>
            <p:cNvPr id="600" name=""/>
            <p:cNvSpPr/>
            <p:nvPr/>
          </p:nvSpPr>
          <p:spPr>
            <a:xfrm>
              <a:off x="691920" y="2957400"/>
              <a:ext cx="40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syntax trees can be built for this sentenc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18116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0268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084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084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67652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9804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3620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3620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447920" y="384804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0760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81160" y="4140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95000" y="38847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146320" y="3835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6820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0636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0636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917720" y="377172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776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47920" y="38354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64800" y="3529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56868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9056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2872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2872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064040" y="41403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8556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2408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2408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835440" y="384804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9548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8680" y="4140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82520" y="38847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048120" y="3835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69640" y="4888080"/>
              <a:ext cx="13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07800" y="457056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07800" y="4240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314880" y="3771720"/>
              <a:ext cx="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4560" y="4888080"/>
              <a:ext cx="7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48120" y="3835440"/>
              <a:ext cx="7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61960" y="3529080"/>
              <a:ext cx="109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3000" y="5472000"/>
              <a:ext cx="48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mbiguous grammars cause problems in syntax analysi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D50-576C-4D88-A38A-375B8666F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1080" y="12445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27080" y="1712880"/>
            <a:ext cx="13129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360" y="2373480"/>
            <a:ext cx="429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the grammar is ambiguous, not the langu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grammar can be transform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27080" y="3325680"/>
            <a:ext cx="1313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 = F | T "*"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 =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10000" y="32749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.e. T has priority over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17840" y="5270400"/>
            <a:ext cx="3580920" cy="925200"/>
            <a:chOff x="717840" y="5270400"/>
            <a:chExt cx="3580920" cy="925200"/>
          </a:xfrm>
        </p:grpSpPr>
        <p:sp>
          <p:nvSpPr>
            <p:cNvPr id="649" name=""/>
            <p:cNvSpPr/>
            <p:nvPr/>
          </p:nvSpPr>
          <p:spPr>
            <a:xfrm>
              <a:off x="717840" y="5270400"/>
              <a:ext cx="35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Even better: transformation to EBN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26360" y="5675400"/>
              <a:ext cx="1278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F { "*" F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 = i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3035160" y="389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5704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9520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9520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530520" y="389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5240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49056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9056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301920" y="360684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61960" y="4646520"/>
            <a:ext cx="7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35160" y="38988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49360" y="36432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000680" y="35938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22200" y="4646520"/>
            <a:ext cx="1393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0360" y="432900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60360" y="3998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772080" y="353052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1760" y="4646520"/>
            <a:ext cx="7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01920" y="3594240"/>
            <a:ext cx="69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19160" y="3287880"/>
            <a:ext cx="109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09280" y="37958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nly this syntax tree i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1D5-6C69-44CD-8FA5-FC1BE69CE5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y should I learn about compiler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2440" y="1714680"/>
            <a:ext cx="6334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do compilers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How do computers work?</a:t>
            </a:r>
            <a:br>
              <a:rPr sz="18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instruction set, registers, addressing modes, run-time data structure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hat machine code is generated for certain language constructs?</a:t>
            </a:r>
            <a:br>
              <a:rPr sz="1800"/>
            </a:b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(efficiency consid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hat is good language de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Opportunity for a non-trivial programming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5960" y="12826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t's part of the general background of a software engin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0640" y="4254480"/>
            <a:ext cx="64274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lso useful for general softwar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eading syntactically structured command-line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Reading structured data (e.g. XML files, part lists, image file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arching in hierarchical 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nterpretation of command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B2F-2F58-4697-917F-AFC3901FCB88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herent Ambigu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3080" y="120636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are languages which are inherently ambig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7760" y="1790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Dangl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80080" y="2259000"/>
            <a:ext cx="44899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Condition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Condition Statement "else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01800" y="4889520"/>
            <a:ext cx="5064480" cy="1227960"/>
            <a:chOff x="901800" y="4889520"/>
            <a:chExt cx="5064480" cy="1227960"/>
          </a:xfrm>
        </p:grpSpPr>
        <p:sp>
          <p:nvSpPr>
            <p:cNvPr id="677" name=""/>
            <p:cNvSpPr/>
            <p:nvPr/>
          </p:nvSpPr>
          <p:spPr>
            <a:xfrm>
              <a:off x="157500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501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1328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607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90160" y="498960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8840" y="498960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39960" y="49896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51600" y="49896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4320" y="488952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5334120"/>
              <a:ext cx="318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39960" y="543384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01800" y="4889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1800" y="575316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89400" y="5753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8680" y="59040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732600" y="4583160"/>
            <a:ext cx="51642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      (a &lt; b)          if        (b &lt; c)           x = c;         else      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901440" y="3402000"/>
            <a:ext cx="5064480" cy="1182600"/>
            <a:chOff x="901440" y="3402000"/>
            <a:chExt cx="5064480" cy="1182600"/>
          </a:xfrm>
        </p:grpSpPr>
        <p:sp>
          <p:nvSpPr>
            <p:cNvPr id="695" name=""/>
            <p:cNvSpPr/>
            <p:nvPr/>
          </p:nvSpPr>
          <p:spPr>
            <a:xfrm>
              <a:off x="554976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8760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13280" y="4140360"/>
              <a:ext cx="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60720" y="361944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90160" y="424008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88840" y="4240080"/>
              <a:ext cx="7534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39960" y="424008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1240" y="424008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62320" y="4140360"/>
              <a:ext cx="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62320" y="4127400"/>
              <a:ext cx="16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87400" y="383364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0180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63960" y="37209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901440" y="37209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36640" y="3402000"/>
              <a:ext cx="814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77040" y="3618000"/>
            <a:ext cx="2577960" cy="2608200"/>
            <a:chOff x="6377040" y="3618000"/>
            <a:chExt cx="2577960" cy="2608200"/>
          </a:xfrm>
        </p:grpSpPr>
        <p:sp>
          <p:nvSpPr>
            <p:cNvPr id="711" name=""/>
            <p:cNvSpPr/>
            <p:nvPr/>
          </p:nvSpPr>
          <p:spPr>
            <a:xfrm>
              <a:off x="6377040" y="3618000"/>
              <a:ext cx="25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There is no unambigu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grammar for this languag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77040" y="4672080"/>
              <a:ext cx="2577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# solution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lways recognize the long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sible right-hand side of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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eads to the lower of the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wo syntax t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0A0-0E89-49C9-8312-7A6113DA81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143000" y="422928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185-7897-44BF-BDCF-3BB0A20EEF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lassification of Gramma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6160" y="11923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ue to Noam Chomsky (195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9120" y="16336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s are sets of productions of the form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09920" y="2144880"/>
            <a:ext cx="4740840" cy="1027440"/>
            <a:chOff x="709920" y="2144880"/>
            <a:chExt cx="4740840" cy="1027440"/>
          </a:xfrm>
        </p:grpSpPr>
        <p:sp>
          <p:nvSpPr>
            <p:cNvPr id="720" name=""/>
            <p:cNvSpPr/>
            <p:nvPr/>
          </p:nvSpPr>
          <p:spPr>
            <a:xfrm>
              <a:off x="709920" y="21448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8160" y="2165400"/>
              <a:ext cx="37926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Unrestricted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rbitrar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A b | B c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Bc =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B = b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556160" y="268452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A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aBcB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dBb </a:t>
            </a:r>
            <a:r>
              <a:rPr b="0" lang="de-AT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b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64640" y="3097080"/>
            <a:ext cx="28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ognized by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imes New Roman"/>
              </a:rPr>
              <a:t>Turing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09920" y="3541680"/>
            <a:ext cx="4397040" cy="844560"/>
            <a:chOff x="709920" y="3541680"/>
            <a:chExt cx="4397040" cy="844560"/>
          </a:xfrm>
        </p:grpSpPr>
        <p:sp>
          <p:nvSpPr>
            <p:cNvPr id="725" name=""/>
            <p:cNvSpPr/>
            <p:nvPr/>
          </p:nvSpPr>
          <p:spPr>
            <a:xfrm>
              <a:off x="709920" y="35416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52400" y="3562200"/>
              <a:ext cx="345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tex-sensitive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|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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|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near bounded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09920" y="4583160"/>
            <a:ext cx="4463640" cy="844560"/>
            <a:chOff x="709920" y="4583160"/>
            <a:chExt cx="4463640" cy="844560"/>
          </a:xfrm>
        </p:grpSpPr>
        <p:sp>
          <p:nvSpPr>
            <p:cNvPr id="728" name=""/>
            <p:cNvSpPr/>
            <p:nvPr/>
          </p:nvSpPr>
          <p:spPr>
            <a:xfrm>
              <a:off x="709920" y="458316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4603680"/>
              <a:ext cx="349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Context-free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T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a b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sh-down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709920" y="5599080"/>
            <a:ext cx="4762440" cy="844560"/>
            <a:chOff x="709920" y="5599080"/>
            <a:chExt cx="4762440" cy="844560"/>
          </a:xfrm>
        </p:grpSpPr>
        <p:sp>
          <p:nvSpPr>
            <p:cNvPr id="731" name=""/>
            <p:cNvSpPr/>
            <p:nvPr/>
          </p:nvSpPr>
          <p:spPr>
            <a:xfrm>
              <a:off x="709920" y="559908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clas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55280" y="5619600"/>
              <a:ext cx="381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Regular grammar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NT,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= T | T  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.g: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= b | b 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d by </a:t>
              </a:r>
              <a:r>
                <a:rPr b="0" lang="de-AT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ite auto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892840" y="4673520"/>
            <a:ext cx="2484720" cy="1727280"/>
            <a:chOff x="5892840" y="4673520"/>
            <a:chExt cx="2484720" cy="1727280"/>
          </a:xfrm>
        </p:grpSpPr>
        <p:sp>
          <p:nvSpPr>
            <p:cNvPr id="734" name=""/>
            <p:cNvSpPr/>
            <p:nvPr/>
          </p:nvSpPr>
          <p:spPr>
            <a:xfrm>
              <a:off x="5892840" y="4673520"/>
              <a:ext cx="203040" cy="17272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65800" y="5103720"/>
              <a:ext cx="2111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these two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relevant in 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B5B-651C-41BD-980A-65F65D0ACC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143000" y="466092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F24-1263-4833-9C23-A454C91C93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ample Z# Progra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1440" y="1235160"/>
            <a:ext cx="3331080" cy="546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n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 size = 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p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[] ne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le 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x,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*---------- initialize val 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pos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[size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neg =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ew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nt[size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lt; size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l.pos[i] = 0; val.neg[i] = 0; i++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*---------- read values 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-size &lt; x &amp;&amp; x &lt; siz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0 &lt;= x) { val.pos[x]++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l.neg[-x]++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55520" y="1192320"/>
            <a:ext cx="38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program class; no separat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51920" y="178920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ner classes (without metho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49040" y="257652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313524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877-46AE-4ECE-908C-AF4FC54A6A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exical Structure of Z#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4720" y="12812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36480" y="13190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= letter { letter | digit | '_'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080" y="17128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41520" y="175104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 digi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09480" y="172548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numbers ar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440" y="21448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Char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40080" y="218268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 = '\'' char  '\'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11280" y="2157480"/>
            <a:ext cx="332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ll character constants are of type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may contain \r and \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440" y="2576520"/>
            <a:ext cx="103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 u="sng">
                <a:solidFill>
                  <a:srgbClr val="3333cc"/>
                </a:solidFill>
                <a:uFillTx/>
                <a:latin typeface="Times New Roman"/>
              </a:rPr>
              <a:t>no</a:t>
            </a:r>
            <a:r>
              <a:rPr b="1" lang="de-AT" sz="1600" spc="-1" strike="noStrike">
                <a:solidFill>
                  <a:srgbClr val="3333cc"/>
                </a:solidFill>
                <a:latin typeface="Times New Roman"/>
              </a:rPr>
              <a:t>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85080" y="3008160"/>
            <a:ext cx="6962040" cy="771480"/>
            <a:chOff x="685080" y="3008160"/>
            <a:chExt cx="6962040" cy="771480"/>
          </a:xfrm>
        </p:grpSpPr>
        <p:sp>
          <p:nvSpPr>
            <p:cNvPr id="756" name=""/>
            <p:cNvSpPr/>
            <p:nvPr/>
          </p:nvSpPr>
          <p:spPr>
            <a:xfrm>
              <a:off x="685080" y="30081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Key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8000" y="3046320"/>
              <a:ext cx="519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rea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86160" y="3948120"/>
            <a:ext cx="6634440" cy="1197720"/>
            <a:chOff x="686160" y="3948120"/>
            <a:chExt cx="6634440" cy="1197720"/>
          </a:xfrm>
        </p:grpSpPr>
        <p:sp>
          <p:nvSpPr>
            <p:cNvPr id="759" name=""/>
            <p:cNvSpPr/>
            <p:nvPr/>
          </p:nvSpPr>
          <p:spPr>
            <a:xfrm>
              <a:off x="686160" y="39481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9080" y="3986280"/>
              <a:ext cx="48715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!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gt;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lt;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&amp;&amp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85440" y="5268960"/>
            <a:ext cx="4289040" cy="349920"/>
            <a:chOff x="685440" y="5268960"/>
            <a:chExt cx="4289040" cy="349920"/>
          </a:xfrm>
        </p:grpSpPr>
        <p:sp>
          <p:nvSpPr>
            <p:cNvPr id="762" name=""/>
            <p:cNvSpPr/>
            <p:nvPr/>
          </p:nvSpPr>
          <p:spPr>
            <a:xfrm>
              <a:off x="685440" y="526896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45840" y="530712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...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632400" y="5281560"/>
              <a:ext cx="134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y be nes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84000" y="5700600"/>
            <a:ext cx="4797360" cy="337320"/>
            <a:chOff x="684000" y="5700600"/>
            <a:chExt cx="4797360" cy="337320"/>
          </a:xfrm>
        </p:grpSpPr>
        <p:sp>
          <p:nvSpPr>
            <p:cNvPr id="766" name=""/>
            <p:cNvSpPr/>
            <p:nvPr/>
          </p:nvSpPr>
          <p:spPr>
            <a:xfrm>
              <a:off x="684000" y="5700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3333cc"/>
                  </a:solidFill>
                  <a:latin typeface="Times New Roman"/>
                </a:rPr>
                <a:t>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50880" y="5700600"/>
              <a:ext cx="303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cha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ray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211-DCDC-460D-8229-630A867CEF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1535040"/>
            <a:ext cx="5136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lass"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ConstDecl | VarDecl | Class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 { MethodDecl 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56280" y="1535040"/>
            <a:ext cx="173664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1040" y="11685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71040" y="2933640"/>
            <a:ext cx="7918200" cy="1640520"/>
            <a:chOff x="671040" y="2933640"/>
            <a:chExt cx="7918200" cy="1640520"/>
          </a:xfrm>
        </p:grpSpPr>
        <p:sp>
          <p:nvSpPr>
            <p:cNvPr id="773" name=""/>
            <p:cNvSpPr/>
            <p:nvPr/>
          </p:nvSpPr>
          <p:spPr>
            <a:xfrm>
              <a:off x="671040" y="29336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5640" y="3325680"/>
              <a:ext cx="5348520" cy="1248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const" Type ident "=" ( number | charConst )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ar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ident }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ethodDecl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Type | "void") ident "(" [ FormPars ] ")" Block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[ "[" "]" 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Par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ype ident { "," Type ident 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95160" y="4049640"/>
              <a:ext cx="249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nly one-dimensional arr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F84-10FC-4451-B313-86231F2333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760" y="11685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9600" y="1560600"/>
            <a:ext cx="469332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{" {Statement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" Expr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[ActPars]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+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--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Condition ")" Block [ "else" Block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 "(" Condition ")"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break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turn" [ Expr ]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ad" "(" Designator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rite" "(" Expr [ "," number ] ")" ";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Pa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{ "," Exp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160680" y="366876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put from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utput to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ystem.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4EC-CE76-45E4-8AF3-EC6B4CA0C2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ctical Structure of Z#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2120" y="11685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3280" y="1560600"/>
            <a:ext cx="49687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 { "||" Cond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 { "&amp;&amp;" CondFact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dFa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 Relop Exp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=" | "!=" | "&gt;" | "&gt;=" | "&lt;" | "&lt;=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73280" y="2614680"/>
            <a:ext cx="4976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 "-" ] Term { Addop Term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 Mulop Factor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[ "(" [ ActPars ] ")"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Co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new" ident [ "[" Expr "]"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[ "[" Expr "]" ] { "." ident [ "[" Expr "]" ] 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" | "-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33344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*" | "/" | "%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927400" y="36561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 constr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256-E49E-4D5C-BA3D-14019C9BC7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ject structure, Compilation, Usag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9280" y="3147840"/>
            <a:ext cx="774684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library /out:zsclib.d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.cs Scanner.cs Parser.cs SymTab.cs CodeGen.cs ErrorStrings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library /out:zsctest.dll /reference:zsclib.dll,"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%NUnitHOME%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\bin\nunit.framework.dl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Test.cs ScannerTest.cs ParserTest.cs SymTabTest.cs TestTextWrit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sc /target:exe /out:zsc.exe /reference:zsclib.dll Mai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61080" y="45054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z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40840" y="4495680"/>
            <a:ext cx="8924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101000" y="449568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83200" y="4649760"/>
            <a:ext cx="431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648480" y="4640400"/>
            <a:ext cx="431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92360" y="4444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ompi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65760" y="5003640"/>
            <a:ext cx="11332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48480" y="50007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42280" y="4989600"/>
            <a:ext cx="535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00480" y="5133960"/>
            <a:ext cx="43200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13040" y="49179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xec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9600" y="1057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rojec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59080" y="1662120"/>
            <a:ext cx="13633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Tab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deGe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trings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39560" y="1662120"/>
            <a:ext cx="796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in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8840" y="1652760"/>
            <a:ext cx="15811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TabTest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stTextWrit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6520" y="14079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12000" y="14079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693840" y="13892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tes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62160" y="5543640"/>
            <a:ext cx="1698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ldasm 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59640" y="55389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yProg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00480" y="5672160"/>
            <a:ext cx="110664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9640" y="5484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isassemb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4037040" y="1419120"/>
            <a:ext cx="245880" cy="2224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6576840" y="1407960"/>
            <a:ext cx="181080" cy="2286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1457280" y="1414440"/>
            <a:ext cx="181080" cy="228600"/>
          </a:xfrm>
          <a:prstGeom prst="rect">
            <a:avLst/>
          </a:prstGeom>
          <a:ln w="0">
            <a:noFill/>
          </a:ln>
        </p:spPr>
      </p:pic>
      <p:cxnSp>
        <p:nvCxnSpPr>
          <p:cNvPr id="812" name=""/>
          <p:cNvCxnSpPr>
            <a:stCxn id="800" idx="2"/>
            <a:endCxn id="799" idx="3"/>
          </p:cNvCxnSpPr>
          <p:nvPr/>
        </p:nvCxnSpPr>
        <p:spPr>
          <a:xfrm rot="5400000">
            <a:off x="3442680" y="1355400"/>
            <a:ext cx="375480" cy="161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1" idx="2"/>
            <a:endCxn id="799" idx="3"/>
          </p:cNvCxnSpPr>
          <p:nvPr/>
        </p:nvCxnSpPr>
        <p:spPr>
          <a:xfrm flipV="1" rot="16200000">
            <a:off x="4852440" y="320040"/>
            <a:ext cx="467280" cy="4528440"/>
          </a:xfrm>
          <a:prstGeom prst="bentConnector4">
            <a:avLst>
              <a:gd name="adj1" fmla="val -48959"/>
              <a:gd name="adj2" fmla="val 642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6579360" y="1214280"/>
            <a:ext cx="119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3333cc"/>
                </a:solidFill>
                <a:latin typeface="Arial"/>
              </a:rPr>
              <a:t>NUnit Test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28040" y="1222200"/>
            <a:ext cx="168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3333cc"/>
                </a:solidFill>
                <a:latin typeface="Arial"/>
              </a:rPr>
              <a:t>Command Line 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66840" y="4486320"/>
            <a:ext cx="1474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sc myProg.z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6335640" y="4998960"/>
            <a:ext cx="151308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604-DE27-49BE-874C-E33218F4C6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921040"/>
            <a:ext cx="673092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760" y="1835280"/>
            <a:ext cx="59292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2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tructure of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yntax Tree and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homsky's Classification of 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The Z#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4F6-6C06-4D41-A46E-177C83C77D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ynam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1040" y="1371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4040" y="1736640"/>
            <a:ext cx="29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62908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90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5356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52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114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09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9736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276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38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56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600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62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7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25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24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86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248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0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588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5392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34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5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96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5764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424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752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24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86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548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188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70680" y="1854360"/>
            <a:ext cx="7503480" cy="1961280"/>
            <a:chOff x="670680" y="1854360"/>
            <a:chExt cx="7503480" cy="1961280"/>
          </a:xfrm>
        </p:grpSpPr>
        <p:sp>
          <p:nvSpPr>
            <p:cNvPr id="95" name=""/>
            <p:cNvSpPr/>
            <p:nvPr/>
          </p:nvSpPr>
          <p:spPr>
            <a:xfrm>
              <a:off x="2425680" y="224784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6560" y="226044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lexical analysis (scan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185436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0680" y="304812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328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2240" y="3097080"/>
              <a:ext cx="64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assig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8320" y="3097080"/>
              <a:ext cx="7387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6640" y="3097080"/>
              <a:ext cx="5803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t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701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59480" y="3097080"/>
              <a:ext cx="4917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pl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05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i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02320" y="322596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0240" y="30592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3600" y="271764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02320" y="364500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69880" y="34783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0320" y="3809880"/>
            <a:ext cx="4917600" cy="2769480"/>
            <a:chOff x="670320" y="3809880"/>
            <a:chExt cx="4917600" cy="2769480"/>
          </a:xfrm>
        </p:grpSpPr>
        <p:sp>
          <p:nvSpPr>
            <p:cNvPr id="112" name=""/>
            <p:cNvSpPr/>
            <p:nvPr/>
          </p:nvSpPr>
          <p:spPr>
            <a:xfrm>
              <a:off x="3873600" y="380988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3600" y="466092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5680" y="419112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5800" y="419112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syntax analysis (par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320" y="52322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3920" y="6272280"/>
              <a:ext cx="23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ident = number * ident +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9600" y="58276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72080" y="615960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72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3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83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579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1120" y="57913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03640" y="57913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7240" y="5702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0120" y="544680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37240" y="54097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87800" y="54100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780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6716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696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8400" y="504036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E3C-88E0-40F5-A445-20E6A2D4E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ynamic 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35240" y="3098880"/>
            <a:ext cx="3708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0" y="30988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mantic analysis (type checkin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320" y="1371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3920" y="241128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ent = number * ident +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0" y="196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2080" y="229860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72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3720" y="223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83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930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19303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303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7240" y="184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0120" y="15858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737240" y="15490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87800" y="15494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780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6716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36960" y="1473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8400" y="11793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1040" y="36194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26520" y="370692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x tree, symbol table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5120" y="28576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5120" y="35560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70320" y="4064040"/>
            <a:ext cx="5273280" cy="2548080"/>
            <a:chOff x="670320" y="4064040"/>
            <a:chExt cx="5273280" cy="2548080"/>
          </a:xfrm>
        </p:grpSpPr>
        <p:sp>
          <p:nvSpPr>
            <p:cNvPr id="160" name=""/>
            <p:cNvSpPr/>
            <p:nvPr/>
          </p:nvSpPr>
          <p:spPr>
            <a:xfrm>
              <a:off x="2235240" y="43308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6040" y="4330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75120" y="478800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5240" y="50292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67000" y="5029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code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5120" y="551196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1320" y="5740560"/>
              <a:ext cx="9320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d.i4.s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dloc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75120" y="406404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320" y="57531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FF7-3C8B-47CB-86D3-8E2CF119D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ingle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135900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ases work in an interleaved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42200" y="23734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42560" y="2906640"/>
            <a:ext cx="11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41840" y="342756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4720" y="3973680"/>
            <a:ext cx="20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 code for 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31480" y="45450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of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47840" y="209556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7840" y="26798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7840" y="32385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7840" y="37465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7840" y="42926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47840" y="48769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74640" y="47372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562040" y="224748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2040" y="2247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8760" y="5472000"/>
            <a:ext cx="61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target program is already generated while the source program is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1040" y="446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3800" y="47354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3D7-339A-4DE0-BF76-C9A842190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ulti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1840" y="13590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hases are separate "programs", which run sequent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0000" y="3567240"/>
            <a:ext cx="44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ach phase reads from a file and writes to a new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080" y="298296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5800" y="2386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312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764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8760" y="2247840"/>
            <a:ext cx="53316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03960" y="29829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6840" y="23860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008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536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60560" y="29829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4400" y="227160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9928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41280" y="23860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5840" y="2565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27800" y="2247840"/>
            <a:ext cx="533520" cy="635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3760" y="29829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3333cc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720" y="45720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y multi-pa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760" y="4978440"/>
            <a:ext cx="38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memory is scarce (irrelevant to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the language is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if portability i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42C-11E4-4C25-9383-6CA39D806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day: Often Two-Pass Compil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8840" y="1536840"/>
            <a:ext cx="520920" cy="571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163836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Times New Roman"/>
              </a:rPr>
              <a:t>Fron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95120" y="203040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60640" y="1612800"/>
            <a:ext cx="787320" cy="596880"/>
            <a:chOff x="3860640" y="1612800"/>
            <a:chExt cx="787320" cy="596880"/>
          </a:xfrm>
        </p:grpSpPr>
        <p:sp>
          <p:nvSpPr>
            <p:cNvPr id="217" name=""/>
            <p:cNvSpPr/>
            <p:nvPr/>
          </p:nvSpPr>
          <p:spPr>
            <a:xfrm>
              <a:off x="3860640" y="2057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92640" y="2057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87720" y="19810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203720" y="19810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76640" y="18414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203720" y="17524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9680" y="16128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1828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406760" y="1752480"/>
              <a:ext cx="1015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608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83880" y="229716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2320" y="16383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6720" y="203040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63960" y="1841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67560" y="18414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64440" y="1536840"/>
            <a:ext cx="520560" cy="571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459440" y="3073320"/>
            <a:ext cx="5666400" cy="1330560"/>
            <a:chOff x="1459440" y="3073320"/>
            <a:chExt cx="5666400" cy="1330560"/>
          </a:xfrm>
        </p:grpSpPr>
        <p:sp>
          <p:nvSpPr>
            <p:cNvPr id="235" name=""/>
            <p:cNvSpPr/>
            <p:nvPr/>
          </p:nvSpPr>
          <p:spPr>
            <a:xfrm>
              <a:off x="1459440" y="307332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language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93680" y="3478320"/>
              <a:ext cx="6987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s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7760" y="307332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achine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10520" y="3478320"/>
              <a:ext cx="9471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ent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wer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P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0600" y="3670200"/>
            <a:ext cx="2590560" cy="1008720"/>
            <a:chOff x="2730600" y="3670200"/>
            <a:chExt cx="2590560" cy="1008720"/>
          </a:xfrm>
        </p:grpSpPr>
        <p:sp>
          <p:nvSpPr>
            <p:cNvPr id="240" name=""/>
            <p:cNvSpPr/>
            <p:nvPr/>
          </p:nvSpPr>
          <p:spPr>
            <a:xfrm>
              <a:off x="2768760" y="367020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68760" y="3670200"/>
              <a:ext cx="2539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5800" y="3670200"/>
              <a:ext cx="25527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743200" y="3682440"/>
              <a:ext cx="25779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730600" y="3923640"/>
              <a:ext cx="25905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68760" y="393660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68760" y="4267080"/>
              <a:ext cx="25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48400" y="4341600"/>
              <a:ext cx="226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ny combination poss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4120" y="5067360"/>
            <a:ext cx="3914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tter por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y combinations between front end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d back end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ptimizations are easier on the intermediat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resentation than on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44680" y="5067360"/>
            <a:ext cx="2026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eds mor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0D1-4F83-44DA-A3B1-CBD08448A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ml</cp:lastModifiedBy>
  <cp:lastPrinted>2001-09-28T08:52:55Z</cp:lastPrinted>
  <dcterms:modified xsi:type="dcterms:W3CDTF">2006-02-07T18:26:49Z</dcterms:modified>
  <cp:revision>367</cp:revision>
  <dc:subject/>
  <dc:title>Javascript-Anweisungen</dc:title>
</cp:coreProperties>
</file>