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7246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72FC-DA67-4FC6-A895-35F9C8E6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6FBC-E153-4D81-8F49-8FD77B5C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651E-B85A-4435-99C5-F44B336C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DB8C-E84F-4316-9C74-91B57E98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D8E4-9731-4BFB-9F2E-F28DD8A7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74E4-435B-4626-AC36-B337445A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E16D-7B17-4918-A833-50D1C331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8229-06D3-4CAB-A487-F362A61B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3E83-2DBC-4C5B-8094-7EC4511C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6858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44B3-F866-4845-BCB3-504F97FC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8ABD-4D99-472F-AD76-4B4F02C2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F6D-B95F-4B13-82B7-F11F1F9B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C5A9-89A3-4AA4-AE53-69C1DD7E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F64A-2BC9-4D86-BF70-52D804BB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5D2E-8511-4D06-B092-53346688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D67B-D634-4072-9CAC-7AEE16CE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A6D7-451F-48F9-AE8C-BB7281C7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AB9C-E269-4109-90B3-4A7C2E2E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DBC-2924-46A2-BCD9-022993B7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A58-32A5-44CE-A4BF-3B783799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6858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96D5-25A3-4814-9168-96A07BE1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E95-7900-42A2-B94D-ED67548B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5656-A366-400D-92B1-70B42BCE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EBB2-E4CE-4D67-BA21-5272E06B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7C15-4CCE-48C5-BEA7-7DEF4B534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560" y="533520"/>
            <a:ext cx="83664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08C6-B0AE-48F8-82EE-5EA11DB6F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560" y="533520"/>
            <a:ext cx="83664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43000" y="2489040"/>
            <a:ext cx="6730920" cy="4194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8200" y="1835280"/>
            <a:ext cx="684072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Cod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he .NET Common Language Runtime (CL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Jumps and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7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tro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2DAF-B615-454E-83D8-4CB8B9CC10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403440" y="2044800"/>
            <a:ext cx="673200" cy="647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ata Areas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1440" y="13082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class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99800" y="1789200"/>
            <a:ext cx="1337400" cy="120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X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a,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ar 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obj = new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80640" y="2052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03440" y="2044800"/>
            <a:ext cx="6732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80640" y="2268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03440" y="2260440"/>
            <a:ext cx="6732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81000" y="24843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03440" y="2476440"/>
            <a:ext cx="6732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03440" y="1905120"/>
            <a:ext cx="0" cy="9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76640" y="1905120"/>
            <a:ext cx="0" cy="9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65000" y="1573200"/>
            <a:ext cx="5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13000" y="204480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55960" y="195120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ob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85520" y="1979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ressed by field token relative 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03440" y="4064040"/>
            <a:ext cx="67320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1440" y="33274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array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03400" y="3808440"/>
            <a:ext cx="16952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[] a = new int[4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02440" y="40719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[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03440" y="4064040"/>
            <a:ext cx="6732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02440" y="42879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[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03440" y="4280040"/>
            <a:ext cx="6732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2440" y="45036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[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03440" y="4495680"/>
            <a:ext cx="6732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76640" y="3924360"/>
            <a:ext cx="0" cy="11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65000" y="3592440"/>
            <a:ext cx="5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13000" y="40640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58200" y="3970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83720" y="3998880"/>
            <a:ext cx="335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ressed by index value relativ 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02440" y="47196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[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03440" y="4711680"/>
            <a:ext cx="6732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03440" y="3924360"/>
            <a:ext cx="0" cy="11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6040" y="5330880"/>
            <a:ext cx="758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Z# supports only vectors, i.e. one dimensional arrays with index starting at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nly vectors can be handled by the special CIL instruction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ewar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dle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dele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e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499-0C79-43EB-B6DE-E5CB036B61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de Buff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1480" y="1284120"/>
            <a:ext cx="627516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Z# has only static methods that belong to type of the main program 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ach method consists of a stream of CIL instructions and metadata,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.entrypoi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.local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.maxstack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access attributes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792720" y="2322360"/>
            <a:ext cx="8280720" cy="3907440"/>
            <a:chOff x="792720" y="2322360"/>
            <a:chExt cx="8280720" cy="3907440"/>
          </a:xfrm>
        </p:grpSpPr>
        <p:sp>
          <p:nvSpPr>
            <p:cNvPr id="277" name=""/>
            <p:cNvSpPr/>
            <p:nvPr/>
          </p:nvSpPr>
          <p:spPr>
            <a:xfrm>
              <a:off x="1716120" y="2862360"/>
              <a:ext cx="2335320" cy="25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2720" y="2322360"/>
              <a:ext cx="67582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ystem.Reflection.Emit.ILGenerato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manages the CIL strea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e can access the IL stream of the currently compiled method via the static field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ernal static ILGenerator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f clas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od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9520" y="3446640"/>
              <a:ext cx="3045960" cy="2424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lass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LGenerat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* overloaded (see next slide) */</a:t>
              </a:r>
              <a:br>
                <a:rPr sz="1400"/>
              </a:b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irtual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Emi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OpCode op, ...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* for method calls */</a:t>
              </a:r>
              <a:br>
                <a:rPr sz="1400"/>
              </a:b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EmitCal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br>
                <a:rPr sz="1400"/>
              </a:b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OpCode op,</a:t>
              </a:r>
              <a:br>
                <a:rPr sz="1400"/>
              </a:b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MethodInfo meth,</a:t>
              </a:r>
              <a:br>
                <a:rPr sz="1400"/>
              </a:b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ype[] varArgs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4550760" y="3284640"/>
              <a:ext cx="4522680" cy="2945160"/>
              <a:chOff x="4550760" y="3284640"/>
              <a:chExt cx="4522680" cy="2945160"/>
            </a:xfrm>
          </p:grpSpPr>
          <p:sp>
            <p:nvSpPr>
              <p:cNvPr id="281" name=""/>
              <p:cNvSpPr/>
              <p:nvPr/>
            </p:nvSpPr>
            <p:spPr>
              <a:xfrm>
                <a:off x="4550760" y="3284640"/>
                <a:ext cx="4522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600" spc="-1" strike="noStrike">
                    <a:solidFill>
                      <a:srgbClr val="000000"/>
                    </a:solidFill>
                    <a:latin typeface="Times New Roman"/>
                  </a:rPr>
                  <a:t>Handles for instruction are defined in calss </a:t>
                </a:r>
                <a:r>
                  <a:rPr b="0" i="1" lang="de-AT" sz="1600" spc="-1" strike="noStrike">
                    <a:solidFill>
                      <a:srgbClr val="000000"/>
                    </a:solidFill>
                    <a:latin typeface="Times New Roman"/>
                  </a:rPr>
                  <a:t>OpCodes</a:t>
                </a:r>
                <a:r>
                  <a:rPr b="0" lang="de-AT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600" spc="-1" strike="noStrike">
                    <a:solidFill>
                      <a:srgbClr val="000000"/>
                    </a:solidFill>
                    <a:latin typeface="Times New Roman"/>
                  </a:rPr>
                  <a:t>Wir verwenden Abkürzungen in Klasse </a:t>
                </a:r>
                <a:r>
                  <a:rPr b="0" i="1" lang="de-AT" sz="1600" spc="-1" strike="noStrike">
                    <a:solidFill>
                      <a:srgbClr val="000000"/>
                    </a:solidFill>
                    <a:latin typeface="Times New Roman"/>
                  </a:rPr>
                  <a:t>Code</a:t>
                </a:r>
                <a:r>
                  <a:rPr b="0" lang="de-AT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880880" y="3903480"/>
                <a:ext cx="3076560" cy="15858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440"/>
                    <a:tab algn="l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static readonly OpC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90440"/>
                    <a:tab algn="l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de-AT" sz="1400" spc="-1" strike="noStrike">
                    <a:solidFill>
                      <a:srgbClr val="000000"/>
                    </a:solidFill>
                    <a:latin typeface="Arial"/>
                  </a:rPr>
                  <a:t>LDARG0</a:t>
                </a: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= OpCodes.Ldarg_0,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90440"/>
                    <a:tab algn="l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de-AT" sz="1400" spc="-1" strike="noStrike">
                    <a:solidFill>
                      <a:srgbClr val="000000"/>
                    </a:solidFill>
                    <a:latin typeface="Arial"/>
                  </a:rPr>
                  <a:t>LDARG</a:t>
                </a: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= OpCodes.Ldarg_S,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90440"/>
                    <a:tab algn="l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de-AT" sz="1400" spc="-1" strike="noStrike">
                    <a:solidFill>
                      <a:srgbClr val="000000"/>
                    </a:solidFill>
                    <a:latin typeface="Arial"/>
                  </a:rPr>
                  <a:t>LDC0</a:t>
                </a: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= OpCodes.Ldc_I4_0,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90440"/>
                    <a:tab algn="l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de-AT" sz="1400" spc="-1" strike="noStrike">
                    <a:solidFill>
                      <a:srgbClr val="000000"/>
                    </a:solidFill>
                    <a:latin typeface="Arial"/>
                  </a:rPr>
                  <a:t>ADD</a:t>
                </a: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= OpCodes.Add,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90440"/>
                    <a:tab algn="l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de-AT" sz="1400" spc="-1" strike="noStrike">
                    <a:solidFill>
                      <a:srgbClr val="000000"/>
                    </a:solidFill>
                    <a:latin typeface="Arial"/>
                  </a:rPr>
                  <a:t>BEQ</a:t>
                </a: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= OpCodes.Beq,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90440"/>
                    <a:tab algn="l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... 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575240" y="5567040"/>
                <a:ext cx="209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600" spc="-1" strike="noStrike">
                    <a:solidFill>
                      <a:srgbClr val="000000"/>
                    </a:solidFill>
                    <a:latin typeface="Times New Roman"/>
                  </a:rPr>
                  <a:t>e.g.: Generating </a:t>
                </a:r>
                <a:r>
                  <a:rPr b="0" i="1" lang="de-AT" sz="1600" spc="-1" strike="noStrike">
                    <a:solidFill>
                      <a:srgbClr val="000000"/>
                    </a:solidFill>
                    <a:latin typeface="Times New Roman"/>
                  </a:rPr>
                  <a:t>ldloc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884480" y="5922720"/>
                <a:ext cx="2478960" cy="3070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440"/>
                    <a:tab algn="l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400" spc="-1" strike="noStrike">
                    <a:solidFill>
                      <a:srgbClr val="000000"/>
                    </a:solidFill>
                    <a:latin typeface="Arial"/>
                  </a:rPr>
                  <a:t>Code.il.Emit(Code.LDLOC2)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8FF1-D8FD-4092-804F-E26D194C26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mit methods of ILGenerato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46280" y="1712880"/>
            <a:ext cx="7341840" cy="423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LGenera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use for the following IL instruction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m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pCode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ldarg.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ldloc.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stloc.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ldnull, ldc.i4.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ld.i4.m1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add, sub, mul, div, rem, neg,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ldlen, ldelem... , stelem... , dup, pop, ret, th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m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pCode, byte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ldarg.s, starg.s, ldloc.s, stloc.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m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pCode, int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ldc.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m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pCode, FieldInfo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ldsfld, stsfld, ldfld, stf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m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pCode, LocalBuilder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ldloc.s, stloc.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m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pCode, ConstructorInfo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newob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m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pCode, Type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newa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m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pCode, Label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br, beq, bge, bgt, ble, blt, bne.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for method calls */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mitCal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OpCode, MethodInfo, Type[]);  // call (set last argument (varargs) to nul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3B6B-0A2E-494C-A07A-BB1ACA1C1C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Metadata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13720" y="3002040"/>
            <a:ext cx="7949880" cy="3010320"/>
            <a:chOff x="513720" y="3002040"/>
            <a:chExt cx="7949880" cy="3010320"/>
          </a:xfrm>
        </p:grpSpPr>
        <p:sp>
          <p:nvSpPr>
            <p:cNvPr id="289" name=""/>
            <p:cNvSpPr/>
            <p:nvPr/>
          </p:nvSpPr>
          <p:spPr>
            <a:xfrm>
              <a:off x="757080" y="3360960"/>
              <a:ext cx="7706520" cy="265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178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nal static void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eateMetadat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(Symbol sym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178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witch (sym.kind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178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se Symbol.Kinds.</a:t>
              </a: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Prog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178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ssemblyName aName = new AssemblyName(); aName.Name = sym.nam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178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ssembly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AppDomain.CurrentDomain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DefineDynamicAssembly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178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Name, AssemblyBuilderAccess.Save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178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modul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assembly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DefineDynamicModul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sym.name + "Module", sym.name + ".exe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178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program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module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DefineTyp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sym.name, TypeAttributes.Class | TypeAttributes.Public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178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nn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null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178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178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178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3720" y="3002040"/>
              <a:ext cx="776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metho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reateMetadat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of clas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od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creates metadata objects from symbol node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515880" y="1500120"/>
            <a:ext cx="6547320" cy="1297440"/>
            <a:chOff x="515880" y="1500120"/>
            <a:chExt cx="6547320" cy="1297440"/>
          </a:xfrm>
        </p:grpSpPr>
        <p:sp>
          <p:nvSpPr>
            <p:cNvPr id="292" name=""/>
            <p:cNvSpPr/>
            <p:nvPr/>
          </p:nvSpPr>
          <p:spPr>
            <a:xfrm>
              <a:off x="515880" y="1500120"/>
              <a:ext cx="561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las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od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has fields for managing important metadata item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35240" y="1851120"/>
              <a:ext cx="5727960" cy="946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ic AssemblyBuilder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/ the program assemb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ic ModuleBuilder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/ the program modu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ic TypeBuilder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/ the main 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ic TypeBuilder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/ the currently compiled inner 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515880" y="1239840"/>
            <a:ext cx="755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scribes the properties of the components of an assembly (types, fields, methods, ..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B058-BD61-4E61-9E37-2017BC458F57}" type="slidenum">
              <a:t>13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747800" y="3798720"/>
            <a:ext cx="1940040" cy="268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3160" y="3508200"/>
            <a:ext cx="573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itional field in Struct node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ernal Type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ys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creating the corresponding CLR types for a Symbol no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Metadata: local variabl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1120" y="1243080"/>
            <a:ext cx="76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metho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eclareLoca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LGenerat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returns a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stem.Reflection.Emit.LocalBui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at builds the metadata for local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8000" y="1846440"/>
            <a:ext cx="419328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430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l static void CreateMetadata (Symbol sym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430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 (sym.kin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430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e Symbol.Kinds.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Loc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430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l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DeclareLoc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ym.type.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ys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430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430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430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A81-4B07-4386-B485-5733B19468C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747800" y="5761080"/>
            <a:ext cx="2665440" cy="268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26040" y="5479920"/>
            <a:ext cx="709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itional field for Symbol node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ernal ConstructorBuild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generating invocations to constructor when creating new objects 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ewobj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47800" y="4484520"/>
            <a:ext cx="1940040" cy="268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1000" y="4194000"/>
            <a:ext cx="66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zusätzliches Feld für Strukturknoten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ernal Type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ys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m den entsprechenden CLR-Typen für das Symbol anlegen zu könn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Metadata: typ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1840" y="1243080"/>
            <a:ext cx="7677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metho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efineTyp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ModuleBuild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returns a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stem.Reflection.Emit.TypeBui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at builds the metadata for typ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ner classes from Z# are mapped to outer types in the CL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8720" y="2084400"/>
            <a:ext cx="7809480" cy="329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l static void CreateMetadata (Symbol sym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 (sym.kin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er = module.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DefineTyp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ym.name, TypeAttributes.Class | TypeAttributes.NotPubli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m.type.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sysTyp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inn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define default contructor (simply calls base construct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m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inner.DefineConstructor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Attributes.Public, CallingConventions.Standard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Type[0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= sym.ctor.GetILGenerator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.Emit(LDARG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.Emit(CALL,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of(object).GetConstructor(new Type[0]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.Emit(RE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82160" y="4826160"/>
            <a:ext cx="3108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-arg constructor of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stem.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3711240" y="4484160"/>
            <a:ext cx="4680" cy="3272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F20D-C0C2-4519-9F98-66FDE0A3E88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Metadata:</a:t>
            </a:r>
            <a:br>
              <a:rPr sz="2800"/>
            </a:b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global variables &amp; object fields</a:t>
            </a:r>
            <a:endParaRPr b="0" i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5320" y="1243080"/>
            <a:ext cx="812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CLR handles both as fields (static fields of program class; instance fields of inner class typ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metho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efineFiel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ypeBuild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returns a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stem.Reflection.Emit.FieldBui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at generates the metadata for fiel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28920" y="5091120"/>
            <a:ext cx="5198760" cy="824040"/>
            <a:chOff x="628920" y="5091120"/>
            <a:chExt cx="5198760" cy="824040"/>
          </a:xfrm>
        </p:grpSpPr>
        <p:sp>
          <p:nvSpPr>
            <p:cNvPr id="312" name=""/>
            <p:cNvSpPr/>
            <p:nvPr/>
          </p:nvSpPr>
          <p:spPr>
            <a:xfrm>
              <a:off x="1719360" y="5383080"/>
              <a:ext cx="2027160" cy="25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8920" y="5091120"/>
              <a:ext cx="5198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dditional fields for Symbol nodes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ernal FieldBuilder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l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generating field accesses (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ldsfl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tsfl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ldfl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tfl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29400" y="2084400"/>
            <a:ext cx="8597880" cy="2864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l static void CreateMetadata (Symbol sym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 (sym.kin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Symbol.Kinds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lob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sym.type != Tab.noTyp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m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program.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DefineFie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ym.name, sym.type.sysType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Attributes.Assembly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FieldAttributes.Stat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e Symbol.Kinds.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sym.type != Tab.noTyp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m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inner.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DefineFie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ym.name, sym.type.sysType, FieldAttributes.Assembl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EA9-3078-4151-BDED-361F0006D45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739880" y="5526000"/>
            <a:ext cx="2444760" cy="24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11360" y="5234040"/>
            <a:ext cx="402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itional field for Symbol node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ernal MethodBuild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meth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generating method calls 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al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Metadata: methods &amp; argumen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4800" y="1233360"/>
            <a:ext cx="749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metho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efineMetho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ypeBuild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returns a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stem.Reflection.Emit.MethodBui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at generates the metadata for methods and their argu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6120" y="1836720"/>
            <a:ext cx="7241400" cy="329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l static void CreateMetadata (Symbol sym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 (sym.kin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Symbol.Kinds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Meth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[] args = new Type[sym.nArgs];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 ar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or (arg = sym.locals; arg != null &amp;&amp; arg.kind == Symbol.Kinds.Arg; arg = arg.nex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rgs[arg.adr] = arg.type.sysTyp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meth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program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DefineMetho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.name,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ethodAttributes.Sta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 MethodAttributes.Family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.type.sysType, arg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sym.meth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tILGenera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sym.name == "Main") assembly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etEntryPo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ym.meth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1521000"/>
                <a:tab algn="l" pos="3416400"/>
                <a:tab algn="l" pos="439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4F68-4C3A-40E3-811D-8962F4734D6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struction Set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13520" y="1333440"/>
            <a:ext cx="64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mmon Intermediate Language (CIL)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here we need only a subs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44120" y="1738440"/>
            <a:ext cx="487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very compact: most instructions are just 1 byte l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ostly untyped; type indications refer to the resul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35000" y="230976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unty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26080" y="2627280"/>
            <a:ext cx="72792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rg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03400" y="2627280"/>
            <a:ext cx="96552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c.i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elem.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elem.r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32560" y="23097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y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709560" y="3683160"/>
            <a:ext cx="7666560" cy="2484000"/>
            <a:chOff x="709560" y="3683160"/>
            <a:chExt cx="7666560" cy="2484000"/>
          </a:xfrm>
        </p:grpSpPr>
        <p:sp>
          <p:nvSpPr>
            <p:cNvPr id="328" name=""/>
            <p:cNvSpPr/>
            <p:nvPr/>
          </p:nvSpPr>
          <p:spPr>
            <a:xfrm>
              <a:off x="709560" y="3683160"/>
              <a:ext cx="200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nstruction form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41960" y="4062240"/>
              <a:ext cx="439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very simple compared to Intel, PowerPC or SP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31760" y="4468680"/>
              <a:ext cx="2827800" cy="52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{ Instruction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opcode [ operand 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74720" y="4443480"/>
              <a:ext cx="400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pcode 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1 or 2 by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perand 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f primitive type or metadata tok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59960" y="5207040"/>
              <a:ext cx="10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800" spc="-1" strike="noStrike">
                  <a:solidFill>
                    <a:srgbClr val="000000"/>
                  </a:solidFill>
                  <a:latin typeface="Times New Roman"/>
                </a:rPr>
                <a:t>Examp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43200" y="5586480"/>
              <a:ext cx="5568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4349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0 operand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has 2 implicit operands on the 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4349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1 operan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dc.i4.s 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509-2FDD-4F16-A996-91B6484EA8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struction Set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0280" y="13334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ddressing m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7640" y="1738440"/>
            <a:ext cx="27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ow can operands be access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0760" y="2576520"/>
            <a:ext cx="811620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1620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Immediat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c.i4 123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1620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Arg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arg.s 5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method arg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1620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s.s 12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local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1620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sfld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fl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statische Felder 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fl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= metadata tok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1620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loaded values o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1620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fld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fl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object fields (object reference is o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1620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Indexe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elem.i4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array elements (array reference &amp; index are o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85520" y="227160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ddressing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64280" y="22716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848160" y="4722840"/>
            <a:ext cx="3777120" cy="1538280"/>
            <a:chOff x="848160" y="4722840"/>
            <a:chExt cx="3777120" cy="1538280"/>
          </a:xfrm>
        </p:grpSpPr>
        <p:sp>
          <p:nvSpPr>
            <p:cNvPr id="341" name=""/>
            <p:cNvSpPr/>
            <p:nvPr/>
          </p:nvSpPr>
          <p:spPr>
            <a:xfrm>
              <a:off x="1524240" y="4722840"/>
              <a:ext cx="84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Rel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97160" y="5537160"/>
              <a:ext cx="1079280" cy="241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379160" y="5532480"/>
              <a:ext cx="1099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ase add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97160" y="5270400"/>
              <a:ext cx="1079280" cy="266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97160" y="5778360"/>
              <a:ext cx="1079280" cy="241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19320" y="577836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8160" y="562140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97680" y="503712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69480" y="472284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dex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43480" y="5537160"/>
              <a:ext cx="1079280" cy="241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25480" y="5532480"/>
              <a:ext cx="1099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ase add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43480" y="5270400"/>
              <a:ext cx="1079280" cy="266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43480" y="6019920"/>
              <a:ext cx="1079280" cy="24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65640" y="601992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94480" y="586260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44000" y="503712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43480" y="5778360"/>
              <a:ext cx="1079280" cy="241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27280" y="57736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71D7-B4BF-4A08-89DC-A177E45465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Responsibilities of the Code Gener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6320" y="1320840"/>
            <a:ext cx="36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Generation of machine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4320" y="167472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lecting the right instr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lecting the right addressing m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3080" y="2362320"/>
            <a:ext cx="57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ranslation of control structures (if, while, ...) into ju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4160" y="3048120"/>
            <a:ext cx="454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llocation of stack frames for local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7040" y="374652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Maybe some optimiz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6320" y="445788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Output of the object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78DF-6F99-43E4-8960-CCADC4F707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struction Set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9200" y="1276200"/>
            <a:ext cx="43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Loading and storing of method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85880" y="2309760"/>
            <a:ext cx="5904000" cy="580680"/>
            <a:chOff x="785880" y="2309760"/>
            <a:chExt cx="5904000" cy="580680"/>
          </a:xfrm>
        </p:grpSpPr>
        <p:sp>
          <p:nvSpPr>
            <p:cNvPr id="362" name=""/>
            <p:cNvSpPr/>
            <p:nvPr/>
          </p:nvSpPr>
          <p:spPr>
            <a:xfrm>
              <a:off x="785880" y="2309760"/>
              <a:ext cx="142560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darg.</a:t>
              </a:r>
              <a:r>
                <a:rPr b="1" i="1" lang="de-AT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59000" y="2309760"/>
              <a:ext cx="119232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 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03520" y="2309760"/>
              <a:ext cx="318636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oa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n = 0..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ush(args[n]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785880" y="1674720"/>
            <a:ext cx="14256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darg.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59000" y="1674720"/>
            <a:ext cx="119232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03520" y="1674720"/>
            <a:ext cx="318636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args[b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785880" y="2954160"/>
            <a:ext cx="5904000" cy="580680"/>
            <a:chOff x="785880" y="2954160"/>
            <a:chExt cx="5904000" cy="580680"/>
          </a:xfrm>
        </p:grpSpPr>
        <p:sp>
          <p:nvSpPr>
            <p:cNvPr id="369" name=""/>
            <p:cNvSpPr/>
            <p:nvPr/>
          </p:nvSpPr>
          <p:spPr>
            <a:xfrm>
              <a:off x="785880" y="2954160"/>
              <a:ext cx="142560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starg.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59000" y="2954160"/>
              <a:ext cx="119232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 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03520" y="2954160"/>
              <a:ext cx="318636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rgs[b] = pop(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6822720" y="1509840"/>
            <a:ext cx="178992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Operand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 ... unsigned b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 ... signed 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 ... metadata to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782640" y="5265720"/>
            <a:ext cx="5904000" cy="1215720"/>
            <a:chOff x="782640" y="5265720"/>
            <a:chExt cx="5904000" cy="1215720"/>
          </a:xfrm>
        </p:grpSpPr>
        <p:sp>
          <p:nvSpPr>
            <p:cNvPr id="374" name=""/>
            <p:cNvSpPr/>
            <p:nvPr/>
          </p:nvSpPr>
          <p:spPr>
            <a:xfrm>
              <a:off x="782640" y="5900760"/>
              <a:ext cx="142560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stloc.</a:t>
              </a:r>
              <a:r>
                <a:rPr b="1" i="1" lang="de-AT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55760" y="5900760"/>
              <a:ext cx="119232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 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00280" y="5900760"/>
              <a:ext cx="318636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tor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n = 0..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ocals[n] = pop(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2640" y="5265720"/>
              <a:ext cx="142560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stloc.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55760" y="5265720"/>
              <a:ext cx="119232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 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00280" y="5265720"/>
              <a:ext cx="318636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ocals[b] = pop(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13880" y="3616200"/>
            <a:ext cx="5976000" cy="1595160"/>
            <a:chOff x="713880" y="3616200"/>
            <a:chExt cx="5976000" cy="1595160"/>
          </a:xfrm>
        </p:grpSpPr>
        <p:sp>
          <p:nvSpPr>
            <p:cNvPr id="381" name=""/>
            <p:cNvSpPr/>
            <p:nvPr/>
          </p:nvSpPr>
          <p:spPr>
            <a:xfrm>
              <a:off x="785880" y="3998880"/>
              <a:ext cx="142560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dloc.s</a:t>
              </a: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59000" y="3998880"/>
              <a:ext cx="119232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 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03520" y="3998880"/>
              <a:ext cx="318636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oa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ush(locals[b]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82640" y="4630680"/>
              <a:ext cx="142560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dloc.</a:t>
              </a:r>
              <a:r>
                <a:rPr b="1" i="1" lang="de-AT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55760" y="4630680"/>
              <a:ext cx="119232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 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00280" y="4630680"/>
              <a:ext cx="318636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oa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n = 0..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ush(locals[n]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13880" y="3616200"/>
              <a:ext cx="387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Loading and storing of local variab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C3C7-45AA-424E-8C60-F7EC33130E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struction Set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707760" y="3247920"/>
            <a:ext cx="8231040" cy="1884600"/>
            <a:chOff x="707760" y="3247920"/>
            <a:chExt cx="8231040" cy="1884600"/>
          </a:xfrm>
        </p:grpSpPr>
        <p:sp>
          <p:nvSpPr>
            <p:cNvPr id="390" name=""/>
            <p:cNvSpPr/>
            <p:nvPr/>
          </p:nvSpPr>
          <p:spPr>
            <a:xfrm>
              <a:off x="707760" y="3247920"/>
              <a:ext cx="355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Loading and storing of object fie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5880" y="4275000"/>
              <a:ext cx="1425600" cy="857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stfld</a:t>
              </a: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f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59000" y="4275000"/>
              <a:ext cx="119232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 obj, 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03520" y="4275000"/>
              <a:ext cx="3186360" cy="857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tore object 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val = pop(); obj = pop(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heap[obj+T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fl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] = val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85880" y="3639960"/>
              <a:ext cx="1425600" cy="64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dfl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f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259000" y="3639960"/>
              <a:ext cx="119232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 o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 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03520" y="3639960"/>
              <a:ext cx="3186360" cy="614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oad object 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bj = pop(); push(heap[obj+T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fl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]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858000" y="3819600"/>
              <a:ext cx="355680" cy="15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858000" y="3666960"/>
              <a:ext cx="355680" cy="152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858000" y="3971880"/>
              <a:ext cx="3556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69360" y="3908520"/>
              <a:ext cx="368280" cy="49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12160" y="389556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69360" y="4137120"/>
              <a:ext cx="368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59600" y="3908520"/>
              <a:ext cx="88920" cy="21564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5400 h 215640"/>
                <a:gd name="textAreaBottom" fmla="*/ 2102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969320" y="3873600"/>
              <a:ext cx="366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de-AT" sz="1200" spc="-1" strike="noStrike" baseline="-25000">
                  <a:solidFill>
                    <a:srgbClr val="000000"/>
                  </a:solidFill>
                  <a:latin typeface="Arial"/>
                </a:rPr>
                <a:t>f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715800" y="342108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160400" y="36752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458200" y="3819600"/>
              <a:ext cx="3556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458200" y="3666960"/>
              <a:ext cx="355680" cy="152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458200" y="3971880"/>
              <a:ext cx="3556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316000" y="342108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70880" y="3603600"/>
              <a:ext cx="495360" cy="139680"/>
            </a:xfrm>
            <a:prstGeom prst="rightArrow">
              <a:avLst>
                <a:gd name="adj1" fmla="val 50000"/>
                <a:gd name="adj2" fmla="val 8866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707760" y="1270080"/>
            <a:ext cx="40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Loading and storing of global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5880" y="2322360"/>
            <a:ext cx="1425600" cy="6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stsfld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f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59000" y="2322360"/>
            <a:ext cx="119232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503520" y="2322360"/>
            <a:ext cx="3186360" cy="614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ore static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tics[T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fl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] = po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85880" y="1687680"/>
            <a:ext cx="1425600" cy="6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dsfl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f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59000" y="1687680"/>
            <a:ext cx="119232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03520" y="1687680"/>
            <a:ext cx="3186360" cy="614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ad static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statics[T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fl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FF85-AA0E-490E-99BA-1F3B42A002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struction Set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9920" y="126684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Loading of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85880" y="2319480"/>
            <a:ext cx="14256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dc.i4.</a:t>
            </a:r>
            <a:r>
              <a:rPr b="1" i="1" lang="de-AT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59000" y="2319480"/>
            <a:ext cx="119232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03520" y="2319480"/>
            <a:ext cx="318636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ad consta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n = 0..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85880" y="1684440"/>
            <a:ext cx="14256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dc.i4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59000" y="1684440"/>
            <a:ext cx="119232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3520" y="1684440"/>
            <a:ext cx="318636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ad 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85880" y="2954160"/>
            <a:ext cx="14256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dc.i4.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9000" y="2954160"/>
            <a:ext cx="119232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3520" y="2954160"/>
            <a:ext cx="318636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ad minus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-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82640" y="3589200"/>
            <a:ext cx="14256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d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55760" y="3589200"/>
            <a:ext cx="119232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0280" y="3589200"/>
            <a:ext cx="318636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ad 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6328-A9FD-4A41-A7C0-F8F376D92D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loading and stor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18920" y="303372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x = a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36920" y="1549440"/>
            <a:ext cx="48240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664000" y="15001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33160" y="1523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536920" y="1752480"/>
            <a:ext cx="482400" cy="20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664000" y="17035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33160" y="1727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36920" y="1955880"/>
            <a:ext cx="48240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63640" y="1906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33160" y="1930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36920" y="1546200"/>
            <a:ext cx="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9320" y="1546200"/>
            <a:ext cx="0" cy="60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921040" y="207792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11640" y="2070000"/>
            <a:ext cx="482400" cy="20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438360" y="20289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311640" y="2273400"/>
            <a:ext cx="48240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38360" y="22240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042280" y="3033720"/>
            <a:ext cx="246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arg.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rg.s 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017440" y="27162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38200" y="271620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27040" y="27162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18920" y="458640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gx = g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042280" y="4586400"/>
            <a:ext cx="24652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sfld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fld_gy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sfld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fld_g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22600" y="1549440"/>
            <a:ext cx="48276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85960" y="149544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g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22600" y="1752480"/>
            <a:ext cx="482760" cy="20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85960" y="16984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52760" y="129528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000000"/>
                </a:solidFill>
                <a:latin typeface="Arial"/>
              </a:rPr>
              <a:t>st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507040" y="13050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7840" y="538632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p.x = p.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040480" y="5386320"/>
            <a:ext cx="2715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 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fld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fld_y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  p.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fld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fld_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314360" y="1555920"/>
            <a:ext cx="48276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377720" y="15019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14360" y="1758960"/>
            <a:ext cx="48276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77720" y="170496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320120" y="130176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000000"/>
                </a:solidFill>
                <a:latin typeface="Arial"/>
              </a:rPr>
              <a:t>ar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10960" y="15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10960" y="1724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25760" y="380196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x = 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49120" y="3801960"/>
            <a:ext cx="236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133F-A610-45C1-AE91-41C30132F0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struction Set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09200" y="11811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rithme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85880" y="2131920"/>
            <a:ext cx="14256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59000" y="2131920"/>
            <a:ext cx="13320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1, va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1-va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30600" y="2131920"/>
            <a:ext cx="31860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Sub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-pop() + pop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85880" y="1573200"/>
            <a:ext cx="14256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59000" y="1573200"/>
            <a:ext cx="13194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1, va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1+va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630600" y="1573200"/>
            <a:ext cx="31860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pop() + pop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85880" y="3249720"/>
            <a:ext cx="14256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di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59000" y="3249720"/>
            <a:ext cx="13194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1, va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1/va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30600" y="3249720"/>
            <a:ext cx="31860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Div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x = pop(); push(pop() /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85880" y="2690640"/>
            <a:ext cx="14256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m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59000" y="2690640"/>
            <a:ext cx="13194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1, va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1*va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630600" y="2690640"/>
            <a:ext cx="31860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Multi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pop() * pop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5880" y="4367160"/>
            <a:ext cx="14256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59000" y="4367160"/>
            <a:ext cx="13194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-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630600" y="4367160"/>
            <a:ext cx="31860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Ne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-pop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85880" y="3808440"/>
            <a:ext cx="14256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59000" y="3808440"/>
            <a:ext cx="13194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1, va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1%va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630600" y="3808440"/>
            <a:ext cx="3186000" cy="50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mai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x = pop(); push(pop() %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1F45-7510-4276-9EA5-C1387CEC90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s: arithmetic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18560" y="15415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x + y *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497960" y="1541520"/>
            <a:ext cx="29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  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c.i4.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   y  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u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   y*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+y*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77440" y="12240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98560" y="122400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86680" y="122400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080" y="27655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x++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00480" y="2765520"/>
            <a:ext cx="266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c.i4.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559400" y="2765520"/>
            <a:ext cx="4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x--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91200" y="2773440"/>
            <a:ext cx="2725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c.i4.m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   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22520" y="37656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p.x+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99760" y="3765600"/>
            <a:ext cx="301536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ldloc.2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  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fld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p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   p.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c.i4.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   p.x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   p.x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fld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p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88040" y="1371600"/>
            <a:ext cx="48276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15120" y="1322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984640" y="1346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188040" y="1574640"/>
            <a:ext cx="482760" cy="20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315120" y="15256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984640" y="1549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88040" y="1778040"/>
            <a:ext cx="48276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14760" y="1728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984640" y="1752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188040" y="1368360"/>
            <a:ext cx="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670800" y="1368360"/>
            <a:ext cx="0" cy="60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572160" y="1900080"/>
            <a:ext cx="10479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629480" y="1900080"/>
            <a:ext cx="482760" cy="20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756560" y="18590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29480" y="2103480"/>
            <a:ext cx="48276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756560" y="2054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158160" y="112716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557600" y="37670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[2]+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188320" y="3767040"/>
            <a:ext cx="3475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ldloc.3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ldc.i4.2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a 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s 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s 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s 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s 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s 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   2  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s 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   2    a 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elem.i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   2    a[2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c.i4.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   2    a[2]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   2    a[2]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elem.i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189840" y="1986120"/>
            <a:ext cx="48240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316200" y="1936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986080" y="1960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6591240" y="2080800"/>
            <a:ext cx="365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967080" y="2089800"/>
            <a:ext cx="4276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t[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189840" y="2190600"/>
            <a:ext cx="482400" cy="20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300360" y="21416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86080" y="216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89840" y="2394000"/>
            <a:ext cx="48240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308280" y="23446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86080" y="2368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21C6-C0DC-441D-881A-3800E9877F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struction Set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08120" y="118116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Object cre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85880" y="2690640"/>
            <a:ext cx="1425600" cy="857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newarr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e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59000" y="2690640"/>
            <a:ext cx="119232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a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503520" y="2690640"/>
            <a:ext cx="412596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New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reates an array with space for n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f the type specified by the type to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85880" y="1573200"/>
            <a:ext cx="1425600" cy="110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newobj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59000" y="1573200"/>
            <a:ext cx="1192320" cy="106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 [ arg0, ...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gN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ob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503520" y="1573200"/>
            <a:ext cx="4113360" cy="106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New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reates a new object of the type specified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y the constructor token and then execute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constructor (arguments are on the st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451C-68D4-4AE0-AF39-5CB3C93897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s: object cre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15320" y="303372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Person p = new Pers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17440" y="1549440"/>
            <a:ext cx="48276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44160" y="1495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914040" y="1495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17440" y="1752480"/>
            <a:ext cx="482760" cy="20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44160" y="1708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14040" y="1708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17440" y="15462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600200" y="1546200"/>
            <a:ext cx="0" cy="38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826720" y="3033720"/>
            <a:ext cx="2727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20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ewobj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P(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20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04760" y="27162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101840" y="271620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914000" y="271620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4960" y="392256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nt[] a = new int[5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30320" y="3922560"/>
            <a:ext cx="23752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c.i4.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ewarr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097280" y="12952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536840" y="165096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676520" y="158760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36840" y="185436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76520" y="179064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1EA4-43B5-4580-919C-F8F80F0404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struction Set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08840" y="118116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rray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785880" y="2954160"/>
            <a:ext cx="5904000" cy="1310760"/>
            <a:chOff x="785880" y="2954160"/>
            <a:chExt cx="5904000" cy="1310760"/>
          </a:xfrm>
        </p:grpSpPr>
        <p:sp>
          <p:nvSpPr>
            <p:cNvPr id="568" name=""/>
            <p:cNvSpPr/>
            <p:nvPr/>
          </p:nvSpPr>
          <p:spPr>
            <a:xfrm>
              <a:off x="785880" y="2954160"/>
              <a:ext cx="1425600" cy="1310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stelem.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stelem.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stelem.re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59000" y="2954160"/>
              <a:ext cx="1192320" cy="1310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adr, i, 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503520" y="2954160"/>
              <a:ext cx="3186360" cy="1310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tore array el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val=pop(); i=pop(); adr=pop()/4+1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heap[adr+i] = val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ype of element to be store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har, int, object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785880" y="1573200"/>
            <a:ext cx="1425600" cy="131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delem.u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delem.i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delem.re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59000" y="1573200"/>
            <a:ext cx="1192320" cy="131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adr,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03520" y="1573200"/>
            <a:ext cx="3186360" cy="131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ad array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 = pop(); adr = po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heap[adr+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sult type o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ar, int, object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0" y="1752480"/>
            <a:ext cx="35568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0" y="1600200"/>
            <a:ext cx="35568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0" y="1905120"/>
            <a:ext cx="3556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569360" y="1841400"/>
            <a:ext cx="368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112160" y="1828800"/>
            <a:ext cx="44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569360" y="2070000"/>
            <a:ext cx="368280" cy="114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975440" y="1841400"/>
            <a:ext cx="88920" cy="216000"/>
          </a:xfrm>
          <a:custGeom>
            <a:avLst/>
            <a:gdLst>
              <a:gd name="textAreaLeft" fmla="*/ 0 w 88920"/>
              <a:gd name="textAreaRight" fmla="*/ 32040 w 8892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024760" y="17985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15800" y="135396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160400" y="16081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458200" y="1752480"/>
            <a:ext cx="355680" cy="152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458200" y="1600200"/>
            <a:ext cx="35568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458200" y="1905120"/>
            <a:ext cx="35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316000" y="135396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670880" y="1536840"/>
            <a:ext cx="495360" cy="139680"/>
          </a:xfrm>
          <a:prstGeom prst="rightArrow">
            <a:avLst>
              <a:gd name="adj1" fmla="val 50000"/>
              <a:gd name="adj2" fmla="val 88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2057400"/>
            <a:ext cx="3556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843240" y="1684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869160" y="18493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569360" y="195588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785880" y="4325760"/>
            <a:ext cx="5904000" cy="580680"/>
            <a:chOff x="785880" y="4325760"/>
            <a:chExt cx="5904000" cy="580680"/>
          </a:xfrm>
        </p:grpSpPr>
        <p:sp>
          <p:nvSpPr>
            <p:cNvPr id="594" name=""/>
            <p:cNvSpPr/>
            <p:nvPr/>
          </p:nvSpPr>
          <p:spPr>
            <a:xfrm>
              <a:off x="785880" y="4325760"/>
              <a:ext cx="142560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dl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59000" y="4325760"/>
              <a:ext cx="119232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 a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 l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503520" y="4325760"/>
              <a:ext cx="318636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et array 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8410-4AED-4374-BBF5-0AEF20D95AE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array acces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17480" y="303372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[i] = b[i+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117440" y="1549440"/>
            <a:ext cx="48276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44160" y="1504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14040" y="1523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117440" y="1752480"/>
            <a:ext cx="482760" cy="20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244160" y="1708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14040" y="1727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17440" y="154620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035800" y="3033720"/>
            <a:ext cx="3256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 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  i 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  i   b  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c.i4.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  i   b   i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  i   b   i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elem.i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  i   b[i+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elem.i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017440" y="27162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38200" y="271620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26320" y="271620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087920" y="12952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117440" y="1955880"/>
            <a:ext cx="48276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63600" y="19303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914040" y="1930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871280" y="1867320"/>
            <a:ext cx="4276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t[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549440" y="186696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549440" y="165096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85520" y="1651680"/>
            <a:ext cx="4276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t[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C825-2E24-439D-B194-C8B1768F578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mon Strateg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4640" y="1434960"/>
            <a:ext cx="6760800" cy="46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tudy the target machine</a:t>
            </a:r>
            <a:br>
              <a:rPr sz="18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gisters, data formats, addressing modes, instructions, instruction formats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sign the run-time data structures</a:t>
            </a:r>
            <a:br>
              <a:rPr sz="18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ayout of stack frames, layout of the global data area, layout of heap objects,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ayout of the constant pool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mplement the code buffer</a:t>
            </a:r>
            <a:br>
              <a:rPr sz="18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struction encoding, instruction patching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mplement register allocation</a:t>
            </a:r>
            <a:br>
              <a:rPr sz="18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rrelevant for Z#, because we have a stack 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mplement code generation routines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in the following order)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 values and addresses into registers (or onto the stack)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ocess designators (x.y, a[i], ...)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ranslate expression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nage labels and jump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ranslate statement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ranslate methods and parameter pa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6675-A361-41E3-9C28-6C373DA10DA3}" type="slidenum">
              <a:t>3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struction Set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09560" y="118116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tack mani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5880" y="1573200"/>
            <a:ext cx="14256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59000" y="1573200"/>
            <a:ext cx="119232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503520" y="1573200"/>
            <a:ext cx="318636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move topmost stack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ummy = po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85880" y="2208240"/>
            <a:ext cx="14256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d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59000" y="2208240"/>
            <a:ext cx="119232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, val, 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503520" y="2208240"/>
            <a:ext cx="318636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Duplicate topmost stack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x = pop(); push(x); push(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10280" y="2822400"/>
            <a:ext cx="8105400" cy="2094480"/>
            <a:chOff x="710280" y="2822400"/>
            <a:chExt cx="8105400" cy="2094480"/>
          </a:xfrm>
        </p:grpSpPr>
        <p:sp>
          <p:nvSpPr>
            <p:cNvPr id="627" name=""/>
            <p:cNvSpPr/>
            <p:nvPr/>
          </p:nvSpPr>
          <p:spPr>
            <a:xfrm>
              <a:off x="710280" y="282240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Jum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85880" y="3214440"/>
              <a:ext cx="142560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br</a:t>
              </a: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259000" y="3214440"/>
              <a:ext cx="119232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03520" y="3214440"/>
              <a:ext cx="318636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Branch unconditional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c = pc +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00480" y="3125520"/>
              <a:ext cx="19152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marks the current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struction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jump distance)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lative to the start of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next instr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85880" y="3849480"/>
              <a:ext cx="1425600" cy="1067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de-AT" sz="1600" spc="-1" strike="noStrike">
                  <a:solidFill>
                    <a:srgbClr val="000000"/>
                  </a:solidFill>
                  <a:latin typeface="Times New Roman"/>
                </a:rPr>
                <a:t>&lt;cond&gt;</a:t>
              </a: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259000" y="3849480"/>
              <a:ext cx="1192320" cy="1067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 x,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03520" y="3849480"/>
              <a:ext cx="3186360" cy="1067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Branch conditionally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&lt;cond&gt;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 eq | ge | gt | le | lt | ne.u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y = pop(); x = pop(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f (x cond y) pc = pc + i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03CD-D636-4E1A-8BFF-F6257CA93AC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jump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17480" y="3033720"/>
            <a:ext cx="933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f (x &gt; y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117440" y="1549440"/>
            <a:ext cx="48276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244520" y="14954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14040" y="1523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17440" y="1752480"/>
            <a:ext cx="482760" cy="20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244520" y="16891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14040" y="1727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117440" y="1546200"/>
            <a:ext cx="0" cy="38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600200" y="15462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040480" y="3033720"/>
            <a:ext cx="2607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 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344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e ..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17440" y="27162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38200" y="271620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126320" y="271620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078200" y="12952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FD18-5A17-4984-9193-6177773137B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struction Set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08840" y="118116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Method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85880" y="1573200"/>
            <a:ext cx="1425600" cy="158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call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me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259000" y="1573200"/>
            <a:ext cx="1192320" cy="155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 [ arg0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gN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 [ retVal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503520" y="1573200"/>
            <a:ext cx="3165480" cy="155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Call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ops the arguments off caller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puts them in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f the callee;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ops return value off calle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d pushes it onto caller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85880" y="3200400"/>
            <a:ext cx="14256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259000" y="3200400"/>
            <a:ext cx="119232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503520" y="3200400"/>
            <a:ext cx="31654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turn from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710280" y="4645080"/>
            <a:ext cx="5979600" cy="972720"/>
            <a:chOff x="710280" y="4645080"/>
            <a:chExt cx="5979600" cy="972720"/>
          </a:xfrm>
        </p:grpSpPr>
        <p:sp>
          <p:nvSpPr>
            <p:cNvPr id="659" name=""/>
            <p:cNvSpPr/>
            <p:nvPr/>
          </p:nvSpPr>
          <p:spPr>
            <a:xfrm>
              <a:off x="710280" y="46450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onsti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85880" y="5037120"/>
              <a:ext cx="142560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thr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59000" y="5037120"/>
              <a:ext cx="119232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, ex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03520" y="5037120"/>
              <a:ext cx="318636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hrow ex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CE43-FAD1-463D-8C61-767EBE5965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struction Set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09560" y="118116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35840" y="1565280"/>
            <a:ext cx="764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functionality of the Z# keyword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s provided by separate methods of the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in program class. These use the clas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ystem.Consol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for In-/Outpu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34400" y="3152880"/>
            <a:ext cx="7061040" cy="1718640"/>
            <a:chOff x="734400" y="3152880"/>
            <a:chExt cx="7061040" cy="1718640"/>
          </a:xfrm>
        </p:grpSpPr>
        <p:sp>
          <p:nvSpPr>
            <p:cNvPr id="667" name=""/>
            <p:cNvSpPr/>
            <p:nvPr/>
          </p:nvSpPr>
          <p:spPr>
            <a:xfrm>
              <a:off x="734400" y="3152880"/>
              <a:ext cx="57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se methods are added to the main program class by the compil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65760" y="3498840"/>
              <a:ext cx="6529680" cy="1372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55656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nal static void CreateMetadata (Symbol sym) { 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55656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witch (sym.kind) { 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55656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Symbol.Kinds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Program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55656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uildReadChar(); BuildReadInt(); BuildWriteChar(); BuildWriteInt()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55656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55656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1245240" y="2149560"/>
            <a:ext cx="2261160" cy="946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char read 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int readi 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write (char, in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write (int, in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730800" y="4861080"/>
            <a:ext cx="7043040" cy="653040"/>
            <a:chOff x="730800" y="4861080"/>
            <a:chExt cx="7043040" cy="653040"/>
          </a:xfrm>
        </p:grpSpPr>
        <p:sp>
          <p:nvSpPr>
            <p:cNvPr id="671" name=""/>
            <p:cNvSpPr/>
            <p:nvPr/>
          </p:nvSpPr>
          <p:spPr>
            <a:xfrm>
              <a:off x="1284120" y="5207040"/>
              <a:ext cx="648972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55656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ernal static MethodBuilder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readCha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readI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writeCha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writeI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30800" y="4861080"/>
              <a:ext cx="452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d are then accessible via static fields of clas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od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734760" y="5568840"/>
            <a:ext cx="7040880" cy="653400"/>
            <a:chOff x="734760" y="5568840"/>
            <a:chExt cx="7040880" cy="653400"/>
          </a:xfrm>
        </p:grpSpPr>
        <p:sp>
          <p:nvSpPr>
            <p:cNvPr id="674" name=""/>
            <p:cNvSpPr/>
            <p:nvPr/>
          </p:nvSpPr>
          <p:spPr>
            <a:xfrm>
              <a:off x="1285920" y="5915160"/>
              <a:ext cx="648972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357120"/>
                  <a:tab algn="l" pos="536400"/>
                  <a:tab algn="l" pos="716040"/>
                  <a:tab algn="l" pos="55656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il.EmitCall(Code.CALL, Code.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readCha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, null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34760" y="5568840"/>
              <a:ext cx="520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the parser we can generate a call to these methods like thi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260E-473D-4EC0-8F25-CCF81BE5B3C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26760" y="1128600"/>
            <a:ext cx="2062800" cy="5635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Main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a, b, max, s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a &gt; 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ax =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max =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a &gt;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um = sum + a *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--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306600" y="1128600"/>
            <a:ext cx="1582920" cy="5635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Main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e 7 (=1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7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8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 2 (=1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4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5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6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7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c.i4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8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e 15 (=3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3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4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5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6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7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8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9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0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c.i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1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2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3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 -22 (=1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196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8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35040" y="1822320"/>
            <a:ext cx="42926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5040" y="2463840"/>
            <a:ext cx="42800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35040" y="3098880"/>
            <a:ext cx="42800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35040" y="3517920"/>
            <a:ext cx="42800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35040" y="4152960"/>
            <a:ext cx="42926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35040" y="5435640"/>
            <a:ext cx="42800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35040" y="6289560"/>
            <a:ext cx="42800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35040" y="6505560"/>
            <a:ext cx="42800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459400" y="1116000"/>
            <a:ext cx="98388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00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 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x 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um 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703760" y="245736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041800" y="247320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4414680" y="3174840"/>
            <a:ext cx="627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649760" y="3092400"/>
            <a:ext cx="55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207040" y="30956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4414320" y="36068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775040" y="414972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041800" y="41529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363560" y="66135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098880" y="650880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3086280" y="3644640"/>
            <a:ext cx="9360" cy="28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86280" y="3645000"/>
            <a:ext cx="31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9EB9-DA68-4BF4-BE81-F9FE45A98A1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1143000" y="338292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18200" y="1835280"/>
            <a:ext cx="684072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he .NET Common Language Runtime (CL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6.3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Jumps and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tro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402D-4289-4CD5-8EDC-B14105CC03A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Operands During Code Gener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96960" y="12826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054800" y="1687680"/>
            <a:ext cx="23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e want to add two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65160" y="199224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498680" y="2374920"/>
            <a:ext cx="431640" cy="279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70000" y="2374920"/>
            <a:ext cx="432000" cy="279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1790640" y="22226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70000" y="22226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586160" y="23479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45240" y="23479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9760" y="168768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sired code 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861800" y="2055960"/>
            <a:ext cx="142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oad opera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oad operand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36840" y="3884760"/>
            <a:ext cx="376344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c.i4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ethod argume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arg.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cal variabl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lobal variabl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sfld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f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bject fiel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tfield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ray eleme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e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ed value on the stack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694440" y="3048120"/>
            <a:ext cx="7628400" cy="818280"/>
            <a:chOff x="694440" y="3048120"/>
            <a:chExt cx="7628400" cy="818280"/>
          </a:xfrm>
        </p:grpSpPr>
        <p:sp>
          <p:nvSpPr>
            <p:cNvPr id="717" name=""/>
            <p:cNvSpPr/>
            <p:nvPr/>
          </p:nvSpPr>
          <p:spPr>
            <a:xfrm>
              <a:off x="694440" y="3048120"/>
              <a:ext cx="76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pending on the operand kind we must generate different load instru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34760" y="3529080"/>
              <a:ext cx="126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operand ki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391560" y="3529080"/>
              <a:ext cx="237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struction to be gener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734040" y="6095880"/>
            <a:ext cx="694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e need a descriptor, which gives us all the necessary information about operan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4D40-EA02-492A-BF69-9B44469C7B7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tem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2200" y="1333440"/>
            <a:ext cx="58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scriptors holding the kind and the location of operan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1174680" y="4849920"/>
            <a:ext cx="4619520" cy="1449360"/>
            <a:chOff x="1174680" y="4849920"/>
            <a:chExt cx="4619520" cy="1449360"/>
          </a:xfrm>
        </p:grpSpPr>
        <p:sp>
          <p:nvSpPr>
            <p:cNvPr id="724" name=""/>
            <p:cNvSpPr/>
            <p:nvPr/>
          </p:nvSpPr>
          <p:spPr>
            <a:xfrm>
              <a:off x="1174680" y="4849920"/>
              <a:ext cx="42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fter loading the value with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ldloc.2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t is o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019240" y="5511960"/>
              <a:ext cx="647640" cy="203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309400" y="5519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019240" y="5511960"/>
              <a:ext cx="647640" cy="66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841400" y="571500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559160" y="5608800"/>
              <a:ext cx="24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17880" y="530388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375000" y="5684760"/>
              <a:ext cx="281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746520" y="5638680"/>
              <a:ext cx="520560" cy="660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21040" y="5684760"/>
              <a:ext cx="3999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062160" y="5230800"/>
              <a:ext cx="273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described by the following i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684360" y="2057400"/>
            <a:ext cx="5109840" cy="2159280"/>
            <a:chOff x="684360" y="2057400"/>
            <a:chExt cx="5109840" cy="2159280"/>
          </a:xfrm>
        </p:grpSpPr>
        <p:sp>
          <p:nvSpPr>
            <p:cNvPr id="736" name=""/>
            <p:cNvSpPr/>
            <p:nvPr/>
          </p:nvSpPr>
          <p:spPr>
            <a:xfrm>
              <a:off x="684360" y="205740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177560" y="2550960"/>
              <a:ext cx="404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ocal variabl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 locals area of a method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375000" y="3411360"/>
              <a:ext cx="281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746520" y="3365640"/>
              <a:ext cx="520560" cy="660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21040" y="3411360"/>
              <a:ext cx="3999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Lo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062160" y="2982960"/>
              <a:ext cx="273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described by the following i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006640" y="3390840"/>
              <a:ext cx="647640" cy="20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006640" y="3594240"/>
              <a:ext cx="647640" cy="20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006640" y="3797280"/>
              <a:ext cx="647640" cy="20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296800" y="3805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006640" y="4000680"/>
              <a:ext cx="647640" cy="20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006640" y="339408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54280" y="338472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133360" y="317016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loc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677320" y="339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677320" y="361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677320" y="3830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677320" y="4033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7946-B670-4832-ADC7-3FE5A74448D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Processing of Item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91200" y="1206360"/>
            <a:ext cx="664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Most parsing methods return items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as a result of their translation 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16040" y="1649520"/>
            <a:ext cx="31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xample: translating the assig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05720" y="1662120"/>
            <a:ext cx="11790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y + z * 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126040" y="6392880"/>
            <a:ext cx="550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Local</a:t>
            </a:r>
            <a:r>
              <a:rPr b="0" lang="de-AT" sz="1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778080" y="6380280"/>
            <a:ext cx="4503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Con</a:t>
            </a:r>
            <a:r>
              <a:rPr b="0" lang="de-AT" sz="1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691080" y="4944960"/>
            <a:ext cx="550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Local</a:t>
            </a:r>
            <a:r>
              <a:rPr b="0" lang="de-AT" sz="1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90880" y="3573360"/>
            <a:ext cx="550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Local</a:t>
            </a:r>
            <a:r>
              <a:rPr b="0" lang="de-AT" sz="1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5303880" y="5884920"/>
            <a:ext cx="550800" cy="452160"/>
            <a:chOff x="5303880" y="5884920"/>
            <a:chExt cx="550800" cy="452160"/>
          </a:xfrm>
        </p:grpSpPr>
        <p:sp>
          <p:nvSpPr>
            <p:cNvPr id="763" name=""/>
            <p:cNvSpPr/>
            <p:nvPr/>
          </p:nvSpPr>
          <p:spPr>
            <a:xfrm>
              <a:off x="5303880" y="5884920"/>
              <a:ext cx="5508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Local</a:t>
              </a:r>
              <a:r>
                <a:rPr b="0" lang="de-AT" sz="1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5435640" y="6070320"/>
              <a:ext cx="50760" cy="266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1040040" y="4689360"/>
            <a:ext cx="4825800" cy="1164960"/>
            <a:chOff x="1040040" y="4689360"/>
            <a:chExt cx="4825800" cy="1164960"/>
          </a:xfrm>
        </p:grpSpPr>
        <p:sp>
          <p:nvSpPr>
            <p:cNvPr id="766" name=""/>
            <p:cNvSpPr/>
            <p:nvPr/>
          </p:nvSpPr>
          <p:spPr>
            <a:xfrm>
              <a:off x="5078880" y="5286240"/>
              <a:ext cx="27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351400" y="538956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40040" y="4689360"/>
              <a:ext cx="27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317600" y="4722840"/>
              <a:ext cx="69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ldloc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 flipV="1">
              <a:off x="5283360" y="5587560"/>
              <a:ext cx="241200" cy="266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6981120" y="5910120"/>
            <a:ext cx="450360" cy="426960"/>
            <a:chOff x="6981120" y="5910120"/>
            <a:chExt cx="450360" cy="426960"/>
          </a:xfrm>
        </p:grpSpPr>
        <p:sp>
          <p:nvSpPr>
            <p:cNvPr id="772" name=""/>
            <p:cNvSpPr/>
            <p:nvPr/>
          </p:nvSpPr>
          <p:spPr>
            <a:xfrm>
              <a:off x="6981120" y="5910120"/>
              <a:ext cx="4503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Con</a:t>
              </a:r>
              <a:r>
                <a:rPr b="0" lang="de-AT" sz="14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7061040" y="6133680"/>
              <a:ext cx="101880" cy="2034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1036440" y="4968720"/>
            <a:ext cx="6505920" cy="873000"/>
            <a:chOff x="1036440" y="4968720"/>
            <a:chExt cx="6505920" cy="873000"/>
          </a:xfrm>
        </p:grpSpPr>
        <p:sp>
          <p:nvSpPr>
            <p:cNvPr id="775" name=""/>
            <p:cNvSpPr/>
            <p:nvPr/>
          </p:nvSpPr>
          <p:spPr>
            <a:xfrm>
              <a:off x="6751440" y="5299200"/>
              <a:ext cx="27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027920" y="538956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36440" y="4968720"/>
              <a:ext cx="27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16880" y="498960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ldc.i4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6959160" y="5613120"/>
              <a:ext cx="266760" cy="2286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1037160" y="4753080"/>
            <a:ext cx="6226920" cy="848520"/>
            <a:chOff x="1037160" y="4753080"/>
            <a:chExt cx="6226920" cy="848520"/>
          </a:xfrm>
        </p:grpSpPr>
        <p:sp>
          <p:nvSpPr>
            <p:cNvPr id="781" name=""/>
            <p:cNvSpPr/>
            <p:nvPr/>
          </p:nvSpPr>
          <p:spPr>
            <a:xfrm>
              <a:off x="6418080" y="483084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037160" y="5235480"/>
              <a:ext cx="27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19040" y="525636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mu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55280" y="4753080"/>
              <a:ext cx="27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5664240" y="5016600"/>
              <a:ext cx="571320" cy="342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 flipV="1">
              <a:off x="6362280" y="5041800"/>
              <a:ext cx="901800" cy="3175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6379920" y="4437000"/>
            <a:ext cx="514440" cy="363600"/>
            <a:chOff x="6379920" y="4437000"/>
            <a:chExt cx="514440" cy="363600"/>
          </a:xfrm>
        </p:grpSpPr>
        <p:sp>
          <p:nvSpPr>
            <p:cNvPr id="788" name=""/>
            <p:cNvSpPr/>
            <p:nvPr/>
          </p:nvSpPr>
          <p:spPr>
            <a:xfrm>
              <a:off x="6379920" y="443700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6629400" y="4622760"/>
              <a:ext cx="0" cy="1778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3843360" y="4437000"/>
            <a:ext cx="550800" cy="414000"/>
            <a:chOff x="3843360" y="4437000"/>
            <a:chExt cx="550800" cy="414000"/>
          </a:xfrm>
        </p:grpSpPr>
        <p:sp>
          <p:nvSpPr>
            <p:cNvPr id="791" name=""/>
            <p:cNvSpPr/>
            <p:nvPr/>
          </p:nvSpPr>
          <p:spPr>
            <a:xfrm>
              <a:off x="3843360" y="4437000"/>
              <a:ext cx="5508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Local</a:t>
              </a:r>
              <a:r>
                <a:rPr b="0" lang="de-AT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3962520" y="4622400"/>
              <a:ext cx="88920" cy="2286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039320" y="3863880"/>
            <a:ext cx="3391200" cy="912240"/>
            <a:chOff x="1039320" y="3863880"/>
            <a:chExt cx="3391200" cy="912240"/>
          </a:xfrm>
        </p:grpSpPr>
        <p:sp>
          <p:nvSpPr>
            <p:cNvPr id="794" name=""/>
            <p:cNvSpPr/>
            <p:nvPr/>
          </p:nvSpPr>
          <p:spPr>
            <a:xfrm>
              <a:off x="3642840" y="3863880"/>
              <a:ext cx="27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916080" y="396720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039320" y="4410000"/>
              <a:ext cx="27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7600" y="4443480"/>
              <a:ext cx="69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ldloc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 flipV="1">
              <a:off x="3860640" y="4190760"/>
              <a:ext cx="216000" cy="2286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1040760" y="3368520"/>
            <a:ext cx="5575680" cy="2499840"/>
            <a:chOff x="1040760" y="3368520"/>
            <a:chExt cx="5575680" cy="2499840"/>
          </a:xfrm>
        </p:grpSpPr>
        <p:sp>
          <p:nvSpPr>
            <p:cNvPr id="800" name=""/>
            <p:cNvSpPr/>
            <p:nvPr/>
          </p:nvSpPr>
          <p:spPr>
            <a:xfrm>
              <a:off x="5054040" y="3368520"/>
              <a:ext cx="26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325840" y="345924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040760" y="5502240"/>
              <a:ext cx="26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8320" y="55357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4292640" y="3682800"/>
              <a:ext cx="812880" cy="215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5257440" y="3683160"/>
              <a:ext cx="1359000" cy="7236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262480" y="3052800"/>
            <a:ext cx="514440" cy="414000"/>
            <a:chOff x="5262480" y="3052800"/>
            <a:chExt cx="514440" cy="414000"/>
          </a:xfrm>
        </p:grpSpPr>
        <p:sp>
          <p:nvSpPr>
            <p:cNvPr id="807" name=""/>
            <p:cNvSpPr/>
            <p:nvPr/>
          </p:nvSpPr>
          <p:spPr>
            <a:xfrm>
              <a:off x="5262480" y="305280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5587920" y="3238200"/>
              <a:ext cx="0" cy="2286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2438280" y="3065400"/>
            <a:ext cx="647640" cy="452520"/>
            <a:chOff x="2438280" y="3065400"/>
            <a:chExt cx="647640" cy="452520"/>
          </a:xfrm>
        </p:grpSpPr>
        <p:sp>
          <p:nvSpPr>
            <p:cNvPr id="810" name=""/>
            <p:cNvSpPr/>
            <p:nvPr/>
          </p:nvSpPr>
          <p:spPr>
            <a:xfrm>
              <a:off x="2535120" y="3065400"/>
              <a:ext cx="5508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Local</a:t>
              </a:r>
              <a:r>
                <a:rPr b="0" lang="de-AT" sz="1400" spc="-1" strike="noStrike" baseline="-25000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2438280" y="3263760"/>
              <a:ext cx="279360" cy="2541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1037880" y="2517840"/>
            <a:ext cx="4549680" cy="3617280"/>
            <a:chOff x="1037880" y="2517840"/>
            <a:chExt cx="4549680" cy="3617280"/>
          </a:xfrm>
        </p:grpSpPr>
        <p:sp>
          <p:nvSpPr>
            <p:cNvPr id="813" name=""/>
            <p:cNvSpPr/>
            <p:nvPr/>
          </p:nvSpPr>
          <p:spPr>
            <a:xfrm>
              <a:off x="3616200" y="2517840"/>
              <a:ext cx="27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037880" y="5769000"/>
              <a:ext cx="27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316880" y="580248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tloc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971800" y="2793600"/>
              <a:ext cx="673200" cy="2286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 flipV="1">
              <a:off x="3885840" y="2781360"/>
              <a:ext cx="1701720" cy="2412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1532880" y="1631880"/>
            <a:ext cx="5690160" cy="4879080"/>
            <a:chOff x="1532880" y="1631880"/>
            <a:chExt cx="5690160" cy="4879080"/>
          </a:xfrm>
        </p:grpSpPr>
        <p:sp>
          <p:nvSpPr>
            <p:cNvPr id="819" name=""/>
            <p:cNvSpPr/>
            <p:nvPr/>
          </p:nvSpPr>
          <p:spPr>
            <a:xfrm>
              <a:off x="4708440" y="5776920"/>
              <a:ext cx="54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372360" y="5776920"/>
              <a:ext cx="54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88880" y="6297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39840" y="629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5016600" y="5994360"/>
              <a:ext cx="0" cy="29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6680160" y="5994360"/>
              <a:ext cx="0" cy="29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68520" y="577692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5016600" y="520704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6095880" y="4597200"/>
              <a:ext cx="0" cy="11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6680160" y="520704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5207040"/>
              <a:ext cx="165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865120" y="432900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350520" y="432900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553920" y="484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3581280" y="4546440"/>
              <a:ext cx="0" cy="29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925520" y="431640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3581280" y="378468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4965840" y="3187800"/>
              <a:ext cx="0" cy="11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6095880" y="378468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580920" y="37846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747320" y="2944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Exp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532880" y="2932200"/>
              <a:ext cx="930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Design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953720" y="3478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1981080" y="3174840"/>
              <a:ext cx="0" cy="29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53920" y="293220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1968480" y="285768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3581280" y="255240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4965840" y="285768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1968480" y="2857680"/>
              <a:ext cx="29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145680" y="2322360"/>
              <a:ext cx="861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692760" y="2247840"/>
              <a:ext cx="482760" cy="17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692760" y="1892160"/>
              <a:ext cx="482760" cy="17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894000" y="1887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692760" y="2070000"/>
              <a:ext cx="482760" cy="17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894000" y="2065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894000" y="2243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692760" y="1892160"/>
              <a:ext cx="0" cy="53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175520" y="1892160"/>
              <a:ext cx="0" cy="5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652080" y="1631880"/>
              <a:ext cx="57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loc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AF56-A06E-49D1-BD5B-9DC13393C24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tem Kind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96600" y="1062000"/>
            <a:ext cx="134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operand ki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349360" y="1062000"/>
            <a:ext cx="9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tem k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642840" y="1062000"/>
            <a:ext cx="182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fo about oper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96960" y="1405080"/>
            <a:ext cx="160344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347920" y="1405080"/>
            <a:ext cx="123984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643200" y="1405080"/>
            <a:ext cx="238464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stant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696960" y="3043080"/>
            <a:ext cx="7748640" cy="580680"/>
            <a:chOff x="696960" y="3043080"/>
            <a:chExt cx="7748640" cy="580680"/>
          </a:xfrm>
        </p:grpSpPr>
        <p:sp>
          <p:nvSpPr>
            <p:cNvPr id="866" name=""/>
            <p:cNvSpPr/>
            <p:nvPr/>
          </p:nvSpPr>
          <p:spPr>
            <a:xfrm>
              <a:off x="6083280" y="3057480"/>
              <a:ext cx="2362320" cy="554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96960" y="3043080"/>
              <a:ext cx="159696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global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347920" y="3043080"/>
              <a:ext cx="125100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643200" y="3043080"/>
              <a:ext cx="238608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eld symol 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616800" y="311472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616800" y="325440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616800" y="3394080"/>
              <a:ext cx="36828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10280" y="3114720"/>
              <a:ext cx="88920" cy="27936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7200 h 279360"/>
                <a:gd name="textAreaBottom" fmla="*/ 27216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143480" y="3173400"/>
              <a:ext cx="1864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de-AT" sz="1200" spc="-1" strike="noStrike" baseline="-25000">
                  <a:solidFill>
                    <a:srgbClr val="000000"/>
                  </a:solidFill>
                  <a:latin typeface="Arial"/>
                </a:rPr>
                <a:t>f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44480" y="305928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sta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696960" y="4548240"/>
            <a:ext cx="7748640" cy="826920"/>
            <a:chOff x="696960" y="4548240"/>
            <a:chExt cx="7748640" cy="826920"/>
          </a:xfrm>
        </p:grpSpPr>
        <p:sp>
          <p:nvSpPr>
            <p:cNvPr id="877" name=""/>
            <p:cNvSpPr/>
            <p:nvPr/>
          </p:nvSpPr>
          <p:spPr>
            <a:xfrm>
              <a:off x="6083280" y="4562640"/>
              <a:ext cx="2362320" cy="812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6960" y="4548240"/>
              <a:ext cx="159696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value on 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47920" y="4548240"/>
              <a:ext cx="125100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643200" y="4548240"/>
              <a:ext cx="239724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16800" y="482904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16800" y="4968720"/>
              <a:ext cx="36828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616800" y="5108400"/>
              <a:ext cx="36828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562800" y="462132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464160" y="51084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07120" y="5024520"/>
              <a:ext cx="24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696960" y="3672000"/>
            <a:ext cx="7748640" cy="826920"/>
            <a:chOff x="696960" y="3672000"/>
            <a:chExt cx="7748640" cy="826920"/>
          </a:xfrm>
        </p:grpSpPr>
        <p:sp>
          <p:nvSpPr>
            <p:cNvPr id="888" name=""/>
            <p:cNvSpPr/>
            <p:nvPr/>
          </p:nvSpPr>
          <p:spPr>
            <a:xfrm>
              <a:off x="6083280" y="3686040"/>
              <a:ext cx="2362320" cy="812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96960" y="3672000"/>
              <a:ext cx="159696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object 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347920" y="3672000"/>
              <a:ext cx="125100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43200" y="3672000"/>
              <a:ext cx="238608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eld symbol 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16800" y="395280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616800" y="4092480"/>
              <a:ext cx="368280" cy="1396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616800" y="423216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562800" y="374508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64160" y="423216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207120" y="4148280"/>
              <a:ext cx="24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690240" y="407520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315200" y="399096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315200" y="413064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15200" y="4270320"/>
              <a:ext cx="36828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709040" y="3990960"/>
              <a:ext cx="88920" cy="27936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7200 h 279360"/>
                <a:gd name="textAreaBottom" fmla="*/ 27216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841880" y="4049640"/>
              <a:ext cx="1864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de-AT" sz="1200" spc="-1" strike="noStrike" baseline="-25000">
                  <a:solidFill>
                    <a:srgbClr val="000000"/>
                  </a:solidFill>
                  <a:latin typeface="Arial"/>
                </a:rPr>
                <a:t>f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6959520" y="4003200"/>
              <a:ext cx="35568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696960" y="5418000"/>
            <a:ext cx="7748640" cy="833400"/>
            <a:chOff x="696960" y="5418000"/>
            <a:chExt cx="7748640" cy="833400"/>
          </a:xfrm>
        </p:grpSpPr>
        <p:sp>
          <p:nvSpPr>
            <p:cNvPr id="906" name=""/>
            <p:cNvSpPr/>
            <p:nvPr/>
          </p:nvSpPr>
          <p:spPr>
            <a:xfrm>
              <a:off x="6083280" y="5438880"/>
              <a:ext cx="2362320" cy="812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96960" y="5424480"/>
              <a:ext cx="159696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array el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347920" y="5424480"/>
              <a:ext cx="125100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643200" y="5424480"/>
              <a:ext cx="2395800" cy="824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616800" y="561672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616800" y="5756400"/>
              <a:ext cx="368280" cy="1396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616800" y="5896080"/>
              <a:ext cx="368280" cy="1396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572520" y="541800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464160" y="603576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207120" y="5951520"/>
              <a:ext cx="24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690240" y="573876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315200" y="575640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315200" y="5892840"/>
              <a:ext cx="36828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709040" y="5613480"/>
              <a:ext cx="88920" cy="27936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7200 h 279360"/>
                <a:gd name="textAreaBottom" fmla="*/ 27216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833240" y="564372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d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6959520" y="5629320"/>
              <a:ext cx="35568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616800" y="603576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690240" y="587844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d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315200" y="561672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6083280" y="1406520"/>
            <a:ext cx="2362320" cy="3301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696960" y="6313320"/>
            <a:ext cx="7748640" cy="337320"/>
            <a:chOff x="696960" y="6313320"/>
            <a:chExt cx="7748640" cy="337320"/>
          </a:xfrm>
        </p:grpSpPr>
        <p:sp>
          <p:nvSpPr>
            <p:cNvPr id="927" name=""/>
            <p:cNvSpPr/>
            <p:nvPr/>
          </p:nvSpPr>
          <p:spPr>
            <a:xfrm>
              <a:off x="696960" y="6313320"/>
              <a:ext cx="160344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meth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347920" y="6313320"/>
              <a:ext cx="123984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Me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43200" y="6313320"/>
              <a:ext cx="239724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ethod symbol 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083280" y="6314760"/>
              <a:ext cx="2362320" cy="330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93720" y="1792440"/>
            <a:ext cx="7748640" cy="580680"/>
            <a:chOff x="693720" y="1792440"/>
            <a:chExt cx="7748640" cy="580680"/>
          </a:xfrm>
        </p:grpSpPr>
        <p:sp>
          <p:nvSpPr>
            <p:cNvPr id="932" name=""/>
            <p:cNvSpPr/>
            <p:nvPr/>
          </p:nvSpPr>
          <p:spPr>
            <a:xfrm>
              <a:off x="6080040" y="1806480"/>
              <a:ext cx="2362320" cy="555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93720" y="1792440"/>
              <a:ext cx="159696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arg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344680" y="1792440"/>
              <a:ext cx="125100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Ar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639960" y="1792440"/>
              <a:ext cx="238464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613560" y="187020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613560" y="200988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13560" y="2149560"/>
              <a:ext cx="36828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13560" y="187020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981840" y="187020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007400" y="1870200"/>
              <a:ext cx="88560" cy="279360"/>
            </a:xfrm>
            <a:custGeom>
              <a:avLst/>
              <a:gdLst>
                <a:gd name="textAreaLeft" fmla="*/ 0 w 88560"/>
                <a:gd name="textAreaRight" fmla="*/ 32040 w 88560"/>
                <a:gd name="textAreaTop" fmla="*/ 7200 h 279360"/>
                <a:gd name="textAreaBottom" fmla="*/ 27216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131240" y="192888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70840" y="1820880"/>
              <a:ext cx="29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ar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700200" y="2417760"/>
            <a:ext cx="7748640" cy="580680"/>
            <a:chOff x="700200" y="2417760"/>
            <a:chExt cx="7748640" cy="580680"/>
          </a:xfrm>
        </p:grpSpPr>
        <p:sp>
          <p:nvSpPr>
            <p:cNvPr id="945" name=""/>
            <p:cNvSpPr/>
            <p:nvPr/>
          </p:nvSpPr>
          <p:spPr>
            <a:xfrm>
              <a:off x="6086520" y="2432160"/>
              <a:ext cx="2362320" cy="55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00200" y="2417760"/>
              <a:ext cx="159696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local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351160" y="2417760"/>
              <a:ext cx="125100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646440" y="2417760"/>
              <a:ext cx="238284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620040" y="248616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20040" y="2625840"/>
              <a:ext cx="36828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20040" y="2765520"/>
              <a:ext cx="36828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620040" y="248616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988320" y="248616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013520" y="2486160"/>
              <a:ext cx="88920" cy="27936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7200 h 279360"/>
                <a:gd name="textAreaBottom" fmla="*/ 27216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137720" y="25448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181560" y="244620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loc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FDE-EBB2-439B-87D5-DD12A6BAF0B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292104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8200" y="1835280"/>
            <a:ext cx="684072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6.2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NET Common Language Runtime (CL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Jumps and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7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tro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13EE-17C7-418E-8000-AD8E99DC63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How Do we Find the Necessary Item Kinds?</a:t>
            </a:r>
            <a:endParaRPr b="0" i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48080" y="1219320"/>
            <a:ext cx="19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ddressing m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816120" y="1852560"/>
            <a:ext cx="1285560" cy="179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mmed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de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253040" y="12193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object ki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259520" y="1852560"/>
            <a:ext cx="1285560" cy="179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e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51320" y="1496880"/>
            <a:ext cx="28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pending on the target 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254120" y="1496880"/>
            <a:ext cx="29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pending on the source langu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2019240" y="3281400"/>
            <a:ext cx="5853240" cy="3357000"/>
            <a:chOff x="2019240" y="3281400"/>
            <a:chExt cx="5853240" cy="3357000"/>
          </a:xfrm>
        </p:grpSpPr>
        <p:sp>
          <p:nvSpPr>
            <p:cNvPr id="965" name=""/>
            <p:cNvSpPr/>
            <p:nvPr/>
          </p:nvSpPr>
          <p:spPr>
            <a:xfrm>
              <a:off x="3064680" y="328140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3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658960" y="4275000"/>
              <a:ext cx="120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tem kin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633760" y="4597560"/>
              <a:ext cx="1285560" cy="204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r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e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019240" y="3554280"/>
              <a:ext cx="960480" cy="50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3492360" y="3571920"/>
              <a:ext cx="858960" cy="46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43240" y="3762360"/>
              <a:ext cx="12600" cy="3938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497480" y="5116680"/>
              <a:ext cx="3375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e do not nee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tems in Z#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ecause types do not occur as oper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no type cast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4157-B5A7-4B9B-9284-590661A6392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lass Item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918360" y="1020600"/>
            <a:ext cx="5778720" cy="1910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num Kinds {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oc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a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iel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le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Meth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89388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Kind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ki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ype of the oper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Const: constant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d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Arg, Local: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y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Field, Meth: Symbol node from symbol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645120" y="2949480"/>
            <a:ext cx="7834320" cy="3005280"/>
            <a:chOff x="645120" y="2949480"/>
            <a:chExt cx="7834320" cy="3005280"/>
          </a:xfrm>
        </p:grpSpPr>
        <p:sp>
          <p:nvSpPr>
            <p:cNvPr id="975" name=""/>
            <p:cNvSpPr/>
            <p:nvPr/>
          </p:nvSpPr>
          <p:spPr>
            <a:xfrm>
              <a:off x="645120" y="2949480"/>
              <a:ext cx="32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nstructors for creating Ite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938160" y="3303360"/>
              <a:ext cx="5724720" cy="265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Symbol sym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ype = sym.type; val = sym.val; adr = sym.adr; this.sym = sym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witch (sym.kind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Symbol.Kinds.Const: kind = Kinds.Const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Symbol.Kinds.Arg: kind = Kinds.Arg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Symbol.Kinds.Local: kind = Kinds.Local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Symbol.Kinds.Global: kind = Kinds.Static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Symbol.Kinds.Field: kind = Kinds.Field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Symbol.Kinds.Meth: kind = Kinds.Meth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fault: Parser.Error("cannot create Item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667920" y="3366720"/>
              <a:ext cx="1811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reate an Item f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symbol table 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938160" y="5996160"/>
            <a:ext cx="7565400" cy="744480"/>
            <a:chOff x="938160" y="5996160"/>
            <a:chExt cx="7565400" cy="744480"/>
          </a:xfrm>
        </p:grpSpPr>
        <p:sp>
          <p:nvSpPr>
            <p:cNvPr id="979" name=""/>
            <p:cNvSpPr/>
            <p:nvPr/>
          </p:nvSpPr>
          <p:spPr>
            <a:xfrm>
              <a:off x="938160" y="6007320"/>
              <a:ext cx="571356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int val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kind = Kinds.Const; type = Tab.intType; this.val = val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653880" y="5996160"/>
              <a:ext cx="184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reates an Item f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C7F1-ADD2-48D5-91B0-19A483EF2A5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oading Values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20720" y="1128600"/>
            <a:ext cx="571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give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value described by an item (Const, Arg, Local, Static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wante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 the value onto the expression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70680" y="2233440"/>
            <a:ext cx="227916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Cas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pending on the 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kind we have to gene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ifferent load instr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90200" y="1793880"/>
            <a:ext cx="4664520" cy="4707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oa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Item x) { // m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ethod of cla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witch (x.kin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de-AT" sz="1400" spc="-1" strike="noStrike" u="sng">
                <a:solidFill>
                  <a:srgbClr val="000000"/>
                </a:solidFill>
                <a:uFillTx/>
                <a:latin typeface="Arial"/>
              </a:rPr>
              <a:t>Item.Kinds.Cons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x.type == Tab.nullType) il.Emit(LDNUL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LoadConst(x.va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de-AT" sz="1400" spc="-1" strike="noStrike" u="sng">
                <a:solidFill>
                  <a:srgbClr val="000000"/>
                </a:solidFill>
                <a:uFillTx/>
                <a:latin typeface="Arial"/>
              </a:rPr>
              <a:t>Item.Kinds.Arg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witch (x.adr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0: il.Emit(LDARG0); break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fault: il.Emit(LDARG, x.adr)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de-AT" sz="1400" spc="-1" strike="noStrike" u="sng">
                <a:solidFill>
                  <a:srgbClr val="000000"/>
                </a:solidFill>
                <a:uFillTx/>
                <a:latin typeface="Arial"/>
              </a:rPr>
              <a:t>Item.Kinds.Loc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witch (x.adr) {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0: il.Emit(LDLOC0); break;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fault: il.Emit(LDLOC, x.adr); break;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E465-C202-4532-9D12-52887807F15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oading Values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84080" y="1184400"/>
            <a:ext cx="6013440" cy="3749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ublic static void Load (Item x) {  //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de-AT" sz="1400" spc="-1" strike="noStrike" u="sng">
                <a:solidFill>
                  <a:srgbClr val="000000"/>
                </a:solidFill>
                <a:uFillTx/>
                <a:latin typeface="Arial"/>
              </a:rPr>
              <a:t>Item.Stati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x.sym.fld != null) il.Emit(LDSFLD, x.sym.fld)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de-AT" sz="1400" spc="-1" strike="noStrike" u="sng">
                <a:solidFill>
                  <a:srgbClr val="000000"/>
                </a:solidFill>
                <a:uFillTx/>
                <a:latin typeface="Arial"/>
              </a:rPr>
              <a:t>Item.Sta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break; // nothing to do (already load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de-AT" sz="1400" spc="-1" strike="noStrike" u="sng">
                <a:solidFill>
                  <a:srgbClr val="000000"/>
                </a:solidFill>
                <a:uFillTx/>
                <a:latin typeface="Arial"/>
              </a:rPr>
              <a:t>Item.Fiel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 //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assert: object base address is on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x.sym.fld != null) il.Emit(LDFLD, x.sym.fld)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de-AT" sz="1400" spc="-1" strike="noStrike" u="sng">
                <a:solidFill>
                  <a:srgbClr val="000000"/>
                </a:solidFill>
                <a:uFillTx/>
                <a:latin typeface="Arial"/>
              </a:rPr>
              <a:t>Item.Ele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 //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assert: array base address and index are on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x.type == Tab.charType) il.Emit(LDELEMCH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if (x.type == Tab.intType) il.Emit(LDELEMIN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if (x.type.kind == Struct.Kinds.Class) il.Emit(LDELEMREF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Parser.Error("invalid array element type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fault: Error("cannot load this value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.kind = Item.Kinds.Stac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817560" y="5000760"/>
            <a:ext cx="5958000" cy="1626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ernal 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oadCons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int n) { 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// method of cla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witch (n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-1: il.Emit(LDCM1)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0: il.Emit(LDC0)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fault: il.Emit(LDC, n)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14080" y="4206960"/>
            <a:ext cx="210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sulting item is al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FE37-856F-436B-BD69-18C274F9EDD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Loading a Constan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008000" y="1719360"/>
            <a:ext cx="547056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 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new Item(token.val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x.kind = Co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x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x.kind =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96240" y="123192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scription by an AT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697320" y="3035160"/>
            <a:ext cx="1450080" cy="1296360"/>
            <a:chOff x="697320" y="3035160"/>
            <a:chExt cx="1450080" cy="1296360"/>
          </a:xfrm>
        </p:grpSpPr>
        <p:sp>
          <p:nvSpPr>
            <p:cNvPr id="993" name=""/>
            <p:cNvSpPr/>
            <p:nvPr/>
          </p:nvSpPr>
          <p:spPr>
            <a:xfrm>
              <a:off x="697320" y="3035160"/>
              <a:ext cx="145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Visualis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975600" y="351648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63360" y="40244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1726560" y="3516480"/>
            <a:ext cx="2084040" cy="1304640"/>
            <a:chOff x="1726560" y="3516480"/>
            <a:chExt cx="2084040" cy="1304640"/>
          </a:xfrm>
        </p:grpSpPr>
        <p:sp>
          <p:nvSpPr>
            <p:cNvPr id="997" name=""/>
            <p:cNvSpPr/>
            <p:nvPr/>
          </p:nvSpPr>
          <p:spPr>
            <a:xfrm>
              <a:off x="1965960" y="4087800"/>
              <a:ext cx="508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43680" y="4087800"/>
              <a:ext cx="646920" cy="7333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726560" y="3516480"/>
              <a:ext cx="208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new Item(token.val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655360" y="38242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5816520" y="4317840"/>
            <a:ext cx="571680" cy="19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816520" y="4127400"/>
            <a:ext cx="5716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816520" y="4508640"/>
            <a:ext cx="57168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613480" y="449892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255280" y="435780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004080" y="43070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788440" y="386856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000000"/>
                </a:solidFill>
                <a:latin typeface="Arial"/>
              </a:rPr>
              <a:t>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3855240" y="3516480"/>
            <a:ext cx="1311480" cy="2077200"/>
            <a:chOff x="3855240" y="3516480"/>
            <a:chExt cx="1311480" cy="2077200"/>
          </a:xfrm>
        </p:grpSpPr>
        <p:sp>
          <p:nvSpPr>
            <p:cNvPr id="1009" name=""/>
            <p:cNvSpPr/>
            <p:nvPr/>
          </p:nvSpPr>
          <p:spPr>
            <a:xfrm>
              <a:off x="4161960" y="4087800"/>
              <a:ext cx="628920" cy="7333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855240" y="35164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Load(x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354200" y="38336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24440" y="4964040"/>
              <a:ext cx="70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037760" y="52563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dc.i4 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4A01-7693-4BD6-B30B-EBB8CD0AE0C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Loading an Argumen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001520" y="1719360"/>
            <a:ext cx="793800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609560"/>
                <a:tab algn="l" pos="178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609560"/>
                <a:tab algn="l" pos="178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 sym = Tab.Find(token.str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sym.kind = Const | Arg | Local | Glob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609560"/>
                <a:tab algn="l" pos="178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new Item(sym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x.kind = Const | Arg | Local | Sta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609560"/>
                <a:tab algn="l" pos="178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x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x.kind =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609560"/>
                <a:tab algn="l" pos="178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1859040" y="3605040"/>
            <a:ext cx="2271600" cy="1518120"/>
            <a:chOff x="1859040" y="3605040"/>
            <a:chExt cx="2271600" cy="1518120"/>
          </a:xfrm>
        </p:grpSpPr>
        <p:sp>
          <p:nvSpPr>
            <p:cNvPr id="1017" name=""/>
            <p:cNvSpPr/>
            <p:nvPr/>
          </p:nvSpPr>
          <p:spPr>
            <a:xfrm>
              <a:off x="2343960" y="4176720"/>
              <a:ext cx="6256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978280" y="4176720"/>
              <a:ext cx="596880" cy="946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abc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859040" y="3605040"/>
              <a:ext cx="22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ym = Tab.Find(token.str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013920" y="3894120"/>
              <a:ext cx="5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y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4255920" y="3605040"/>
            <a:ext cx="1695600" cy="1305000"/>
            <a:chOff x="4255920" y="3605040"/>
            <a:chExt cx="1695600" cy="1305000"/>
          </a:xfrm>
        </p:grpSpPr>
        <p:sp>
          <p:nvSpPr>
            <p:cNvPr id="1022" name=""/>
            <p:cNvSpPr/>
            <p:nvPr/>
          </p:nvSpPr>
          <p:spPr>
            <a:xfrm>
              <a:off x="4350600" y="4176720"/>
              <a:ext cx="508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971600" y="4176720"/>
              <a:ext cx="457920" cy="7333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255920" y="3605040"/>
              <a:ext cx="169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new Item(sym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059080" y="3894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7385400" y="3948120"/>
            <a:ext cx="1156320" cy="1098720"/>
            <a:chOff x="7385400" y="3948120"/>
            <a:chExt cx="1156320" cy="1098720"/>
          </a:xfrm>
        </p:grpSpPr>
        <p:sp>
          <p:nvSpPr>
            <p:cNvPr id="1027" name=""/>
            <p:cNvSpPr/>
            <p:nvPr/>
          </p:nvSpPr>
          <p:spPr>
            <a:xfrm>
              <a:off x="7947000" y="4406760"/>
              <a:ext cx="571680" cy="190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47000" y="4216320"/>
              <a:ext cx="571680" cy="19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947000" y="4597560"/>
              <a:ext cx="571680" cy="44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743960" y="45975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385400" y="445608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096400" y="4395960"/>
              <a:ext cx="24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918920" y="394812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696240" y="11685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scription by an AT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697320" y="3238560"/>
            <a:ext cx="1450080" cy="1765440"/>
            <a:chOff x="697320" y="3238560"/>
            <a:chExt cx="1450080" cy="1765440"/>
          </a:xfrm>
        </p:grpSpPr>
        <p:sp>
          <p:nvSpPr>
            <p:cNvPr id="1036" name=""/>
            <p:cNvSpPr/>
            <p:nvPr/>
          </p:nvSpPr>
          <p:spPr>
            <a:xfrm>
              <a:off x="1089000" y="4216320"/>
              <a:ext cx="571680" cy="19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089000" y="4406760"/>
              <a:ext cx="571680" cy="19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089000" y="4597560"/>
              <a:ext cx="571680" cy="190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089000" y="4788000"/>
              <a:ext cx="571680" cy="19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696320" y="4237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696320" y="4427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696320" y="461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696320" y="482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247760" y="4586400"/>
              <a:ext cx="24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27880" y="395748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ar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97320" y="3238560"/>
              <a:ext cx="145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Visualis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6112800" y="3605040"/>
            <a:ext cx="1311480" cy="2179080"/>
            <a:chOff x="6112800" y="3605040"/>
            <a:chExt cx="1311480" cy="2179080"/>
          </a:xfrm>
        </p:grpSpPr>
        <p:sp>
          <p:nvSpPr>
            <p:cNvPr id="1048" name=""/>
            <p:cNvSpPr/>
            <p:nvPr/>
          </p:nvSpPr>
          <p:spPr>
            <a:xfrm>
              <a:off x="6419520" y="4176720"/>
              <a:ext cx="628920" cy="7333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112800" y="3605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Load(x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602040" y="3903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300720" y="5116680"/>
              <a:ext cx="70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355080" y="5446800"/>
              <a:ext cx="79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darg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65A8-32FB-4EEE-9F8B-58FC7DE7872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Loading a Local Variab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96240" y="11685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scription by an AT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001520" y="1719360"/>
            <a:ext cx="766980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41360"/>
                <a:tab algn="l" pos="1521000"/>
                <a:tab algn="l" pos="430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41360"/>
                <a:tab algn="l" pos="1521000"/>
                <a:tab algn="l" pos="430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 sym = Tab.Find(token.str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sym.kind = Const | Arg | Local | Glob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41360"/>
                <a:tab algn="l" pos="1521000"/>
                <a:tab algn="l" pos="430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 = new Item(sym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x.kind = Const | Arg | Local | Sta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41360"/>
                <a:tab algn="l" pos="1521000"/>
                <a:tab algn="l" pos="430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x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x.kind =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41360"/>
                <a:tab algn="l" pos="1521000"/>
                <a:tab algn="l" pos="430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343960" y="4176720"/>
            <a:ext cx="625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978280" y="4176720"/>
            <a:ext cx="607320" cy="946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xyz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859040" y="3605040"/>
            <a:ext cx="22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 = Tab.Find(token.st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013920" y="389412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4255920" y="3605040"/>
            <a:ext cx="1695600" cy="1305000"/>
            <a:chOff x="4255920" y="3605040"/>
            <a:chExt cx="1695600" cy="1305000"/>
          </a:xfrm>
        </p:grpSpPr>
        <p:sp>
          <p:nvSpPr>
            <p:cNvPr id="1061" name=""/>
            <p:cNvSpPr/>
            <p:nvPr/>
          </p:nvSpPr>
          <p:spPr>
            <a:xfrm>
              <a:off x="4350600" y="4176720"/>
              <a:ext cx="508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896000" y="4176720"/>
              <a:ext cx="607320" cy="7333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255920" y="3605040"/>
              <a:ext cx="169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 = new Item(sym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068440" y="3894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6112800" y="3605040"/>
            <a:ext cx="1311480" cy="2179080"/>
            <a:chOff x="6112800" y="3605040"/>
            <a:chExt cx="1311480" cy="2179080"/>
          </a:xfrm>
        </p:grpSpPr>
        <p:sp>
          <p:nvSpPr>
            <p:cNvPr id="1066" name=""/>
            <p:cNvSpPr/>
            <p:nvPr/>
          </p:nvSpPr>
          <p:spPr>
            <a:xfrm>
              <a:off x="6419520" y="4176720"/>
              <a:ext cx="628920" cy="7333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112800" y="3605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Load(x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602040" y="3894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291360" y="5116680"/>
              <a:ext cx="70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365160" y="544680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dloc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697320" y="3228840"/>
            <a:ext cx="1450080" cy="1765440"/>
            <a:chOff x="697320" y="3228840"/>
            <a:chExt cx="1450080" cy="1765440"/>
          </a:xfrm>
        </p:grpSpPr>
        <p:sp>
          <p:nvSpPr>
            <p:cNvPr id="1072" name=""/>
            <p:cNvSpPr/>
            <p:nvPr/>
          </p:nvSpPr>
          <p:spPr>
            <a:xfrm>
              <a:off x="1089000" y="4206600"/>
              <a:ext cx="571680" cy="19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089000" y="4587840"/>
              <a:ext cx="571680" cy="19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089000" y="4397040"/>
              <a:ext cx="571680" cy="190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089000" y="4778280"/>
              <a:ext cx="571680" cy="19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696320" y="4227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696320" y="441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696320" y="460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696320" y="481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258560" y="437652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xy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127520" y="3947760"/>
              <a:ext cx="57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loc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97320" y="3228840"/>
              <a:ext cx="145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Visualis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7385400" y="3948120"/>
            <a:ext cx="1156320" cy="1098720"/>
            <a:chOff x="7385400" y="3948120"/>
            <a:chExt cx="1156320" cy="1098720"/>
          </a:xfrm>
        </p:grpSpPr>
        <p:sp>
          <p:nvSpPr>
            <p:cNvPr id="1084" name=""/>
            <p:cNvSpPr/>
            <p:nvPr/>
          </p:nvSpPr>
          <p:spPr>
            <a:xfrm>
              <a:off x="7947000" y="4406760"/>
              <a:ext cx="571680" cy="190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947000" y="4216320"/>
              <a:ext cx="571680" cy="19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947000" y="4597560"/>
              <a:ext cx="571680" cy="44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743960" y="45975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385400" y="445608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096400" y="4395960"/>
              <a:ext cx="24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918920" y="394812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4AA9-8203-4DDA-A083-6F3813F0906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63080" y="3678120"/>
            <a:ext cx="5532120" cy="265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93880"/>
                <a:tab algn="l" pos="196704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esigna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ing nam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93880"/>
                <a:tab algn="l" pos="196704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ame = token.st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93880"/>
                <a:tab algn="l" pos="196704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 = new Item(Tab.Find(name)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93880"/>
                <a:tab algn="l" pos="196704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"." 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x.type.kind == Struct.Kinds.Clas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93880"/>
                <a:tab algn="l" pos="196704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93880"/>
                <a:tab algn="l" pos="196704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.sym = Tab.FindField(token.str, x.typ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93880"/>
                <a:tab algn="l" pos="196704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.type = x.sym.typ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93880"/>
                <a:tab algn="l" pos="196704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else Error(name + " is not an object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93880"/>
                <a:tab algn="l" pos="196704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.kind = Item.Kinds.Fiel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93880"/>
                <a:tab algn="l" pos="196704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93880"/>
                <a:tab algn="l" pos="196704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93880"/>
                <a:tab algn="l" pos="196704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oading Object Field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117440" y="1306440"/>
            <a:ext cx="55728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var.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44120" y="1803240"/>
            <a:ext cx="56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ntext conditions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make sure that your compiler checks th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104840" y="2603520"/>
            <a:ext cx="6997680" cy="647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104840" y="2197080"/>
            <a:ext cx="6997680" cy="4064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066680" y="2259000"/>
            <a:ext cx="28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 = Designator "." ident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083240" y="2639880"/>
            <a:ext cx="359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type of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 Designator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ust be a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de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must be a field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esignat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34400" y="330984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scription by an AT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39840" y="4168800"/>
            <a:ext cx="189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oks up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oken.st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field list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x.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5501880" y="4468680"/>
            <a:ext cx="1149480" cy="33984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710040" y="5450040"/>
            <a:ext cx="17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reates a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Fiel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 flipV="1">
            <a:off x="5245200" y="5564160"/>
            <a:ext cx="1479600" cy="6984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B89-7A20-4B6A-8CDB-19C03D5DBA7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Loading an Object Field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457280" y="222084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882960" y="222084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1650960" y="1523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2895480" y="14220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80360" y="2220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4076640" y="1523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1650960" y="1523880"/>
            <a:ext cx="242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459160" y="1166760"/>
            <a:ext cx="86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821520" y="1130400"/>
            <a:ext cx="6214320" cy="5411880"/>
            <a:chOff x="821520" y="1130400"/>
            <a:chExt cx="6214320" cy="5411880"/>
          </a:xfrm>
        </p:grpSpPr>
        <p:sp>
          <p:nvSpPr>
            <p:cNvPr id="1114" name=""/>
            <p:cNvSpPr/>
            <p:nvPr/>
          </p:nvSpPr>
          <p:spPr>
            <a:xfrm>
              <a:off x="4347720" y="2278080"/>
              <a:ext cx="53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x.sy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12600" y="1198440"/>
              <a:ext cx="45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Fie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373920" y="1130400"/>
              <a:ext cx="232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05240" y="6048360"/>
              <a:ext cx="380880" cy="279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821520" y="5486400"/>
              <a:ext cx="232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087560" y="5459400"/>
              <a:ext cx="312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reate from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x.sym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Fiel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305720" y="5900760"/>
              <a:ext cx="470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775160" y="5900760"/>
              <a:ext cx="511560" cy="641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Fie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206800" y="619776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916280" y="56689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519280" y="60469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918040" y="6070680"/>
              <a:ext cx="393840" cy="16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918040" y="6235560"/>
              <a:ext cx="393840" cy="16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765760" y="623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407560" y="609768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642000" y="5905440"/>
              <a:ext cx="393840" cy="165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642000" y="6070680"/>
              <a:ext cx="393840" cy="16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261120" y="5892480"/>
              <a:ext cx="38088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910120" y="599616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703920" y="5850000"/>
              <a:ext cx="22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814000" y="580860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824040" y="1778040"/>
            <a:ext cx="7501320" cy="3443400"/>
            <a:chOff x="824040" y="1778040"/>
            <a:chExt cx="7501320" cy="3443400"/>
          </a:xfrm>
        </p:grpSpPr>
        <p:sp>
          <p:nvSpPr>
            <p:cNvPr id="1136" name=""/>
            <p:cNvSpPr/>
            <p:nvPr/>
          </p:nvSpPr>
          <p:spPr>
            <a:xfrm>
              <a:off x="2163600" y="184644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928880" y="177804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229280" y="4927680"/>
              <a:ext cx="380880" cy="279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552760" y="4572000"/>
              <a:ext cx="622080" cy="59688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24040" y="414036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078920" y="4113360"/>
              <a:ext cx="137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de.Load(x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305720" y="4554360"/>
              <a:ext cx="470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775520" y="4554360"/>
              <a:ext cx="563400" cy="641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563200" y="4579920"/>
              <a:ext cx="561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2235240" y="46224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935000" y="43131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499200" y="4567320"/>
              <a:ext cx="511560" cy="641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Fie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f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846520" y="5067360"/>
              <a:ext cx="63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73600" y="506736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243320" y="49165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918040" y="4724280"/>
              <a:ext cx="393840" cy="165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918040" y="4889520"/>
              <a:ext cx="393840" cy="16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65760" y="4886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407560" y="473220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642000" y="4559400"/>
              <a:ext cx="393840" cy="16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642000" y="4724280"/>
              <a:ext cx="393840" cy="16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6261120" y="4546440"/>
              <a:ext cx="38088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910120" y="464976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703920" y="4503600"/>
              <a:ext cx="22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814000" y="445284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453120" y="4322880"/>
              <a:ext cx="57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x.sy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516800" y="4417920"/>
              <a:ext cx="70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574760" y="474804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dloc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823680" y="2209680"/>
            <a:ext cx="6212160" cy="1678320"/>
            <a:chOff x="823680" y="2209680"/>
            <a:chExt cx="6212160" cy="1678320"/>
          </a:xfrm>
        </p:grpSpPr>
        <p:sp>
          <p:nvSpPr>
            <p:cNvPr id="1165" name=""/>
            <p:cNvSpPr/>
            <p:nvPr/>
          </p:nvSpPr>
          <p:spPr>
            <a:xfrm>
              <a:off x="4229280" y="3594240"/>
              <a:ext cx="380880" cy="279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552760" y="3238560"/>
              <a:ext cx="622080" cy="59688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166840" y="2278080"/>
              <a:ext cx="5508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Local</a:t>
              </a:r>
              <a:r>
                <a:rPr b="0" lang="de-AT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928520" y="2209680"/>
              <a:ext cx="227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823680" y="2806560"/>
              <a:ext cx="227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087200" y="2779560"/>
              <a:ext cx="317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tem x = new Item(Tab.Find(name)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305720" y="3220920"/>
              <a:ext cx="470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774440" y="3220920"/>
              <a:ext cx="546480" cy="641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563200" y="3246480"/>
              <a:ext cx="561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2235240" y="32889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925640" y="297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483360" y="3233880"/>
              <a:ext cx="511560" cy="641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Fie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f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844720" y="3733920"/>
              <a:ext cx="6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873600" y="373392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243320" y="35924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18040" y="3225960"/>
              <a:ext cx="393840" cy="16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918040" y="3390840"/>
              <a:ext cx="393840" cy="165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918040" y="3556080"/>
              <a:ext cx="393840" cy="16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642000" y="3225960"/>
              <a:ext cx="393840" cy="16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642000" y="3390840"/>
              <a:ext cx="393840" cy="16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6261120" y="3213000"/>
              <a:ext cx="38088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910120" y="331632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703920" y="3170160"/>
              <a:ext cx="22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820120" y="2919240"/>
              <a:ext cx="57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loc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E2D8-E7F2-4150-9291-49DD7338939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1055160" y="3681360"/>
            <a:ext cx="7185960" cy="2864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esigna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ing name; Item x, y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ame = token.str; x = new Item(Tab.find(name)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[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x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x.type.kind == Struct.Arr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y.type != Tab.intType) Error("index must be of type int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.type = x.type.elemTyp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else Error(name + " is not an array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.kind = Item.Ele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]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] { …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oading Array Elemen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117800" y="1306440"/>
            <a:ext cx="46116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[i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35120" y="1739880"/>
            <a:ext cx="20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ntext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104840" y="2540160"/>
            <a:ext cx="6997680" cy="647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04840" y="2133720"/>
            <a:ext cx="6997680" cy="4064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065600" y="2195640"/>
            <a:ext cx="30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 = Designator "[" Expr "]"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083240" y="2576520"/>
            <a:ext cx="37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type of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 Designator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ust be an arr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type of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 Expr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ust be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 i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34400" y="328140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scription by an AT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990720" y="6475320"/>
            <a:ext cx="27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dex check is done in the C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422040" y="5808600"/>
            <a:ext cx="178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reate a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 flipV="1">
            <a:off x="4952520" y="5783040"/>
            <a:ext cx="1467000" cy="19980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C750-AA3B-478F-96EC-B820D165395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941440" y="1503360"/>
            <a:ext cx="24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ograms (Z#, C#, C++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rchitecture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1840" y="1384200"/>
            <a:ext cx="34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What is a virtual machine (VM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280" y="1789200"/>
            <a:ext cx="501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CPU implemented in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mmands will be interpreted / JIT-compi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ther examples: Java-VM, Smalltalk-VM, Pascal P-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4680" y="2254320"/>
            <a:ext cx="25830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60040" y="2265480"/>
            <a:ext cx="17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.g. Intel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54680" y="1873080"/>
            <a:ext cx="25830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73480" y="18972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54680" y="1492200"/>
            <a:ext cx="258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83280" y="2886120"/>
            <a:ext cx="6285240" cy="2055600"/>
            <a:chOff x="683280" y="2886120"/>
            <a:chExt cx="6285240" cy="2055600"/>
          </a:xfrm>
        </p:grpSpPr>
        <p:sp>
          <p:nvSpPr>
            <p:cNvPr id="109" name=""/>
            <p:cNvSpPr/>
            <p:nvPr/>
          </p:nvSpPr>
          <p:spPr>
            <a:xfrm>
              <a:off x="683280" y="2886120"/>
              <a:ext cx="293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he CLR is a stack mach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3760" y="3232080"/>
              <a:ext cx="561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o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stead it has a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xpression stack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onto which values are loade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76520" y="4064040"/>
              <a:ext cx="977760" cy="15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76520" y="4216320"/>
              <a:ext cx="977760" cy="15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76520" y="4368600"/>
              <a:ext cx="977760" cy="152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4521240"/>
              <a:ext cx="977760" cy="42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98680" y="452124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03400" y="4329000"/>
              <a:ext cx="45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41040" y="373392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97720" y="4073400"/>
              <a:ext cx="3970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ax. size is stored in metadata of each meth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sp ... expression stack poi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82560" y="5300640"/>
            <a:ext cx="7230960" cy="985320"/>
            <a:chOff x="682560" y="5300640"/>
            <a:chExt cx="7230960" cy="985320"/>
          </a:xfrm>
        </p:grpSpPr>
        <p:sp>
          <p:nvSpPr>
            <p:cNvPr id="120" name=""/>
            <p:cNvSpPr/>
            <p:nvPr/>
          </p:nvSpPr>
          <p:spPr>
            <a:xfrm>
              <a:off x="682560" y="5300640"/>
              <a:ext cx="42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he CLR executes JIT-compiled byte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1320" y="5705280"/>
              <a:ext cx="7162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ach method is compiled right before the first execution (= just-in-tim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perands are addressed symbolically in IL (informationen is stored in the metadat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6CC-5276-46F1-B191-2547D292B0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Loading an Array Elemen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457280" y="211932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883320" y="2119320"/>
            <a:ext cx="36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1650960" y="158724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071160" y="21193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>
            <a:off x="1650600" y="1587600"/>
            <a:ext cx="360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980080" y="1166760"/>
            <a:ext cx="86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823680" y="2108160"/>
            <a:ext cx="3443400" cy="1754280"/>
            <a:chOff x="823680" y="2108160"/>
            <a:chExt cx="3443400" cy="1754280"/>
          </a:xfrm>
        </p:grpSpPr>
        <p:sp>
          <p:nvSpPr>
            <p:cNvPr id="1209" name=""/>
            <p:cNvSpPr/>
            <p:nvPr/>
          </p:nvSpPr>
          <p:spPr>
            <a:xfrm>
              <a:off x="3492360" y="3403440"/>
              <a:ext cx="381240" cy="2797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552760" y="3238560"/>
              <a:ext cx="622080" cy="4064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166840" y="2176560"/>
              <a:ext cx="5508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Local</a:t>
              </a:r>
              <a:r>
                <a:rPr b="0" lang="de-AT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928520" y="2108160"/>
              <a:ext cx="227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23680" y="2806560"/>
              <a:ext cx="227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087200" y="2779560"/>
              <a:ext cx="317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tem x = new Item(Tab.Find(name)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305720" y="3220920"/>
              <a:ext cx="470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774440" y="3220920"/>
              <a:ext cx="546480" cy="641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564280" y="324648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r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2235240" y="32889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935000" y="297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035160" y="353052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477960" y="34113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3898440" y="1130400"/>
            <a:ext cx="4017960" cy="5411880"/>
            <a:chOff x="3898440" y="1130400"/>
            <a:chExt cx="4017960" cy="5411880"/>
          </a:xfrm>
        </p:grpSpPr>
        <p:sp>
          <p:nvSpPr>
            <p:cNvPr id="1223" name=""/>
            <p:cNvSpPr/>
            <p:nvPr/>
          </p:nvSpPr>
          <p:spPr>
            <a:xfrm>
              <a:off x="4133880" y="1198440"/>
              <a:ext cx="471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El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898440" y="1130400"/>
              <a:ext cx="224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908760" y="6058080"/>
              <a:ext cx="380880" cy="279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81120" y="5486400"/>
              <a:ext cx="224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440320" y="5459400"/>
              <a:ext cx="24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rzeuge au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e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lem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-I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661720" y="5900760"/>
              <a:ext cx="470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31880" y="5900760"/>
              <a:ext cx="528120" cy="641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l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591240" y="6197760"/>
              <a:ext cx="2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262560" y="56595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894360" y="60660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"/>
          <p:cNvSpPr/>
          <p:nvPr/>
        </p:nvSpPr>
        <p:spPr>
          <a:xfrm>
            <a:off x="5242680" y="21193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4263120" y="2108160"/>
            <a:ext cx="3115440" cy="1754280"/>
            <a:chOff x="4263120" y="2108160"/>
            <a:chExt cx="3115440" cy="1754280"/>
          </a:xfrm>
        </p:grpSpPr>
        <p:sp>
          <p:nvSpPr>
            <p:cNvPr id="1235" name=""/>
            <p:cNvSpPr/>
            <p:nvPr/>
          </p:nvSpPr>
          <p:spPr>
            <a:xfrm>
              <a:off x="4503600" y="2176560"/>
              <a:ext cx="5508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Local</a:t>
              </a:r>
              <a:r>
                <a:rPr b="0" lang="de-AT" sz="1400" spc="-1" strike="noStrike" baseline="-25000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63120" y="2108160"/>
              <a:ext cx="232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997680" y="3403440"/>
              <a:ext cx="380880" cy="2797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177520" y="2806560"/>
              <a:ext cx="232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436000" y="2779560"/>
              <a:ext cx="108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y = Expr(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661720" y="3220920"/>
              <a:ext cx="470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130800" y="3220920"/>
              <a:ext cx="546480" cy="641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272280" y="2970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629400" y="353052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983280" y="34113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5" name=""/>
          <p:cNvSpPr/>
          <p:nvPr/>
        </p:nvSpPr>
        <p:spPr>
          <a:xfrm flipV="1">
            <a:off x="3543480" y="140976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3086280" y="158724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4038480" y="158724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5270400" y="158724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9" name=""/>
          <p:cNvGrpSpPr/>
          <p:nvPr/>
        </p:nvGrpSpPr>
        <p:grpSpPr>
          <a:xfrm>
            <a:off x="4263840" y="1727280"/>
            <a:ext cx="4461480" cy="3468600"/>
            <a:chOff x="4263840" y="1727280"/>
            <a:chExt cx="4461480" cy="3468600"/>
          </a:xfrm>
        </p:grpSpPr>
        <p:sp>
          <p:nvSpPr>
            <p:cNvPr id="1250" name=""/>
            <p:cNvSpPr/>
            <p:nvPr/>
          </p:nvSpPr>
          <p:spPr>
            <a:xfrm>
              <a:off x="4500360" y="179532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263840" y="1727280"/>
              <a:ext cx="23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178240" y="4140360"/>
              <a:ext cx="23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434920" y="4113360"/>
              <a:ext cx="137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de.Load(y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661720" y="4554360"/>
              <a:ext cx="470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131880" y="4554360"/>
              <a:ext cx="563400" cy="641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291360" y="42940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974720" y="413856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dloc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997680" y="4762440"/>
              <a:ext cx="380880" cy="279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629400" y="488952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983280" y="47703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089920" y="4660920"/>
              <a:ext cx="43164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089920" y="4813200"/>
              <a:ext cx="43164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8089920" y="4965840"/>
              <a:ext cx="4316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259120" y="462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291160" y="47991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074080" y="443700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824040" y="1727280"/>
            <a:ext cx="3932640" cy="3468600"/>
            <a:chOff x="824040" y="1727280"/>
            <a:chExt cx="3932640" cy="3468600"/>
          </a:xfrm>
        </p:grpSpPr>
        <p:sp>
          <p:nvSpPr>
            <p:cNvPr id="1268" name=""/>
            <p:cNvSpPr/>
            <p:nvPr/>
          </p:nvSpPr>
          <p:spPr>
            <a:xfrm>
              <a:off x="2163600" y="179532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928880" y="172728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24040" y="414036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078920" y="4113360"/>
              <a:ext cx="137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de.Load(x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305720" y="4554360"/>
              <a:ext cx="470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780200" y="4554360"/>
              <a:ext cx="563400" cy="641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2235240" y="46224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4720" y="43131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492360" y="4737240"/>
              <a:ext cx="381240" cy="279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552760" y="4572000"/>
              <a:ext cx="622080" cy="4064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564280" y="45799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r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035160" y="486396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477960" y="47451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06080" y="413856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ldloc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165560" y="4660920"/>
              <a:ext cx="43200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165560" y="4813200"/>
              <a:ext cx="43200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165560" y="4965840"/>
              <a:ext cx="4320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344120" y="462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149720" y="444672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200" spc="-1" strike="noStrike">
                  <a:solidFill>
                    <a:srgbClr val="000000"/>
                  </a:solidFill>
                  <a:latin typeface="Arial"/>
                </a:rPr>
                <a:t>e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7" name=""/>
          <p:cNvSpPr/>
          <p:nvPr/>
        </p:nvSpPr>
        <p:spPr>
          <a:xfrm>
            <a:off x="6451560" y="1994040"/>
            <a:ext cx="3556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451560" y="1841400"/>
            <a:ext cx="355680" cy="152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451560" y="1689120"/>
            <a:ext cx="355680" cy="152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576120" y="1805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602040" y="166536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743880" y="1930320"/>
            <a:ext cx="31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074000" y="1943280"/>
            <a:ext cx="279360" cy="8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074000" y="2031840"/>
            <a:ext cx="279360" cy="8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074000" y="2120760"/>
            <a:ext cx="279360" cy="8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074000" y="2209680"/>
            <a:ext cx="279360" cy="8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421320" y="146376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7152-2542-48C4-8073-518C7756F21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1143000" y="3817800"/>
            <a:ext cx="6730920" cy="4194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18200" y="1835280"/>
            <a:ext cx="684072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he .NET Common Language Runtime (CL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6.4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Jumps and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7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tro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3062-41C3-4887-9A2A-3B75E3FB8E5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piling Express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58160" y="121932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  for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+ y + 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243080" y="1503360"/>
            <a:ext cx="6836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4" name=""/>
          <p:cNvGrpSpPr/>
          <p:nvPr/>
        </p:nvGrpSpPr>
        <p:grpSpPr>
          <a:xfrm>
            <a:off x="759600" y="2817720"/>
            <a:ext cx="7701840" cy="3929400"/>
            <a:chOff x="759600" y="2817720"/>
            <a:chExt cx="7701840" cy="3929400"/>
          </a:xfrm>
        </p:grpSpPr>
        <p:sp>
          <p:nvSpPr>
            <p:cNvPr id="1305" name=""/>
            <p:cNvSpPr/>
            <p:nvPr/>
          </p:nvSpPr>
          <p:spPr>
            <a:xfrm>
              <a:off x="759600" y="2817720"/>
              <a:ext cx="24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scription by an AT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925560" y="3243240"/>
              <a:ext cx="7535880" cy="3503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Exp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tem x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tem y; OpCode op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-" Term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&gt;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x.type != Tab.intType) Error("operand must be of type int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x.kind == Item.Kinds.Const) x.val = -x.val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{ Code.Load(x); Code.il.Emit(Code.NEG); }</a:t>
              </a:r>
              <a:br>
                <a:rPr sz="1400"/>
              </a:b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 "+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op = Code.ADD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 "-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op = Code.SUB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Load(x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y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Load(y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x.type != Tab.intType || y.type != Tab.intTyp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rror("operands must be of type int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il.Emit(op); </a:t>
              </a:r>
              <a:br>
                <a:rPr sz="1400"/>
              </a:b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4710240" y="1217520"/>
            <a:ext cx="3735360" cy="1708920"/>
            <a:chOff x="4710240" y="1217520"/>
            <a:chExt cx="3735360" cy="1708920"/>
          </a:xfrm>
        </p:grpSpPr>
        <p:sp>
          <p:nvSpPr>
            <p:cNvPr id="1308" name=""/>
            <p:cNvSpPr/>
            <p:nvPr/>
          </p:nvSpPr>
          <p:spPr>
            <a:xfrm>
              <a:off x="4788000" y="2616120"/>
              <a:ext cx="3657600" cy="26676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788000" y="1943280"/>
              <a:ext cx="3657600" cy="26640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788000" y="1676520"/>
              <a:ext cx="3657600" cy="266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788000" y="2349360"/>
              <a:ext cx="3657600" cy="266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710240" y="1217520"/>
              <a:ext cx="20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ntext cond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743000" y="1662120"/>
              <a:ext cx="145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 = "-" Term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752000" y="1916280"/>
              <a:ext cx="242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erm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must be of typ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741200" y="2335320"/>
              <a:ext cx="219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 = Expr Addop Term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752720" y="2589120"/>
              <a:ext cx="321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erm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must be of typ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EAEA-0E9C-4616-8BA3-F43147D9DE9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piling Term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851040" y="1638360"/>
            <a:ext cx="3797280" cy="3301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851040" y="1320840"/>
            <a:ext cx="37972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816480" y="1319040"/>
            <a:ext cx="23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 = Term Mulop Fact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828360" y="1611360"/>
            <a:ext cx="337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er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must be of typ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836640" y="2417760"/>
            <a:ext cx="6138720" cy="265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y; OpCode op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 "*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op = Code.mul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 "/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op = Code.div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 "%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op = Code.rem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x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x.type != Tab.intType || y.type != Tab.intTyp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("operands must be of type int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il.Emit(op); 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63AF-6698-4E7D-8080-845A71BF27A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/>
          <p:nvPr/>
        </p:nvSpPr>
        <p:spPr>
          <a:xfrm>
            <a:off x="851040" y="1638360"/>
            <a:ext cx="3187440" cy="5461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851040" y="1320840"/>
            <a:ext cx="31874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95680" y="1320840"/>
            <a:ext cx="31878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piling Facto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17200" y="131904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 = "new" id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828720" y="1611360"/>
            <a:ext cx="24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de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must denote a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444560" y="1319040"/>
            <a:ext cx="27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 = "new" ident "[" Expr "]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460400" y="1611360"/>
            <a:ext cx="275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de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must denote a typ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type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must b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495680" y="1625760"/>
            <a:ext cx="3187800" cy="5461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811800" y="2278080"/>
            <a:ext cx="7242840" cy="446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// functions calls see la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new Item(token.val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arCons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new Item(token.val); x.type = Tab.charTyp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(" Exp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&gt; ")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new" 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 sym = Tab.find(token.st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sym.kind != Symbol.Kinds.Type) Error("type expect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uct type = sym.type;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)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 "[" Exp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&gt; "]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x.type != Tab.intType) Error("array size must be of type int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il.Emit(Code.NEWARR, type.sysTyp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 = new Struct(Struct.Kinds.Arr, typ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type.kind == Struct.Kinds.Class) 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il.Emit(Code.NEWOBJ, sym.ctor);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{ Error("class type expected"); type = Tab.noType; }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) 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new Item(Item.Kinds.Stack); x.type = typ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90512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3E8A-4041-4946-8BA5-6498EAB498C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15320" y="1332000"/>
            <a:ext cx="14014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ar.f + 2 * var.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965960" y="547200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68360" y="5567400"/>
            <a:ext cx="550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Local</a:t>
            </a:r>
            <a:r>
              <a:rPr b="0" lang="de-AT" sz="1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956680" y="5472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249000" y="54720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2031840" y="5016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2984400" y="5016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3289320" y="5016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2031480" y="5016600"/>
            <a:ext cx="125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2641680" y="488916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040840" y="4633920"/>
            <a:ext cx="93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esign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483880" y="547200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786280" y="5567400"/>
            <a:ext cx="550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Local</a:t>
            </a:r>
            <a:r>
              <a:rPr b="0" lang="de-AT" sz="1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474600" y="5472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766560" y="5472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5549760" y="5016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6502320" y="5016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6807240" y="5016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>
            <a:off x="5549400" y="5016600"/>
            <a:ext cx="125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6159600" y="488916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558760" y="4633920"/>
            <a:ext cx="93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esign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510960" y="4741920"/>
            <a:ext cx="5097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Field</a:t>
            </a:r>
            <a:r>
              <a:rPr b="0" lang="de-AT" sz="1400" spc="-1" strike="noStrike" baseline="-25000">
                <a:solidFill>
                  <a:srgbClr val="ff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6159600" y="447012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877000" y="4227480"/>
            <a:ext cx="54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472800" y="4322880"/>
            <a:ext cx="5097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Field</a:t>
            </a:r>
            <a:r>
              <a:rPr b="0" lang="de-AT" sz="1400" spc="-1" strike="noStrike" baseline="-25000">
                <a:solidFill>
                  <a:srgbClr val="ff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480920" y="4633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4533840" y="447012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251240" y="4227480"/>
            <a:ext cx="54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846680" y="4322880"/>
            <a:ext cx="5904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Const</a:t>
            </a:r>
            <a:r>
              <a:rPr b="0" lang="de-AT" sz="1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497200" y="422748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4533840" y="355608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6159600" y="355608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5524560" y="3441600"/>
            <a:ext cx="0" cy="74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4533840" y="355608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242680" y="3160800"/>
            <a:ext cx="43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757840" y="3255840"/>
            <a:ext cx="51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372760" y="3160800"/>
            <a:ext cx="43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308320" y="3897360"/>
            <a:ext cx="54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991960" y="4741920"/>
            <a:ext cx="4806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Field</a:t>
            </a:r>
            <a:r>
              <a:rPr b="0" lang="de-AT" sz="1400" spc="-1" strike="noStrike" baseline="-25000">
                <a:solidFill>
                  <a:srgbClr val="ff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852280" y="3281400"/>
            <a:ext cx="4806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Field</a:t>
            </a:r>
            <a:r>
              <a:rPr b="0" lang="de-AT" sz="1400" spc="-1" strike="noStrike" baseline="-25000">
                <a:solidFill>
                  <a:srgbClr val="ff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903040" y="4017960"/>
            <a:ext cx="4806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Field</a:t>
            </a:r>
            <a:r>
              <a:rPr b="0" lang="de-AT" sz="1400" spc="-1" strike="noStrike" baseline="-25000">
                <a:solidFill>
                  <a:srgbClr val="ff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998520" y="316080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2641680" y="4114800"/>
            <a:ext cx="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2629080" y="3403440"/>
            <a:ext cx="0" cy="50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5524560" y="26157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2616120" y="26157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V="1">
            <a:off x="4038480" y="2463840"/>
            <a:ext cx="0" cy="69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2615760" y="2603520"/>
            <a:ext cx="290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832920" y="21826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297320" y="2278080"/>
            <a:ext cx="51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734760" y="2881440"/>
            <a:ext cx="2095560" cy="2527560"/>
            <a:chOff x="734760" y="2881440"/>
            <a:chExt cx="2095560" cy="2527560"/>
          </a:xfrm>
        </p:grpSpPr>
        <p:sp>
          <p:nvSpPr>
            <p:cNvPr id="1385" name=""/>
            <p:cNvSpPr/>
            <p:nvPr/>
          </p:nvSpPr>
          <p:spPr>
            <a:xfrm>
              <a:off x="2080800" y="5103720"/>
              <a:ext cx="227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315880" y="517356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34760" y="2881440"/>
              <a:ext cx="227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024920" y="2919240"/>
              <a:ext cx="51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dloc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735120" y="2855880"/>
            <a:ext cx="2755800" cy="584640"/>
            <a:chOff x="735120" y="2855880"/>
            <a:chExt cx="2755800" cy="584640"/>
          </a:xfrm>
        </p:grpSpPr>
        <p:sp>
          <p:nvSpPr>
            <p:cNvPr id="1390" name=""/>
            <p:cNvSpPr/>
            <p:nvPr/>
          </p:nvSpPr>
          <p:spPr>
            <a:xfrm>
              <a:off x="2741760" y="285588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976480" y="292572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35120" y="313524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034640" y="3173400"/>
              <a:ext cx="6832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dfld T</a:t>
              </a:r>
              <a:r>
                <a:rPr b="0" lang="de-AT" sz="1400" spc="-1" strike="noStrike" baseline="-25000">
                  <a:solidFill>
                    <a:srgbClr val="000000"/>
                  </a:solidFill>
                  <a:latin typeface="Arial"/>
                </a:rPr>
                <a:t>fld_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732600" y="3389400"/>
            <a:ext cx="4548960" cy="800640"/>
            <a:chOff x="732600" y="3389400"/>
            <a:chExt cx="4548960" cy="800640"/>
          </a:xfrm>
        </p:grpSpPr>
        <p:sp>
          <p:nvSpPr>
            <p:cNvPr id="1395" name=""/>
            <p:cNvSpPr/>
            <p:nvPr/>
          </p:nvSpPr>
          <p:spPr>
            <a:xfrm>
              <a:off x="732600" y="3389400"/>
              <a:ext cx="232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529880" y="3884760"/>
              <a:ext cx="232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767120" y="395460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024200" y="3427560"/>
              <a:ext cx="56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dc.i4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733320" y="3643200"/>
            <a:ext cx="5614920" cy="1765800"/>
            <a:chOff x="733320" y="3643200"/>
            <a:chExt cx="5614920" cy="1765800"/>
          </a:xfrm>
        </p:grpSpPr>
        <p:sp>
          <p:nvSpPr>
            <p:cNvPr id="1400" name=""/>
            <p:cNvSpPr/>
            <p:nvPr/>
          </p:nvSpPr>
          <p:spPr>
            <a:xfrm>
              <a:off x="733320" y="3643200"/>
              <a:ext cx="23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597280" y="5103720"/>
              <a:ext cx="23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833800" y="517356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024920" y="3668760"/>
              <a:ext cx="51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dloc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736200" y="3884760"/>
            <a:ext cx="6183720" cy="317880"/>
            <a:chOff x="736200" y="3884760"/>
            <a:chExt cx="6183720" cy="317880"/>
          </a:xfrm>
        </p:grpSpPr>
        <p:sp>
          <p:nvSpPr>
            <p:cNvPr id="1405" name=""/>
            <p:cNvSpPr/>
            <p:nvPr/>
          </p:nvSpPr>
          <p:spPr>
            <a:xfrm>
              <a:off x="6171840" y="3884760"/>
              <a:ext cx="224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405480" y="395460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36200" y="3897360"/>
              <a:ext cx="224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036080" y="3922560"/>
              <a:ext cx="712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dfld T</a:t>
              </a:r>
              <a:r>
                <a:rPr b="0" lang="de-AT" sz="1400" spc="-1" strike="noStrike" baseline="-25000">
                  <a:solidFill>
                    <a:srgbClr val="000000"/>
                  </a:solidFill>
                  <a:latin typeface="Arial"/>
                </a:rPr>
                <a:t>fld_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734040" y="3605040"/>
            <a:ext cx="6185880" cy="851400"/>
            <a:chOff x="734040" y="3605040"/>
            <a:chExt cx="6185880" cy="851400"/>
          </a:xfrm>
        </p:grpSpPr>
        <p:sp>
          <p:nvSpPr>
            <p:cNvPr id="1410" name=""/>
            <p:cNvSpPr/>
            <p:nvPr/>
          </p:nvSpPr>
          <p:spPr>
            <a:xfrm>
              <a:off x="6169680" y="3605040"/>
              <a:ext cx="22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405480" y="367524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34040" y="4151160"/>
              <a:ext cx="22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026360" y="4189320"/>
              <a:ext cx="28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mu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736200" y="2665440"/>
            <a:ext cx="5612040" cy="2045160"/>
            <a:chOff x="736200" y="2665440"/>
            <a:chExt cx="5612040" cy="2045160"/>
          </a:xfrm>
        </p:grpSpPr>
        <p:sp>
          <p:nvSpPr>
            <p:cNvPr id="1415" name=""/>
            <p:cNvSpPr/>
            <p:nvPr/>
          </p:nvSpPr>
          <p:spPr>
            <a:xfrm>
              <a:off x="5600160" y="2665440"/>
              <a:ext cx="224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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33800" y="2735280"/>
              <a:ext cx="51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36200" y="4405320"/>
              <a:ext cx="224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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025640" y="4443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5956200" y="1359000"/>
            <a:ext cx="330480" cy="16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017760" y="134136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910120" y="114444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956200" y="1523880"/>
            <a:ext cx="330480" cy="1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578640" y="1422360"/>
            <a:ext cx="330120" cy="1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578640" y="1587600"/>
            <a:ext cx="330120" cy="16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248520" y="1447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722640" y="15732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931800" y="1417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6931800" y="1595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578640" y="1752480"/>
            <a:ext cx="330120" cy="1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693840" y="1719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931800" y="1760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6230-941D-4604-89E2-5C04887B02E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143000" y="424980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18200" y="1835280"/>
            <a:ext cx="684072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he .NET Common Language Runtime (CL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6.5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Jumps and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7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tro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5A10-2407-479D-9DFE-53DF149E29E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de Patterns for Assignmen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68880" y="1447920"/>
            <a:ext cx="68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5 cases depending on the kind of the designator on the left-hand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247840" y="3138480"/>
            <a:ext cx="1521000" cy="102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247840" y="2693880"/>
            <a:ext cx="152244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228760" y="2730600"/>
            <a:ext cx="14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ocalVar = exp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229480" y="3187800"/>
            <a:ext cx="134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load 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loc localV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822840" y="3138480"/>
            <a:ext cx="1641240" cy="102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822840" y="2693880"/>
            <a:ext cx="16398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803760" y="2730600"/>
            <a:ext cx="15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lobalVar = exp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814560" y="3187800"/>
            <a:ext cx="1317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load 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sfld T</a:t>
            </a:r>
            <a:r>
              <a:rPr b="1" lang="de-AT" sz="1400" spc="-1" strike="noStrike" baseline="-25000">
                <a:solidFill>
                  <a:srgbClr val="000000"/>
                </a:solidFill>
                <a:latin typeface="Arial"/>
              </a:rPr>
              <a:t>globalV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5" name=""/>
          <p:cNvGrpSpPr/>
          <p:nvPr/>
        </p:nvGrpSpPr>
        <p:grpSpPr>
          <a:xfrm>
            <a:off x="5500080" y="2039760"/>
            <a:ext cx="2266920" cy="2114640"/>
            <a:chOff x="5500080" y="2039760"/>
            <a:chExt cx="2266920" cy="2114640"/>
          </a:xfrm>
        </p:grpSpPr>
        <p:sp>
          <p:nvSpPr>
            <p:cNvPr id="1446" name=""/>
            <p:cNvSpPr/>
            <p:nvPr/>
          </p:nvSpPr>
          <p:spPr>
            <a:xfrm>
              <a:off x="5521320" y="3138120"/>
              <a:ext cx="1401840" cy="1016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521320" y="2693880"/>
              <a:ext cx="141120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502240" y="273024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obj.f = expr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500080" y="3187440"/>
              <a:ext cx="1317600" cy="7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ldloc ob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load exp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tfld T</a:t>
              </a:r>
              <a:r>
                <a:rPr b="1" lang="de-AT" sz="14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509080" y="2039760"/>
              <a:ext cx="225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lue instructions 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enerated by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Designato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768240" y="3135240"/>
            <a:ext cx="1413000" cy="102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68240" y="2690640"/>
            <a:ext cx="14130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49880" y="27273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rg = exp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47000" y="3184560"/>
            <a:ext cx="131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load 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arg a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5" name=""/>
          <p:cNvGrpSpPr/>
          <p:nvPr/>
        </p:nvGrpSpPr>
        <p:grpSpPr>
          <a:xfrm>
            <a:off x="6913440" y="2693880"/>
            <a:ext cx="1674000" cy="3101400"/>
            <a:chOff x="6913440" y="2693880"/>
            <a:chExt cx="1674000" cy="3101400"/>
          </a:xfrm>
        </p:grpSpPr>
        <p:sp>
          <p:nvSpPr>
            <p:cNvPr id="1456" name=""/>
            <p:cNvSpPr/>
            <p:nvPr/>
          </p:nvSpPr>
          <p:spPr>
            <a:xfrm>
              <a:off x="6991200" y="3138120"/>
              <a:ext cx="1371600" cy="1414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991200" y="2693880"/>
              <a:ext cx="138276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972480" y="2730240"/>
              <a:ext cx="102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[i] = expr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969960" y="3187440"/>
              <a:ext cx="13176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25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ldloc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25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ldloc 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25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load exp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25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telem.i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25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25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re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913440" y="4749480"/>
              <a:ext cx="1439640" cy="10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epending 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element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char, int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bject referen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991640" y="3920760"/>
              <a:ext cx="88560" cy="585720"/>
            </a:xfrm>
            <a:custGeom>
              <a:avLst/>
              <a:gdLst>
                <a:gd name="textAreaLeft" fmla="*/ 0 w 88560"/>
                <a:gd name="textAreaRight" fmla="*/ 32040 w 88560"/>
                <a:gd name="textAreaTop" fmla="*/ 15120 h 585720"/>
                <a:gd name="textAreaBottom" fmla="*/ 570600 h 5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62" name=""/>
            <p:cNvCxnSpPr>
              <a:stCxn id="1461" idx="1"/>
              <a:endCxn id="1460" idx="3"/>
            </p:cNvCxnSpPr>
            <p:nvPr/>
          </p:nvCxnSpPr>
          <p:spPr>
            <a:xfrm>
              <a:off x="8080200" y="4214160"/>
              <a:ext cx="278280" cy="816840"/>
            </a:xfrm>
            <a:prstGeom prst="bentConnector3">
              <a:avLst>
                <a:gd name="adj1" fmla="val 182512"/>
              </a:avLst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7F9D-522C-4C55-8728-ECD1D503AA6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piling Assignmen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09560" y="1130400"/>
            <a:ext cx="19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ntext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041480" y="1587600"/>
            <a:ext cx="69595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990000" y="1585800"/>
            <a:ext cx="30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 = Designator "=" Expr ";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012320" y="1878120"/>
            <a:ext cx="670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esignat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must denote a variable, an array element or an object fiel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type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must be </a:t>
            </a: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assignment compatibl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with the type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esignat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041480" y="1892160"/>
            <a:ext cx="6959520" cy="5461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08840" y="260352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scription by an AT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052640" y="3046320"/>
            <a:ext cx="6941880" cy="179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905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ssign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, y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905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his call may already generate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905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=" Exp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905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y.type.AssignableTo(x.type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905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Assign(x, y);  // x: Arg | Local | Static | Field | E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905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Error("incompatible types in assignment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905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905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;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1" name=""/>
          <p:cNvGrpSpPr/>
          <p:nvPr/>
        </p:nvGrpSpPr>
        <p:grpSpPr>
          <a:xfrm>
            <a:off x="709560" y="5181480"/>
            <a:ext cx="4708080" cy="1370880"/>
            <a:chOff x="709560" y="5181480"/>
            <a:chExt cx="4708080" cy="1370880"/>
          </a:xfrm>
        </p:grpSpPr>
        <p:sp>
          <p:nvSpPr>
            <p:cNvPr id="1472" name=""/>
            <p:cNvSpPr/>
            <p:nvPr/>
          </p:nvSpPr>
          <p:spPr>
            <a:xfrm>
              <a:off x="709560" y="5181480"/>
              <a:ext cx="26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Assignment compati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987840" y="5484960"/>
              <a:ext cx="4429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ssignment compatibl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with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have the same types (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x.typ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=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y.typ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, 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re arrays with the same element types, 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has a reference type (class or array) an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05F-1E45-4C10-8EF7-E6D5608A3B1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"/>
          <p:cNvSpPr/>
          <p:nvPr/>
        </p:nvSpPr>
        <p:spPr>
          <a:xfrm>
            <a:off x="1143000" y="469440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18200" y="1835280"/>
            <a:ext cx="684072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he .NET Common Language Runtime (CL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6.6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Jumps and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7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tro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2A74-F6E6-4C46-99CC-5218904EADA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a Stack Machine Work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0000" y="1397160"/>
            <a:ext cx="23781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75"/>
              </a:spcAft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tement  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 = i + j * 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18680" y="1751040"/>
            <a:ext cx="32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ssume the following values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22160" y="2728800"/>
            <a:ext cx="5946120" cy="1353600"/>
            <a:chOff x="722160" y="2728800"/>
            <a:chExt cx="5946120" cy="1353600"/>
          </a:xfrm>
        </p:grpSpPr>
        <p:sp>
          <p:nvSpPr>
            <p:cNvPr id="126" name=""/>
            <p:cNvSpPr/>
            <p:nvPr/>
          </p:nvSpPr>
          <p:spPr>
            <a:xfrm>
              <a:off x="2298600" y="3797280"/>
              <a:ext cx="27936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2160" y="272880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675"/>
                </a:spcAft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6320" y="3300480"/>
              <a:ext cx="114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str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21560" y="33004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76040" y="3770280"/>
              <a:ext cx="69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dloc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39240" y="3745080"/>
              <a:ext cx="302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oad variable from address 0 (i.e.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72400" y="3808440"/>
              <a:ext cx="13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077120" y="4976640"/>
            <a:ext cx="5632200" cy="337320"/>
            <a:chOff x="1077120" y="4976640"/>
            <a:chExt cx="5632200" cy="337320"/>
          </a:xfrm>
        </p:grpSpPr>
        <p:sp>
          <p:nvSpPr>
            <p:cNvPr id="134" name=""/>
            <p:cNvSpPr/>
            <p:nvPr/>
          </p:nvSpPr>
          <p:spPr>
            <a:xfrm>
              <a:off x="2298600" y="5029200"/>
              <a:ext cx="27936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77120" y="500220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36000" y="4976640"/>
              <a:ext cx="307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dd the two topmost stack ele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33880" y="5040360"/>
              <a:ext cx="23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076040" y="4049640"/>
            <a:ext cx="5592240" cy="337320"/>
            <a:chOff x="1076040" y="4049640"/>
            <a:chExt cx="5592240" cy="337320"/>
          </a:xfrm>
        </p:grpSpPr>
        <p:sp>
          <p:nvSpPr>
            <p:cNvPr id="139" name=""/>
            <p:cNvSpPr/>
            <p:nvPr/>
          </p:nvSpPr>
          <p:spPr>
            <a:xfrm>
              <a:off x="2298600" y="4102200"/>
              <a:ext cx="27936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76040" y="407520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ldloc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39240" y="4049640"/>
              <a:ext cx="302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oad variable from address 1 (i.e.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72400" y="4113360"/>
              <a:ext cx="13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77960" y="4102200"/>
              <a:ext cx="27972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51760" y="4113360"/>
              <a:ext cx="13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075680" y="4367160"/>
            <a:ext cx="3968280" cy="337320"/>
            <a:chOff x="1075680" y="4367160"/>
            <a:chExt cx="3968280" cy="337320"/>
          </a:xfrm>
        </p:grpSpPr>
        <p:sp>
          <p:nvSpPr>
            <p:cNvPr id="146" name=""/>
            <p:cNvSpPr/>
            <p:nvPr/>
          </p:nvSpPr>
          <p:spPr>
            <a:xfrm>
              <a:off x="2298600" y="4419720"/>
              <a:ext cx="27936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75680" y="439272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dc.i4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31680" y="4367160"/>
              <a:ext cx="141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oad constant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72400" y="4430880"/>
              <a:ext cx="13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77960" y="4419720"/>
              <a:ext cx="27972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51760" y="4430880"/>
              <a:ext cx="13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57680" y="4419720"/>
              <a:ext cx="27936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31120" y="4430880"/>
              <a:ext cx="13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077840" y="4672080"/>
            <a:ext cx="6028200" cy="337320"/>
            <a:chOff x="1077840" y="4672080"/>
            <a:chExt cx="6028200" cy="337320"/>
          </a:xfrm>
        </p:grpSpPr>
        <p:sp>
          <p:nvSpPr>
            <p:cNvPr id="155" name=""/>
            <p:cNvSpPr/>
            <p:nvPr/>
          </p:nvSpPr>
          <p:spPr>
            <a:xfrm>
              <a:off x="2298600" y="4724280"/>
              <a:ext cx="27936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7840" y="469728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mu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38160" y="4672080"/>
              <a:ext cx="346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ultiply the two topmost stack ele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72400" y="4735440"/>
              <a:ext cx="13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77960" y="4724280"/>
              <a:ext cx="27972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13240" y="4735440"/>
              <a:ext cx="23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872640" y="5281560"/>
            <a:ext cx="6526440" cy="858240"/>
            <a:chOff x="872640" y="5281560"/>
            <a:chExt cx="6526440" cy="858240"/>
          </a:xfrm>
        </p:grpSpPr>
        <p:sp>
          <p:nvSpPr>
            <p:cNvPr id="162" name=""/>
            <p:cNvSpPr/>
            <p:nvPr/>
          </p:nvSpPr>
          <p:spPr>
            <a:xfrm>
              <a:off x="1075320" y="530712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loc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38520" y="5281560"/>
              <a:ext cx="376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ore the topmost stack element to address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72640" y="5802480"/>
              <a:ext cx="507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 the end of every statement the expression stack is empty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362640" y="2286000"/>
            <a:ext cx="53352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62640" y="2489040"/>
            <a:ext cx="533520" cy="20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63520" y="2306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63520" y="2509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57720" y="250992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57720" y="230652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07840" y="2306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07840" y="2509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98200" y="199404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o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FD53-C3BB-41CA-9C74-DFAD457A56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nditional and Unconditional Jump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97680" y="132084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Unconditional ju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230480" y="1827360"/>
            <a:ext cx="18000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 off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97680" y="2565360"/>
            <a:ext cx="20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nditional ju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222200" y="3071880"/>
            <a:ext cx="172332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load operand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load operand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eq off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224160" y="350352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operand1 == operand2) br off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3" name=""/>
          <p:cNvGrpSpPr/>
          <p:nvPr/>
        </p:nvGrpSpPr>
        <p:grpSpPr>
          <a:xfrm>
            <a:off x="1177560" y="4506840"/>
            <a:ext cx="2835720" cy="1562760"/>
            <a:chOff x="1177560" y="4506840"/>
            <a:chExt cx="2835720" cy="1562760"/>
          </a:xfrm>
        </p:grpSpPr>
        <p:sp>
          <p:nvSpPr>
            <p:cNvPr id="1484" name=""/>
            <p:cNvSpPr/>
            <p:nvPr/>
          </p:nvSpPr>
          <p:spPr>
            <a:xfrm>
              <a:off x="1177560" y="4506840"/>
              <a:ext cx="726480" cy="15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g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ne.u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837800" y="4506840"/>
              <a:ext cx="21754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jump on 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jump on greater or 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jump on greater th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jump on less or 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jump on less th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jump on not 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FB01-A819-4678-8F88-22A4AF26195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Forward and Backward Jump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10280" y="134604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Backward ju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270520" y="2500200"/>
            <a:ext cx="644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jump di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4 bytes long (CIL also has short form with 1 byte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lative to the beginning of the next instruction (= end of jump instru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079000" y="1738440"/>
            <a:ext cx="604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arget address (label) is already kn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because the instruction at this position has already been genera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149480" y="3397320"/>
            <a:ext cx="49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143000" y="190512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143000" y="212076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143000" y="233676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255276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143000" y="276876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143000" y="298440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143000" y="320040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242000" y="233208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206360" y="2549520"/>
            <a:ext cx="355680" cy="8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305720" y="288432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739880" y="339084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2057400" y="1905120"/>
            <a:ext cx="0" cy="148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175212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149480" y="3625920"/>
            <a:ext cx="49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220400" y="3395520"/>
            <a:ext cx="33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s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6" name=""/>
          <p:cNvGrpSpPr/>
          <p:nvPr/>
        </p:nvGrpSpPr>
        <p:grpSpPr>
          <a:xfrm>
            <a:off x="709920" y="3683160"/>
            <a:ext cx="3706920" cy="2279520"/>
            <a:chOff x="709920" y="3683160"/>
            <a:chExt cx="3706920" cy="2279520"/>
          </a:xfrm>
        </p:grpSpPr>
        <p:sp>
          <p:nvSpPr>
            <p:cNvPr id="1507" name=""/>
            <p:cNvSpPr/>
            <p:nvPr/>
          </p:nvSpPr>
          <p:spPr>
            <a:xfrm>
              <a:off x="709920" y="3683160"/>
              <a:ext cx="171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Forward jum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819800" y="4341960"/>
              <a:ext cx="2597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arget address still unknow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eave it emp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member "fixup address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143000" y="424188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143000" y="445788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143000" y="467352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143000" y="488952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143000" y="510552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143000" y="532116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143000" y="553716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242000" y="42400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206360" y="4457880"/>
              <a:ext cx="355680" cy="86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343880" y="4789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149480" y="5753160"/>
              <a:ext cx="49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149480" y="5962680"/>
              <a:ext cx="49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4969440" y="4240080"/>
            <a:ext cx="3556440" cy="2387520"/>
            <a:chOff x="4969440" y="4240080"/>
            <a:chExt cx="3556440" cy="2387520"/>
          </a:xfrm>
        </p:grpSpPr>
        <p:sp>
          <p:nvSpPr>
            <p:cNvPr id="1522" name=""/>
            <p:cNvSpPr/>
            <p:nvPr/>
          </p:nvSpPr>
          <p:spPr>
            <a:xfrm>
              <a:off x="4969440" y="6046920"/>
              <a:ext cx="3556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tch it when the target address becom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known (fixu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499000" y="424188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499000" y="445788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499000" y="467352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499000" y="488952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499000" y="510552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499000" y="532116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499000" y="553716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598360" y="42400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562720" y="4457880"/>
              <a:ext cx="355320" cy="86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700240" y="4780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070680" y="531828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V="1">
              <a:off x="6388200" y="5325840"/>
              <a:ext cx="0" cy="40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6082920" y="57405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597280" y="555480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s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597280" y="575136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s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500800" y="576108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500800" y="597060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0CD8-4095-406A-97BD-C082F9D4456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truct System.Reflection.Emit.Label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4000" y="1244520"/>
            <a:ext cx="32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Representation of Jump Lab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85880" y="1687680"/>
            <a:ext cx="720252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978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uc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...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3" name=""/>
          <p:cNvGrpSpPr/>
          <p:nvPr/>
        </p:nvGrpSpPr>
        <p:grpSpPr>
          <a:xfrm>
            <a:off x="684720" y="4162320"/>
            <a:ext cx="7300440" cy="1529640"/>
            <a:chOff x="684720" y="4162320"/>
            <a:chExt cx="7300440" cy="1529640"/>
          </a:xfrm>
        </p:grpSpPr>
        <p:sp>
          <p:nvSpPr>
            <p:cNvPr id="1544" name=""/>
            <p:cNvSpPr/>
            <p:nvPr/>
          </p:nvSpPr>
          <p:spPr>
            <a:xfrm>
              <a:off x="684720" y="416232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U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60320" y="4532400"/>
              <a:ext cx="722484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abel label = Code.il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DefineLabe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il.Emit(Code.BR,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labe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jump to the yet undefined label (forward jum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il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MarkLabe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labe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now the branch to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leads h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733320" y="2054160"/>
            <a:ext cx="7272360" cy="1504080"/>
            <a:chOff x="733320" y="2054160"/>
            <a:chExt cx="7272360" cy="1504080"/>
          </a:xfrm>
        </p:grpSpPr>
        <p:sp>
          <p:nvSpPr>
            <p:cNvPr id="1547" name=""/>
            <p:cNvSpPr/>
            <p:nvPr/>
          </p:nvSpPr>
          <p:spPr>
            <a:xfrm>
              <a:off x="733320" y="2054160"/>
              <a:ext cx="318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abels are managed by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LGenerato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82640" y="2398680"/>
              <a:ext cx="7223040" cy="115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lass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LGenerat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abel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DefineLabe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)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create a yet undefined jump lab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MarkLabe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Label)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define the label at the current position in the IL 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806-1171-4F20-A84E-41499FEA236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ndi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058760" y="1662120"/>
            <a:ext cx="11437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 a &gt; b )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rot="5400000">
            <a:off x="1555560" y="1822320"/>
            <a:ext cx="88920" cy="520560"/>
          </a:xfrm>
          <a:custGeom>
            <a:avLst/>
            <a:gdLst>
              <a:gd name="textAreaLeft" fmla="*/ 0 w 88920"/>
              <a:gd name="textAreaRight" fmla="*/ 32040 w 88920"/>
              <a:gd name="textAreaTop" fmla="*/ 13320 h 520560"/>
              <a:gd name="textAreaBottom" fmla="*/ 50724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153800" y="2093760"/>
            <a:ext cx="99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111840" y="1395360"/>
            <a:ext cx="117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de 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362400" y="1674720"/>
            <a:ext cx="6667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oad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oad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e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970560" y="2500200"/>
            <a:ext cx="454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returns the compare </a:t>
            </a: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operat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comparison is then done in the jump i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6" name=""/>
          <p:cNvGrpSpPr/>
          <p:nvPr/>
        </p:nvGrpSpPr>
        <p:grpSpPr>
          <a:xfrm>
            <a:off x="672120" y="5354640"/>
            <a:ext cx="6684480" cy="965880"/>
            <a:chOff x="672120" y="5354640"/>
            <a:chExt cx="6684480" cy="965880"/>
          </a:xfrm>
        </p:grpSpPr>
        <p:sp>
          <p:nvSpPr>
            <p:cNvPr id="1557" name=""/>
            <p:cNvSpPr/>
            <p:nvPr/>
          </p:nvSpPr>
          <p:spPr>
            <a:xfrm>
              <a:off x="672120" y="5354640"/>
              <a:ext cx="296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rue-jumps and false-jum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004400" y="5708520"/>
              <a:ext cx="106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true-ju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302200" y="5708520"/>
              <a:ext cx="244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jump if the condition is tr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773680" y="5716440"/>
              <a:ext cx="158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&gt; 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g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004400" y="5975280"/>
              <a:ext cx="110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false-ju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302920" y="5975280"/>
              <a:ext cx="25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jump if the condition is fa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774400" y="5983200"/>
              <a:ext cx="157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&gt; 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e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4" name=""/>
          <p:cNvSpPr/>
          <p:nvPr/>
        </p:nvSpPr>
        <p:spPr>
          <a:xfrm>
            <a:off x="672120" y="11685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671400" y="3381480"/>
            <a:ext cx="8030520" cy="1965240"/>
            <a:chOff x="671400" y="3381480"/>
            <a:chExt cx="8030520" cy="1965240"/>
          </a:xfrm>
        </p:grpSpPr>
        <p:sp>
          <p:nvSpPr>
            <p:cNvPr id="1566" name=""/>
            <p:cNvSpPr/>
            <p:nvPr/>
          </p:nvSpPr>
          <p:spPr>
            <a:xfrm>
              <a:off x="1401840" y="4255920"/>
              <a:ext cx="4322520" cy="27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430280" y="4784760"/>
              <a:ext cx="1611360" cy="487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71400" y="3381480"/>
              <a:ext cx="120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nd 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833040" y="3697200"/>
              <a:ext cx="7569000" cy="15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ndition returns an item of a new kind </a:t>
              </a:r>
              <a:r>
                <a:rPr b="0" i="1" lang="de-AT" sz="1600" spc="-1" strike="noStrike">
                  <a:solidFill>
                    <a:srgbClr val="3333cc"/>
                  </a:solidFill>
                  <a:latin typeface="Times New Roman"/>
                </a:rPr>
                <a:t>Item.Kinds.Con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with the following content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3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ken code of compare operator: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int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relop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  // Token.EG, .GE, .GT, .LE, .LT, .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jump labels for jumps that lead out of Condition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Label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tLabel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 for true-jumps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Label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Label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 for false-jum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794200" y="4648320"/>
              <a:ext cx="88920" cy="69840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18000 h 698400"/>
                <a:gd name="textAreaBottom" fmla="*/ 68040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948640" y="4672080"/>
              <a:ext cx="275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ecessary for conditions, which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ntain&amp;&amp; and || oper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7338-5D13-49BD-A0EE-E3F64554190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nd Item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042560" y="1268280"/>
            <a:ext cx="6848280" cy="2549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num Kinds {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oc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iel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a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le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Meth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Co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89388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Kind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ki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ype of the oper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Const: constant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d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Arg, Local: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relop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// Cond: token code of the 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Label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tLabel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// jump label for true jum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Label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fLabel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// jump label for false jum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y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Field, Meth: symbol tab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4" name=""/>
          <p:cNvGrpSpPr/>
          <p:nvPr/>
        </p:nvGrpSpPr>
        <p:grpSpPr>
          <a:xfrm>
            <a:off x="738360" y="4178160"/>
            <a:ext cx="3250080" cy="2006640"/>
            <a:chOff x="738360" y="4178160"/>
            <a:chExt cx="3250080" cy="2006640"/>
          </a:xfrm>
        </p:grpSpPr>
        <p:sp>
          <p:nvSpPr>
            <p:cNvPr id="1575" name=""/>
            <p:cNvSpPr/>
            <p:nvPr/>
          </p:nvSpPr>
          <p:spPr>
            <a:xfrm>
              <a:off x="738360" y="4178160"/>
              <a:ext cx="32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New constructo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for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on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te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052280" y="4599000"/>
              <a:ext cx="2936160" cy="1585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tem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int relop, Struct type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his.kind = Kinds.Cond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his.type = type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his.relop = relop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Label = Code.il.DefineLabel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Label = Code.il.DefineLabel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87B6-81D1-4DBE-A5BC-183906DE400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Generating Conditional Jump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21080" y="1282680"/>
            <a:ext cx="28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With methods of class </a:t>
            </a:r>
            <a:r>
              <a:rPr b="1" i="1" lang="de-AT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722520" y="5092560"/>
            <a:ext cx="4704840" cy="832680"/>
            <a:chOff x="722520" y="5092560"/>
            <a:chExt cx="4704840" cy="832680"/>
          </a:xfrm>
        </p:grpSpPr>
        <p:sp>
          <p:nvSpPr>
            <p:cNvPr id="1580" name=""/>
            <p:cNvSpPr/>
            <p:nvPr/>
          </p:nvSpPr>
          <p:spPr>
            <a:xfrm>
              <a:off x="722520" y="50925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U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121400" y="5618160"/>
              <a:ext cx="43059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 "(" Condition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&gt; ")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 Code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FJump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x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2" name=""/>
          <p:cNvSpPr/>
          <p:nvPr/>
        </p:nvSpPr>
        <p:spPr>
          <a:xfrm>
            <a:off x="1033560" y="1930320"/>
            <a:ext cx="5954760" cy="444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038240" y="3381480"/>
            <a:ext cx="5945040" cy="7300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1038240" y="2549520"/>
            <a:ext cx="5942160" cy="7192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58240" y="1660680"/>
            <a:ext cx="6147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d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readonly OpCode[]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rTru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{ BEQ, BGE, BGT, BLE, BLT, BNE 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readonly OpCode[]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rFal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{ BNE, BLT, BLE, BGT, BGE, BEQ 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ernal 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Jump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Item x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l.Emit(brTrue[x.relop - Token.EQ], x.tLabe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ernal 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Jump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Item x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l.Emit(brFalse[x.relop - Token.EQ], x.fLabe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92D9-6B03-4CF1-8F0C-16D4778C9A6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Generating Unconditional Jump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95160" y="1333440"/>
            <a:ext cx="29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With a method of class </a:t>
            </a:r>
            <a:r>
              <a:rPr b="1" i="1" lang="de-AT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155600" y="2298600"/>
            <a:ext cx="3195720" cy="69876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977040" y="1839960"/>
            <a:ext cx="3330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d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ernal 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Jump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Label lab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l.Emit(BR, la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0" name=""/>
          <p:cNvGrpSpPr/>
          <p:nvPr/>
        </p:nvGrpSpPr>
        <p:grpSpPr>
          <a:xfrm>
            <a:off x="697320" y="3784680"/>
            <a:ext cx="3647520" cy="1201680"/>
            <a:chOff x="697320" y="3784680"/>
            <a:chExt cx="3647520" cy="1201680"/>
          </a:xfrm>
        </p:grpSpPr>
        <p:sp>
          <p:nvSpPr>
            <p:cNvPr id="1591" name=""/>
            <p:cNvSpPr/>
            <p:nvPr/>
          </p:nvSpPr>
          <p:spPr>
            <a:xfrm>
              <a:off x="697320" y="378468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U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141560" y="4253040"/>
              <a:ext cx="320328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abel label = Code.il.DefineLabel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Jump(label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4CD-D695-43A8-814A-E91833ABBFA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"/>
          <p:cNvSpPr/>
          <p:nvPr/>
        </p:nvSpPr>
        <p:spPr>
          <a:xfrm>
            <a:off x="1143000" y="513072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18200" y="1835280"/>
            <a:ext cx="684072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he .NET Common Language Runtime (CL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Jumps and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6.7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Contro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696E-9E4A-4912-8B42-CEC96AD3841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/>
          <p:cNvSpPr/>
          <p:nvPr/>
        </p:nvSpPr>
        <p:spPr>
          <a:xfrm>
            <a:off x="2362320" y="1714680"/>
            <a:ext cx="3124080" cy="13716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092240" y="1714680"/>
            <a:ext cx="113040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while Statemen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708480" y="121932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sired code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093680" y="1700280"/>
            <a:ext cx="4038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3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3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Condition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code for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3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Jump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3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code for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3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r 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38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nd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flipH="1">
            <a:off x="2425680" y="27306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2425680" y="18666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425680" y="18669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280040" y="22734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5359320" y="22734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H="1">
            <a:off x="3580920" y="2921040"/>
            <a:ext cx="177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708840" y="3403440"/>
            <a:ext cx="5427000" cy="2505960"/>
            <a:chOff x="708840" y="3403440"/>
            <a:chExt cx="5427000" cy="2505960"/>
          </a:xfrm>
        </p:grpSpPr>
        <p:sp>
          <p:nvSpPr>
            <p:cNvPr id="1608" name=""/>
            <p:cNvSpPr/>
            <p:nvPr/>
          </p:nvSpPr>
          <p:spPr>
            <a:xfrm>
              <a:off x="708840" y="3403440"/>
              <a:ext cx="24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scription by an AT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094040" y="3897360"/>
              <a:ext cx="5041800" cy="2012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While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tem x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while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abel top = Code.il.DefineLabel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p.here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(" Condition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&gt; ")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FJump(x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Jump(top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il.MarkLabel(x.fLabel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0" name=""/>
          <p:cNvGrpSpPr/>
          <p:nvPr/>
        </p:nvGrpSpPr>
        <p:grpSpPr>
          <a:xfrm>
            <a:off x="6404040" y="3403440"/>
            <a:ext cx="1919520" cy="877320"/>
            <a:chOff x="6404040" y="3403440"/>
            <a:chExt cx="1919520" cy="877320"/>
          </a:xfrm>
        </p:grpSpPr>
        <p:sp>
          <p:nvSpPr>
            <p:cNvPr id="1611" name=""/>
            <p:cNvSpPr/>
            <p:nvPr/>
          </p:nvSpPr>
          <p:spPr>
            <a:xfrm>
              <a:off x="6424200" y="340344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404040" y="3973680"/>
              <a:ext cx="19195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 (a &gt; b) a = a - 2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3" name=""/>
          <p:cNvSpPr/>
          <p:nvPr/>
        </p:nvSpPr>
        <p:spPr>
          <a:xfrm>
            <a:off x="6410160" y="4329000"/>
            <a:ext cx="107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4" name=""/>
          <p:cNvGrpSpPr/>
          <p:nvPr/>
        </p:nvGrpSpPr>
        <p:grpSpPr>
          <a:xfrm>
            <a:off x="7429680" y="4303800"/>
            <a:ext cx="1150920" cy="337320"/>
            <a:chOff x="7429680" y="4303800"/>
            <a:chExt cx="1150920" cy="337320"/>
          </a:xfrm>
        </p:grpSpPr>
        <p:sp>
          <p:nvSpPr>
            <p:cNvPr id="1615" name=""/>
            <p:cNvSpPr/>
            <p:nvPr/>
          </p:nvSpPr>
          <p:spPr>
            <a:xfrm flipH="1">
              <a:off x="7429680" y="4483080"/>
              <a:ext cx="6602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139240" y="430380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7" name=""/>
          <p:cNvGrpSpPr/>
          <p:nvPr/>
        </p:nvGrpSpPr>
        <p:grpSpPr>
          <a:xfrm>
            <a:off x="6411600" y="4773600"/>
            <a:ext cx="941760" cy="307080"/>
            <a:chOff x="6411600" y="4773600"/>
            <a:chExt cx="941760" cy="307080"/>
          </a:xfrm>
        </p:grpSpPr>
        <p:sp>
          <p:nvSpPr>
            <p:cNvPr id="1618" name=""/>
            <p:cNvSpPr/>
            <p:nvPr/>
          </p:nvSpPr>
          <p:spPr>
            <a:xfrm>
              <a:off x="6411600" y="4773600"/>
              <a:ext cx="79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12160" y="5016600"/>
              <a:ext cx="24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0" name=""/>
          <p:cNvSpPr/>
          <p:nvPr/>
        </p:nvSpPr>
        <p:spPr>
          <a:xfrm>
            <a:off x="6409800" y="5014800"/>
            <a:ext cx="112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c.i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6210360" y="4482720"/>
            <a:ext cx="1696680" cy="1715400"/>
            <a:chOff x="6210360" y="4482720"/>
            <a:chExt cx="1696680" cy="1715400"/>
          </a:xfrm>
        </p:grpSpPr>
        <p:sp>
          <p:nvSpPr>
            <p:cNvPr id="1622" name=""/>
            <p:cNvSpPr/>
            <p:nvPr/>
          </p:nvSpPr>
          <p:spPr>
            <a:xfrm>
              <a:off x="6408000" y="5891040"/>
              <a:ext cx="149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r -16 (=1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6223320" y="605808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>
              <a:off x="6210360" y="4482720"/>
              <a:ext cx="0" cy="157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10360" y="4483080"/>
              <a:ext cx="25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6423120" y="4773600"/>
            <a:ext cx="2579040" cy="1666080"/>
            <a:chOff x="6423120" y="4773600"/>
            <a:chExt cx="2579040" cy="1666080"/>
          </a:xfrm>
        </p:grpSpPr>
        <p:sp>
          <p:nvSpPr>
            <p:cNvPr id="1627" name=""/>
            <p:cNvSpPr/>
            <p:nvPr/>
          </p:nvSpPr>
          <p:spPr>
            <a:xfrm flipH="1">
              <a:off x="7428960" y="622296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140320" y="6043680"/>
              <a:ext cx="86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x.fLab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423120" y="6132600"/>
              <a:ext cx="71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005960" y="4773600"/>
              <a:ext cx="80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=2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810200" y="492768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988040" y="492768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88CE-D616-4C40-9347-66ADB684C45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"/>
          <p:cNvSpPr/>
          <p:nvPr/>
        </p:nvSpPr>
        <p:spPr>
          <a:xfrm>
            <a:off x="2298600" y="1714680"/>
            <a:ext cx="2222640" cy="1815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092240" y="1714680"/>
            <a:ext cx="1130400" cy="1815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f Statemen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708480" y="121932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sired code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097280" y="1700280"/>
            <a:ext cx="3050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Condition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Jump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nd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924360" y="227340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343400" y="22734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H="1">
            <a:off x="3352680" y="27050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708840" y="3746520"/>
            <a:ext cx="5155560" cy="2931840"/>
            <a:chOff x="708840" y="3746520"/>
            <a:chExt cx="5155560" cy="2931840"/>
          </a:xfrm>
        </p:grpSpPr>
        <p:sp>
          <p:nvSpPr>
            <p:cNvPr id="1642" name=""/>
            <p:cNvSpPr/>
            <p:nvPr/>
          </p:nvSpPr>
          <p:spPr>
            <a:xfrm>
              <a:off x="708840" y="3746520"/>
              <a:ext cx="24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scription by an AT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094040" y="4240080"/>
              <a:ext cx="4770360" cy="243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f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tem x; Label end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(" Condition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&gt; ")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FJump(x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else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nd = Code.il.DefineLabel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Jump(end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il.MarkLabel(x.fLabel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il.MarkLabel(end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il.MarkLabel(x.fLabel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6005880" y="3746520"/>
            <a:ext cx="2701440" cy="877320"/>
            <a:chOff x="6005880" y="3746520"/>
            <a:chExt cx="2701440" cy="877320"/>
          </a:xfrm>
        </p:grpSpPr>
        <p:sp>
          <p:nvSpPr>
            <p:cNvPr id="1645" name=""/>
            <p:cNvSpPr/>
            <p:nvPr/>
          </p:nvSpPr>
          <p:spPr>
            <a:xfrm>
              <a:off x="6031080" y="374652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005880" y="4316760"/>
              <a:ext cx="270144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a &gt; b) max = a; else max = b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4813200" y="1700280"/>
            <a:ext cx="3429000" cy="1830240"/>
            <a:chOff x="4813200" y="1700280"/>
            <a:chExt cx="3429000" cy="1830240"/>
          </a:xfrm>
        </p:grpSpPr>
        <p:sp>
          <p:nvSpPr>
            <p:cNvPr id="1648" name=""/>
            <p:cNvSpPr/>
            <p:nvPr/>
          </p:nvSpPr>
          <p:spPr>
            <a:xfrm>
              <a:off x="6006960" y="1714680"/>
              <a:ext cx="2235240" cy="1803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813200" y="1714680"/>
              <a:ext cx="1130400" cy="1815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818240" y="1700280"/>
              <a:ext cx="305064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445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445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Condition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Conditio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445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Jump el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445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445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br 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445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: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445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445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nd: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645320" y="227340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8064360" y="2273400"/>
              <a:ext cx="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7073640" y="290844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31200" y="2692440"/>
              <a:ext cx="4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950240" y="26924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7074000" y="3352680"/>
              <a:ext cx="87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7" name=""/>
          <p:cNvGrpSpPr/>
          <p:nvPr/>
        </p:nvGrpSpPr>
        <p:grpSpPr>
          <a:xfrm>
            <a:off x="6689160" y="5116680"/>
            <a:ext cx="1840320" cy="1188000"/>
            <a:chOff x="6689160" y="5116680"/>
            <a:chExt cx="1840320" cy="1188000"/>
          </a:xfrm>
        </p:grpSpPr>
        <p:sp>
          <p:nvSpPr>
            <p:cNvPr id="1658" name=""/>
            <p:cNvSpPr/>
            <p:nvPr/>
          </p:nvSpPr>
          <p:spPr>
            <a:xfrm>
              <a:off x="6689160" y="5116680"/>
              <a:ext cx="75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=2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365960" y="5257800"/>
              <a:ext cx="1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31200" y="52578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7022880" y="6172200"/>
              <a:ext cx="50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667640" y="5967360"/>
              <a:ext cx="86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x.fLab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3" name=""/>
          <p:cNvSpPr/>
          <p:nvPr/>
        </p:nvSpPr>
        <p:spPr>
          <a:xfrm>
            <a:off x="6015960" y="5357880"/>
            <a:ext cx="10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015960" y="6018120"/>
            <a:ext cx="10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016680" y="4672080"/>
            <a:ext cx="107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6017760" y="5116680"/>
            <a:ext cx="892800" cy="307080"/>
            <a:chOff x="6017760" y="5116680"/>
            <a:chExt cx="892800" cy="307080"/>
          </a:xfrm>
        </p:grpSpPr>
        <p:sp>
          <p:nvSpPr>
            <p:cNvPr id="1667" name=""/>
            <p:cNvSpPr/>
            <p:nvPr/>
          </p:nvSpPr>
          <p:spPr>
            <a:xfrm>
              <a:off x="6017760" y="5116680"/>
              <a:ext cx="79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737400" y="535932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9" name=""/>
          <p:cNvGrpSpPr/>
          <p:nvPr/>
        </p:nvGrpSpPr>
        <p:grpSpPr>
          <a:xfrm>
            <a:off x="6017760" y="5802480"/>
            <a:ext cx="849600" cy="307080"/>
            <a:chOff x="6017760" y="5802480"/>
            <a:chExt cx="849600" cy="307080"/>
          </a:xfrm>
        </p:grpSpPr>
        <p:sp>
          <p:nvSpPr>
            <p:cNvPr id="1670" name=""/>
            <p:cNvSpPr/>
            <p:nvPr/>
          </p:nvSpPr>
          <p:spPr>
            <a:xfrm>
              <a:off x="6017760" y="5802480"/>
              <a:ext cx="72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705720" y="6045120"/>
              <a:ext cx="16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2" name=""/>
          <p:cNvGrpSpPr/>
          <p:nvPr/>
        </p:nvGrpSpPr>
        <p:grpSpPr>
          <a:xfrm>
            <a:off x="6016680" y="5802480"/>
            <a:ext cx="2275560" cy="967320"/>
            <a:chOff x="6016680" y="5802480"/>
            <a:chExt cx="2275560" cy="967320"/>
          </a:xfrm>
        </p:grpSpPr>
        <p:sp>
          <p:nvSpPr>
            <p:cNvPr id="1673" name=""/>
            <p:cNvSpPr/>
            <p:nvPr/>
          </p:nvSpPr>
          <p:spPr>
            <a:xfrm>
              <a:off x="6647760" y="5802480"/>
              <a:ext cx="75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=2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016680" y="6462720"/>
              <a:ext cx="71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365960" y="59691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670880" y="5969160"/>
              <a:ext cx="0" cy="63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H="1">
              <a:off x="6858000" y="660384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66560" y="6386400"/>
              <a:ext cx="6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nd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0634-7718-4A88-8DF7-080E8DE7150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ata Areas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1080" y="13082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Global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22360" y="2019240"/>
            <a:ext cx="1244520" cy="165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120" y="171288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2520" y="3313080"/>
            <a:ext cx="724428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e mapped to static fields of the program class in the C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lobal variables live during the whole program (= while the program class is load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lobal variables are addressed by medadata token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sfld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fl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loads the value of the field referenced by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de-AT" sz="1600" spc="-1" strike="noStrike" baseline="-25000">
                <a:solidFill>
                  <a:srgbClr val="000000"/>
                </a:solidFill>
                <a:latin typeface="Times New Roman"/>
              </a:rPr>
              <a:t>fl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n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22360" y="2184480"/>
            <a:ext cx="1244520" cy="164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22360" y="2349360"/>
            <a:ext cx="1244520" cy="165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22360" y="2514600"/>
            <a:ext cx="1244520" cy="165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22360" y="2679840"/>
            <a:ext cx="1244520" cy="164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22360" y="2844720"/>
            <a:ext cx="1244520" cy="165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51080" y="5297400"/>
            <a:ext cx="1352520" cy="580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ken type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1 By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12960" y="5297400"/>
            <a:ext cx="288144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dex into metadata table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3 By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86040" y="4940280"/>
            <a:ext cx="606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etadata token are 4 Byte values that reference rows in metadata t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58D2-50A9-4D08-83D1-A63B0D9DDB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Works Also for Nested if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63920" y="1560600"/>
            <a:ext cx="477036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f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; Label end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(" Condition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&gt; ")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FJump(x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else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nd = Code.il.DefineLabel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Jump(e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il.MarkLabel(x.fLabe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il.MarkLabel(end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il.MarkLabel(x.fLabel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7056720" y="392256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stat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056720" y="205596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stat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5918040" y="3922560"/>
            <a:ext cx="4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5918040" y="2055960"/>
            <a:ext cx="4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26160" y="1598760"/>
            <a:ext cx="22593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c1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c1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Jump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5725800" y="2055960"/>
            <a:ext cx="2303640" cy="1411200"/>
            <a:chOff x="5725800" y="2055960"/>
            <a:chExt cx="2303640" cy="1411200"/>
          </a:xfrm>
        </p:grpSpPr>
        <p:sp>
          <p:nvSpPr>
            <p:cNvPr id="1687" name=""/>
            <p:cNvSpPr/>
            <p:nvPr/>
          </p:nvSpPr>
          <p:spPr>
            <a:xfrm>
              <a:off x="5725800" y="2055960"/>
              <a:ext cx="2259360" cy="137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c2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c2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Jump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s1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r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s2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750080" y="2425680"/>
              <a:ext cx="17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927920" y="2425680"/>
              <a:ext cx="0" cy="63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7368840" y="3060720"/>
              <a:ext cx="55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750080" y="2857320"/>
              <a:ext cx="27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8029440" y="28573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7381800" y="3467160"/>
              <a:ext cx="64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4" name=""/>
          <p:cNvGrpSpPr/>
          <p:nvPr/>
        </p:nvGrpSpPr>
        <p:grpSpPr>
          <a:xfrm>
            <a:off x="5725800" y="3922560"/>
            <a:ext cx="2303640" cy="1411560"/>
            <a:chOff x="5725800" y="3922560"/>
            <a:chExt cx="2303640" cy="1411560"/>
          </a:xfrm>
        </p:grpSpPr>
        <p:sp>
          <p:nvSpPr>
            <p:cNvPr id="1695" name=""/>
            <p:cNvSpPr/>
            <p:nvPr/>
          </p:nvSpPr>
          <p:spPr>
            <a:xfrm>
              <a:off x="5725800" y="3922560"/>
              <a:ext cx="2259360" cy="137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c3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c3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Jump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s3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r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s4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750080" y="4292640"/>
              <a:ext cx="17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927920" y="4292640"/>
              <a:ext cx="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>
              <a:off x="7368840" y="4927680"/>
              <a:ext cx="55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750080" y="4724280"/>
              <a:ext cx="27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8029440" y="47242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7381800" y="5334120"/>
              <a:ext cx="64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2" name=""/>
          <p:cNvSpPr/>
          <p:nvPr/>
        </p:nvSpPr>
        <p:spPr>
          <a:xfrm>
            <a:off x="7788240" y="1968480"/>
            <a:ext cx="50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8296200" y="1968480"/>
            <a:ext cx="0" cy="1879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flipH="1">
            <a:off x="7394040" y="3848040"/>
            <a:ext cx="901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7788240" y="367020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8435880" y="3670200"/>
            <a:ext cx="0" cy="1778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 flipH="1">
            <a:off x="7394040" y="5448240"/>
            <a:ext cx="10414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A7CB-EB39-4699-8C34-08E349295D6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break Statemen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708120" y="113040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or jumping out of a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21080" y="1446120"/>
            <a:ext cx="456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fine a label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reakLa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t the end of the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a break occurs in the loop: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Jump(breakLa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709560" y="2158920"/>
            <a:ext cx="5676840" cy="896760"/>
            <a:chOff x="709560" y="2158920"/>
            <a:chExt cx="5676840" cy="896760"/>
          </a:xfrm>
        </p:grpSpPr>
        <p:sp>
          <p:nvSpPr>
            <p:cNvPr id="1712" name=""/>
            <p:cNvSpPr/>
            <p:nvPr/>
          </p:nvSpPr>
          <p:spPr>
            <a:xfrm>
              <a:off x="709560" y="2158920"/>
              <a:ext cx="140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Nested loo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31520" y="2475000"/>
              <a:ext cx="5654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very loop needs its ow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newBreakL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newBreakLa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must be passed to nested statements as an attribu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4" name=""/>
          <p:cNvSpPr/>
          <p:nvPr/>
        </p:nvSpPr>
        <p:spPr>
          <a:xfrm>
            <a:off x="731520" y="6399360"/>
            <a:ext cx="650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Question: What would we have to do in order to use break with a label nam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5" name=""/>
          <p:cNvGrpSpPr/>
          <p:nvPr/>
        </p:nvGrpSpPr>
        <p:grpSpPr>
          <a:xfrm>
            <a:off x="804960" y="3103560"/>
            <a:ext cx="7377480" cy="3309480"/>
            <a:chOff x="804960" y="3103560"/>
            <a:chExt cx="7377480" cy="3309480"/>
          </a:xfrm>
        </p:grpSpPr>
        <p:sp>
          <p:nvSpPr>
            <p:cNvPr id="1716" name=""/>
            <p:cNvSpPr/>
            <p:nvPr/>
          </p:nvSpPr>
          <p:spPr>
            <a:xfrm>
              <a:off x="804960" y="3103560"/>
              <a:ext cx="7364880" cy="3309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476440"/>
                  <a:tab algn="l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abel breakLab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476440"/>
                  <a:tab algn="l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while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abel newBreakLab = Code.il.DefineLabel(); ...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476440"/>
                  <a:tab algn="l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(" Condition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&gt; ")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...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476440"/>
                  <a:tab algn="l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ock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ewBreakLab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Code.il.MarkLabel(newBreakLab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90440"/>
                  <a:tab algn="l" pos="2476440"/>
                  <a:tab algn="l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{" { Block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reakLab&gt; } "}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90440"/>
                  <a:tab algn="l" pos="2476440"/>
                  <a:tab algn="l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476440"/>
                  <a:tab algn="l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476440"/>
                  <a:tab algn="l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ock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reakLab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476440"/>
                  <a:tab algn="l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90440"/>
                  <a:tab algn="l" pos="2476440"/>
                  <a:tab algn="l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break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breakLab.Equals(undef)) Error("break outside a loop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476440"/>
                  <a:tab algn="l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Jump(breakLab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476440"/>
                  <a:tab algn="l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90440"/>
                  <a:tab algn="l" pos="2476440"/>
                  <a:tab algn="l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142600" y="4494240"/>
              <a:ext cx="3039840" cy="55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readonly Label </a:t>
              </a:r>
              <a:r>
                <a:rPr b="1" lang="de-AT" sz="1400" spc="-1" strike="noStrike">
                  <a:solidFill>
                    <a:srgbClr val="3333cc"/>
                  </a:solidFill>
                  <a:latin typeface="Arial"/>
                </a:rPr>
                <a:t>undef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ecause structs cannot be null (ye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FE7C-BF7A-4DCF-9A3A-ECB62559AC0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Short-Circuit Evaluation of Boolean Expressions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78600" y="1128600"/>
            <a:ext cx="647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oolean expression may contain &amp;&amp; and || oper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evaluation of a Boolean expression stops as soon as its result is kn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0" name=""/>
          <p:cNvGrpSpPr/>
          <p:nvPr/>
        </p:nvGrpSpPr>
        <p:grpSpPr>
          <a:xfrm>
            <a:off x="998640" y="1954080"/>
            <a:ext cx="1195560" cy="1578960"/>
            <a:chOff x="998640" y="1954080"/>
            <a:chExt cx="1195560" cy="1578960"/>
          </a:xfrm>
        </p:grpSpPr>
        <p:sp>
          <p:nvSpPr>
            <p:cNvPr id="1721" name=""/>
            <p:cNvSpPr/>
            <p:nvPr/>
          </p:nvSpPr>
          <p:spPr>
            <a:xfrm>
              <a:off x="998640" y="1954080"/>
              <a:ext cx="11955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&amp;&amp; b &amp;&amp; c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102320" y="2373480"/>
              <a:ext cx="724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J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J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739880" y="27558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739880" y="31878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943280" y="2755800"/>
              <a:ext cx="0" cy="7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3132360" y="1954080"/>
            <a:ext cx="1069560" cy="1578960"/>
            <a:chOff x="3132360" y="1954080"/>
            <a:chExt cx="1069560" cy="1578960"/>
          </a:xfrm>
        </p:grpSpPr>
        <p:sp>
          <p:nvSpPr>
            <p:cNvPr id="1727" name=""/>
            <p:cNvSpPr/>
            <p:nvPr/>
          </p:nvSpPr>
          <p:spPr>
            <a:xfrm>
              <a:off x="3132360" y="1954080"/>
              <a:ext cx="90324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|| b || c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477240" y="2373480"/>
              <a:ext cx="724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J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J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301920" y="27558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301920" y="31878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301920" y="2755800"/>
              <a:ext cx="0" cy="7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718560" y="4138560"/>
            <a:ext cx="5107680" cy="1992240"/>
            <a:chOff x="718560" y="4138560"/>
            <a:chExt cx="5107680" cy="1992240"/>
          </a:xfrm>
        </p:grpSpPr>
        <p:sp>
          <p:nvSpPr>
            <p:cNvPr id="1733" name=""/>
            <p:cNvSpPr/>
            <p:nvPr/>
          </p:nvSpPr>
          <p:spPr>
            <a:xfrm>
              <a:off x="718560" y="4138560"/>
              <a:ext cx="442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Needs a small change in the ATG of if state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76520" y="4545000"/>
              <a:ext cx="5049720" cy="15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(" Condition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&gt; ")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FJump(x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Code.il.MarkLabel(x.tLabel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il.MarkLabel(x.fLabel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5" name=""/>
          <p:cNvGrpSpPr/>
          <p:nvPr/>
        </p:nvGrpSpPr>
        <p:grpSpPr>
          <a:xfrm>
            <a:off x="6226200" y="5357880"/>
            <a:ext cx="841320" cy="307080"/>
            <a:chOff x="6226200" y="5357880"/>
            <a:chExt cx="841320" cy="307080"/>
          </a:xfrm>
        </p:grpSpPr>
        <p:sp>
          <p:nvSpPr>
            <p:cNvPr id="1736" name=""/>
            <p:cNvSpPr/>
            <p:nvPr/>
          </p:nvSpPr>
          <p:spPr>
            <a:xfrm flipH="1">
              <a:off x="6750000" y="563868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226200" y="5357880"/>
              <a:ext cx="47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226560" y="5103720"/>
            <a:ext cx="840960" cy="534960"/>
            <a:chOff x="6226560" y="5103720"/>
            <a:chExt cx="840960" cy="534960"/>
          </a:xfrm>
        </p:grpSpPr>
        <p:sp>
          <p:nvSpPr>
            <p:cNvPr id="1739" name=""/>
            <p:cNvSpPr/>
            <p:nvPr/>
          </p:nvSpPr>
          <p:spPr>
            <a:xfrm>
              <a:off x="6864120" y="52704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067520" y="5207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226560" y="5103720"/>
              <a:ext cx="72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J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2" name=""/>
          <p:cNvGrpSpPr/>
          <p:nvPr/>
        </p:nvGrpSpPr>
        <p:grpSpPr>
          <a:xfrm>
            <a:off x="6039000" y="5181480"/>
            <a:ext cx="291960" cy="216000"/>
            <a:chOff x="6039000" y="5181480"/>
            <a:chExt cx="291960" cy="216000"/>
          </a:xfrm>
        </p:grpSpPr>
        <p:sp>
          <p:nvSpPr>
            <p:cNvPr id="1743" name=""/>
            <p:cNvSpPr/>
            <p:nvPr/>
          </p:nvSpPr>
          <p:spPr>
            <a:xfrm>
              <a:off x="6039000" y="539748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039000" y="51814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5" name=""/>
          <p:cNvGrpSpPr/>
          <p:nvPr/>
        </p:nvGrpSpPr>
        <p:grpSpPr>
          <a:xfrm>
            <a:off x="5388840" y="1954080"/>
            <a:ext cx="3666960" cy="3516480"/>
            <a:chOff x="5388840" y="1954080"/>
            <a:chExt cx="3666960" cy="3516480"/>
          </a:xfrm>
        </p:grpSpPr>
        <p:sp>
          <p:nvSpPr>
            <p:cNvPr id="1746" name=""/>
            <p:cNvSpPr/>
            <p:nvPr/>
          </p:nvSpPr>
          <p:spPr>
            <a:xfrm>
              <a:off x="6242040" y="4292640"/>
              <a:ext cx="711000" cy="647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242040" y="3365640"/>
              <a:ext cx="711000" cy="647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242040" y="2438280"/>
              <a:ext cx="711000" cy="648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226560" y="2373480"/>
              <a:ext cx="724680" cy="261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J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J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J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J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J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388840" y="1954080"/>
              <a:ext cx="29667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a &amp;&amp; b  ||  c &amp;&amp; d  ||  e &amp;&amp; f) sta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051600" y="41403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051600" y="321300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38640" y="3213000"/>
              <a:ext cx="0" cy="199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873760" y="507996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64120" y="27558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64120" y="36702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864120" y="46227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067520" y="2755800"/>
              <a:ext cx="0" cy="55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270560" y="2451240"/>
              <a:ext cx="127080" cy="2501640"/>
            </a:xfrm>
            <a:custGeom>
              <a:avLst/>
              <a:gdLst>
                <a:gd name="textAreaLeft" fmla="*/ 0 w 127080"/>
                <a:gd name="textAreaRight" fmla="*/ 45720 w 127080"/>
                <a:gd name="textAreaTop" fmla="*/ 65160 h 2501640"/>
                <a:gd name="textAreaBottom" fmla="*/ 2436480 h 25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370280" y="3529080"/>
              <a:ext cx="9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ond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437960" y="4646520"/>
              <a:ext cx="1617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wo undef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jump labels at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nd o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ond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6826320" y="3314880"/>
              <a:ext cx="24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067520" y="3670200"/>
              <a:ext cx="0" cy="55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6826320" y="4229280"/>
              <a:ext cx="24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067520" y="4622760"/>
              <a:ext cx="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A49-43D9-41B3-80BC-A1FBFA73F8B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piling Boolean Express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273720" y="1486080"/>
            <a:ext cx="2679840" cy="41904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324480" y="1536840"/>
            <a:ext cx="118116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709040" y="1536840"/>
            <a:ext cx="118080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14240" y="1096920"/>
            <a:ext cx="5481720" cy="265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78120"/>
                <a:tab algn="l" pos="2057400"/>
                <a:tab algn="l" pos="224640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nd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y; int op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78120"/>
                <a:tab algn="l" pos="2057400"/>
                <a:tab algn="l" pos="224640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x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78120"/>
                <a:tab algn="l" pos="2057400"/>
                <a:tab algn="l" pos="224640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lop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o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78120"/>
                <a:tab algn="l" pos="2057400"/>
                <a:tab algn="l" pos="224640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78120"/>
                <a:tab algn="l" pos="2057400"/>
                <a:tab algn="l" pos="224640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!x.type.CompatibleWith(y.type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78120"/>
                <a:tab algn="l" pos="2057400"/>
                <a:tab algn="l" pos="224640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("type mismatch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78120"/>
                <a:tab algn="l" pos="2057400"/>
                <a:tab algn="l" pos="224640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if (x.type.IsRefType() &amp;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78120"/>
                <a:tab algn="l" pos="2057400"/>
                <a:tab algn="l" pos="224640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op!=Token.EQ &amp;&amp; op!=Token.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78120"/>
                <a:tab algn="l" pos="2057400"/>
                <a:tab algn="l" pos="224640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("only equality checks ..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78120"/>
                <a:tab algn="l" pos="2057400"/>
                <a:tab algn="l" pos="224640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new Item(op, x.typ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78120"/>
                <a:tab algn="l" pos="2057400"/>
                <a:tab algn="l" pos="224640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78120"/>
                <a:tab algn="l" pos="2057400"/>
                <a:tab algn="l" pos="224640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22160" y="3817800"/>
            <a:ext cx="5478480" cy="1159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nd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y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dFacto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&amp;&amp;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FJump(x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dFacto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.relop = y.relop; x.tLabel = y.tLabel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22160" y="5046840"/>
            <a:ext cx="5480280" cy="1585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y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dTerm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||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TJump(x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il.MarkLabel(x.fLabel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dTerm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y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.relop = y.relop; x.fLabel = y.fLabel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175520" y="2108160"/>
            <a:ext cx="838080" cy="29466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238880" y="2171880"/>
            <a:ext cx="698760" cy="128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238880" y="3708360"/>
            <a:ext cx="698760" cy="128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302600" y="2235240"/>
            <a:ext cx="57132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302600" y="2959200"/>
            <a:ext cx="57132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302600" y="3772080"/>
            <a:ext cx="57132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302600" y="4495680"/>
            <a:ext cx="57132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248240" y="2195640"/>
            <a:ext cx="69732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e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gt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ge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835760" y="2844720"/>
            <a:ext cx="33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8166240" y="2844720"/>
            <a:ext cx="0" cy="90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H="1">
            <a:off x="7886880" y="374652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835760" y="4368960"/>
            <a:ext cx="33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8166240" y="4368960"/>
            <a:ext cx="0" cy="85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flipH="1">
            <a:off x="7048080" y="3594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048440" y="3594240"/>
            <a:ext cx="0" cy="162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362640" y="1600200"/>
            <a:ext cx="368280" cy="190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074000" y="1600200"/>
            <a:ext cx="368280" cy="190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759800" y="1600200"/>
            <a:ext cx="368280" cy="190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8470800" y="1600200"/>
            <a:ext cx="368280" cy="190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287040" y="1535040"/>
            <a:ext cx="26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&gt;b  &amp;&amp;  b&gt;c   ||   d&lt;e  &amp;&amp;  e&lt;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CF4A-DC20-4C14-A88C-8EAC741B235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"/>
          <p:cNvSpPr/>
          <p:nvPr/>
        </p:nvSpPr>
        <p:spPr>
          <a:xfrm>
            <a:off x="1143000" y="556272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18200" y="1835280"/>
            <a:ext cx="684072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he .NET Common Language Runtime (CL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Jumps and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7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tro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6.8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C60-3304-4D51-A96C-BFD75571411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rocedure Call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1027080" y="1674720"/>
            <a:ext cx="10699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(a, 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142000" y="1687680"/>
            <a:ext cx="8388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ll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me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951640" y="1662120"/>
            <a:ext cx="30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ameters are passed on th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84360" y="119376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de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1" name=""/>
          <p:cNvGrpSpPr/>
          <p:nvPr/>
        </p:nvGrpSpPr>
        <p:grpSpPr>
          <a:xfrm>
            <a:off x="683640" y="2692440"/>
            <a:ext cx="6581160" cy="2203560"/>
            <a:chOff x="683640" y="2692440"/>
            <a:chExt cx="6581160" cy="2203560"/>
          </a:xfrm>
        </p:grpSpPr>
        <p:sp>
          <p:nvSpPr>
            <p:cNvPr id="1802" name=""/>
            <p:cNvSpPr/>
            <p:nvPr/>
          </p:nvSpPr>
          <p:spPr>
            <a:xfrm>
              <a:off x="1012320" y="3097080"/>
              <a:ext cx="6252480" cy="1798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tem x, y; ...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signator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ctParList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il.EmitCall(Code.CALL, x.sym.meth, null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x.type != Tab.noType) Code.il.Emit(Code.POP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=" Expr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y&gt; ";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...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 ...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83640" y="2692440"/>
              <a:ext cx="24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scription by an AT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DB42-872D-4164-92B0-893FB939FB2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Function Call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1022400" y="1674720"/>
            <a:ext cx="10904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 = M(a, 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2142000" y="1687680"/>
            <a:ext cx="83880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dloc.s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ll T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me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loc.s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2950200" y="2309760"/>
            <a:ext cx="33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unction value is returned on th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2951640" y="1662120"/>
            <a:ext cx="30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ameters are passed on th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84360" y="119376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de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0" name=""/>
          <p:cNvGrpSpPr/>
          <p:nvPr/>
        </p:nvGrpSpPr>
        <p:grpSpPr>
          <a:xfrm>
            <a:off x="683640" y="2781360"/>
            <a:ext cx="7828200" cy="3164040"/>
            <a:chOff x="683640" y="2781360"/>
            <a:chExt cx="7828200" cy="3164040"/>
          </a:xfrm>
        </p:grpSpPr>
        <p:sp>
          <p:nvSpPr>
            <p:cNvPr id="1811" name=""/>
            <p:cNvSpPr/>
            <p:nvPr/>
          </p:nvSpPr>
          <p:spPr>
            <a:xfrm>
              <a:off x="965520" y="3294000"/>
              <a:ext cx="7546320" cy="265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tem x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signator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ctParList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x.type == Tab.noType) Error("procedure called as a function"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x.sym == Tab.ordSym || x.sym == Tab.chrSym) ; // nothing to 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if (x.sym == Tab.lenSy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il.Emit(Code.LDLEN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if (x.kind == Item.Kinds.Meth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de.il.Emit(Code.CALL, x.sym.meth, null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.kind = Item.Stack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1905120"/>
                  <a:tab algn="l" pos="209556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 ...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83640" y="2781360"/>
              <a:ext cx="24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scription by an AT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3" name=""/>
          <p:cNvGrpSpPr/>
          <p:nvPr/>
        </p:nvGrpSpPr>
        <p:grpSpPr>
          <a:xfrm>
            <a:off x="6361920" y="1193760"/>
            <a:ext cx="2684160" cy="2007720"/>
            <a:chOff x="6361920" y="1193760"/>
            <a:chExt cx="2684160" cy="2007720"/>
          </a:xfrm>
        </p:grpSpPr>
        <p:sp>
          <p:nvSpPr>
            <p:cNvPr id="1814" name=""/>
            <p:cNvSpPr/>
            <p:nvPr/>
          </p:nvSpPr>
          <p:spPr>
            <a:xfrm>
              <a:off x="6549480" y="158580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ord('x'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388560" y="1890720"/>
              <a:ext cx="26575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ctParLis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loads 'x'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nto th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loaded value gets the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ype o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ordSym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=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tTyp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kin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tem.Kinds.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361920" y="1193760"/>
              <a:ext cx="20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tandard fun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F2ED-AA1B-4A49-8132-150D636BD81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Method Declar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22520" y="1251000"/>
            <a:ext cx="8381520" cy="5556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MethodDec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uct type; int n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void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 = Tab.noTyp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urMethod = Tab.Insert(Symbol.Kinds.Meth, token.str, typ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openScope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(" [ FormPars ] ")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urMethod.nArgs = Tab.topScope.nArg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urMethod.locals = Tab.topScope.local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reateMetadat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curMetho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curMethod.name == "Main"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curMethod.type != Tab.noType) Error("method Main must be voi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curMethod.nArgs != 0) Error("method Main must not have parameters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VarDecl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.Kinds.Loca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urMethod.nLocs = Tab.topScope.nLoc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urMethod.locals = Tab.topScope.local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ock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undef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curMethod.type == Tab.noType) Code.il.Emit(Code.RE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{  //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end of function reached without a return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il.Emit(Code.NEWOBJ, Code.eeexCto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il.Emit(Code.THROW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closeScop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1973160"/>
                <a:tab algn="l" pos="215100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6363360" y="1496880"/>
            <a:ext cx="1393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lobal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 flipH="1">
            <a:off x="3665520" y="1730520"/>
            <a:ext cx="2665440" cy="3711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5811120" y="6089760"/>
            <a:ext cx="2951280" cy="55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-arg constructor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stem.ExecutionEngineExce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 flipH="1" flipV="1">
            <a:off x="6305400" y="5748480"/>
            <a:ext cx="5040" cy="3268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05CF-F8CE-4DE2-BC90-73560AEE75C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Formal Paramete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08840" y="1255680"/>
            <a:ext cx="61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e entered into the symbol table (a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rg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symbols of the method sco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method scope counts their number (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Arg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35120" y="2201760"/>
            <a:ext cx="58291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ormPars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FormPar { "," FormPar }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17120" y="2678040"/>
            <a:ext cx="586548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ormPa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uct typ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Insert(Symbol.Kinds.Arg, token.str, type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5EF-A53A-4B74-8FCD-16085CB6B07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ctual Paramete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712440" y="1179360"/>
            <a:ext cx="587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 them 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eck if they are assignment compatible with the formal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eck if the number of actual and formal parameters corresp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707400" y="2201760"/>
            <a:ext cx="8296560" cy="454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ctPar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m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tem ap; int aPars = 0, fPars = 0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(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m.kind != Item.Kinds.Meth) { Error("not a method"); m.sym = Tab.noSym; }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Pars = m.sym.nArg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 fp= m.sym.local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p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ap); aPars++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fp != null &amp;&amp; fp.kind == Symbol.Kinds.Arg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!ap.type.AssignableTo(fp.type)) Error("parameter type mismatch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p = fp.nex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"," Exp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p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ap); aPars++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fp != null &amp;&amp; fp.kind == Symbol.Kinds.Arg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!ap.type.AssignableTo(fp.type)) Error("parameter type mismatch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p = fp.nex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aPars &gt; fPars) Error("more actual than formal parameters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if (aPars &lt; fPars) Error("less actual than formal parameters"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1703520"/>
                <a:tab algn="l" pos="1878120"/>
                <a:tab algn="l" pos="206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)"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FC6-1FEB-48C8-A783-BF2DE9AD9DA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ata Areas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2160" y="130824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Method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6480" y="1708200"/>
            <a:ext cx="424836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nages separate area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16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guments 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rg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16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cal variables 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ocal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16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xpression stack 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stack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ach method call has its own method state 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ethod states managed in a stack and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refore also calle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ck frame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059520" y="2720880"/>
            <a:ext cx="507960" cy="598320"/>
            <a:chOff x="6059520" y="2720880"/>
            <a:chExt cx="507960" cy="598320"/>
          </a:xfrm>
        </p:grpSpPr>
        <p:sp>
          <p:nvSpPr>
            <p:cNvPr id="191" name=""/>
            <p:cNvSpPr/>
            <p:nvPr/>
          </p:nvSpPr>
          <p:spPr>
            <a:xfrm>
              <a:off x="6059520" y="3065400"/>
              <a:ext cx="507960" cy="253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48800" y="3063600"/>
              <a:ext cx="302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r>
                <a:rPr b="0" i="1" lang="de-AT" sz="1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34040" y="2720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704280" y="2716200"/>
            <a:ext cx="765000" cy="856800"/>
            <a:chOff x="6704280" y="2716200"/>
            <a:chExt cx="765000" cy="856800"/>
          </a:xfrm>
        </p:grpSpPr>
        <p:sp>
          <p:nvSpPr>
            <p:cNvPr id="195" name=""/>
            <p:cNvSpPr/>
            <p:nvPr/>
          </p:nvSpPr>
          <p:spPr>
            <a:xfrm>
              <a:off x="6961320" y="3065400"/>
              <a:ext cx="507960" cy="25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50240" y="3063600"/>
              <a:ext cx="302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r>
                <a:rPr b="0" i="1" lang="de-AT" sz="1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35840" y="27208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61320" y="3319200"/>
              <a:ext cx="507960" cy="253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51680" y="3317760"/>
              <a:ext cx="312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r>
                <a:rPr b="0" i="1" lang="de-AT" sz="1400" spc="-1" strike="noStrike" baseline="-25000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04280" y="2716200"/>
              <a:ext cx="7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7656840" y="2716200"/>
            <a:ext cx="765000" cy="1111320"/>
            <a:chOff x="7656840" y="2716200"/>
            <a:chExt cx="765000" cy="1111320"/>
          </a:xfrm>
        </p:grpSpPr>
        <p:sp>
          <p:nvSpPr>
            <p:cNvPr id="202" name=""/>
            <p:cNvSpPr/>
            <p:nvPr/>
          </p:nvSpPr>
          <p:spPr>
            <a:xfrm>
              <a:off x="7913880" y="3065760"/>
              <a:ext cx="507960" cy="25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02800" y="3063960"/>
              <a:ext cx="302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r>
                <a:rPr b="0" i="1" lang="de-AT" sz="1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88040" y="27212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13880" y="3319560"/>
              <a:ext cx="507960" cy="25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04240" y="3318120"/>
              <a:ext cx="312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r>
                <a:rPr b="0" i="1" lang="de-AT" sz="1400" spc="-1" strike="noStrike" baseline="-25000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13880" y="3573720"/>
              <a:ext cx="507960" cy="253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02800" y="3571920"/>
              <a:ext cx="302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r>
                <a:rPr b="0" i="1" lang="de-AT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56840" y="2716200"/>
              <a:ext cx="7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6704280" y="2881440"/>
            <a:ext cx="7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56840" y="2881440"/>
            <a:ext cx="7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821880" y="3989520"/>
            <a:ext cx="6514560" cy="2144520"/>
            <a:chOff x="821880" y="3989520"/>
            <a:chExt cx="6514560" cy="2144520"/>
          </a:xfrm>
        </p:grpSpPr>
        <p:sp>
          <p:nvSpPr>
            <p:cNvPr id="213" name=""/>
            <p:cNvSpPr/>
            <p:nvPr/>
          </p:nvSpPr>
          <p:spPr>
            <a:xfrm>
              <a:off x="821880" y="3989520"/>
              <a:ext cx="6514560" cy="11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625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ach parameter and each local variable occupy a slot of typedependent siz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625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ddresses are consecutive number reflecting the order of declaration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.g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ldarg.0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loads the value of the first method argument onto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stack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ldloc.2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load the value of the third local variable onto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35560" y="5160960"/>
              <a:ext cx="50760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rg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20720" y="5459400"/>
              <a:ext cx="6307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loc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96960" y="5772240"/>
              <a:ext cx="6523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51080" y="5788080"/>
              <a:ext cx="1266840" cy="287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47120" y="5200560"/>
              <a:ext cx="945000" cy="28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0     1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46760" y="5491080"/>
              <a:ext cx="1044000" cy="2854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0  1   2  3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02000" y="54957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30600" y="548784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30400" y="548964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82960" y="519912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31960" y="520704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12800" y="5145120"/>
              <a:ext cx="1962360" cy="98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71200" y="5135400"/>
              <a:ext cx="121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ethod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D547-933D-46E3-83BF-8D8415FBFC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eturn Statemen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748440" y="1528920"/>
            <a:ext cx="7214040" cy="2864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523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abel break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523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523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retur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523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curMethod.type == Tab.noTyp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523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("void method must not return a value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523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523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Load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523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x.type.AssignableTo(curMethod.type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523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("type of return value must be assignable to method type"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523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523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curMethod.type != Tab.noType) Error("return value expected"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523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.il.Emit(Code.RET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523880"/>
                <a:tab algn="l" pos="171468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;"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1F6A-8791-4820-8A74-88980DDBF85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ata Areas of the CL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22160" y="13082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He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4600" y="1712880"/>
            <a:ext cx="35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tains class objects and array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11280" y="2349360"/>
            <a:ext cx="124452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80880" y="2281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39600" y="2043000"/>
            <a:ext cx="5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11280" y="2502000"/>
            <a:ext cx="1244520" cy="279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11280" y="2781360"/>
            <a:ext cx="1244520" cy="190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11280" y="2971800"/>
            <a:ext cx="12445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81240" y="3411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46040" y="297180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7440" y="28274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2880" y="3909960"/>
            <a:ext cx="61243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ew objects are allocated at the positio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an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s incremented);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is is done by the CIL instruction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ewobj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ewa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bjects are deallocated by the garbage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2C18-5921-4823-B966-DEF6134CD4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9:29:13Z</dcterms:created>
  <dc:creator>Mössenböck</dc:creator>
  <dc:description/>
  <dc:language>en-US</dc:language>
  <cp:lastModifiedBy>ml</cp:lastModifiedBy>
  <cp:lastPrinted>2001-09-28T08:52:55Z</cp:lastPrinted>
  <dcterms:modified xsi:type="dcterms:W3CDTF">2006-01-21T18:54:48Z</dcterms:modified>
  <cp:revision>735</cp:revision>
  <dc:subject/>
  <dc:title>Javascript-Anweisungen</dc:title>
</cp:coreProperties>
</file>