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A62-805C-4987-B8FA-123611BB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03A-AA55-421D-B37E-63B9E12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476-3E96-4647-86EC-F7A9347E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525-C31C-4CE0-A356-888A2168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833-22B3-47B5-AFA5-B6EE259A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339-B839-4BBF-B5C5-15389A1A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D3B-52F9-41FF-BCCE-F78233A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048-9C91-48C1-B74E-465A3F9E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E55-54CF-4D26-BB8C-572A3D4B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856-6BA0-4371-8D7E-EA4F8A8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76-ABF0-4FAB-B500-A035D10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C14-B770-41B9-8B74-7243018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4853-9F4E-4FF2-843E-3DA03CFF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3F3-4CAE-457D-8059-4ECBB4C489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ntering Names into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4520" y="130824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following method is called whenever a name is decl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3840" y="1928880"/>
            <a:ext cx="36432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Insert(kind, name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90800" y="2475000"/>
            <a:ext cx="544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s a new object node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ki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s i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already declared (if so =&gt; error mess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ssigns successive addresses to variables and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s the declaration level for variables (0 = global, 1 = 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ppends the new node to the end of the symbol tabl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urns the new node to the c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7760" y="4305240"/>
            <a:ext cx="5365800" cy="1647000"/>
            <a:chOff x="707760" y="4305240"/>
            <a:chExt cx="5365800" cy="1647000"/>
          </a:xfrm>
        </p:grpSpPr>
        <p:sp>
          <p:nvSpPr>
            <p:cNvPr id="190" name=""/>
            <p:cNvSpPr/>
            <p:nvPr/>
          </p:nvSpPr>
          <p:spPr>
            <a:xfrm>
              <a:off x="707760" y="4305240"/>
              <a:ext cx="28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for calling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Inser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4920" y="4792680"/>
              <a:ext cx="495864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VarDecl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ymbol.Kinds kin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Obj.Var, name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;" 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Obj.Var, name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0D6-C29E-4621-BFC7-D9E639B33068}" type="slidenum">
              <a:t>10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edeclared Nam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4840" y="138420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ch names are predeclared in Z#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8040" y="1776240"/>
            <a:ext cx="40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types: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constants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ndard methods: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rd(ch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r(i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(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43040" y="2781360"/>
            <a:ext cx="6762960" cy="3379680"/>
            <a:chOff x="743040" y="2781360"/>
            <a:chExt cx="6762960" cy="3379680"/>
          </a:xfrm>
        </p:grpSpPr>
        <p:sp>
          <p:nvSpPr>
            <p:cNvPr id="196" name=""/>
            <p:cNvSpPr/>
            <p:nvPr/>
          </p:nvSpPr>
          <p:spPr>
            <a:xfrm>
              <a:off x="743040" y="2781360"/>
              <a:ext cx="676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redeclared names are also stored in the symbol table ("Universe"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9640" y="3170160"/>
              <a:ext cx="589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6304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in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94040" y="3365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28400" y="3170160"/>
              <a:ext cx="58464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a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6280" y="3365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0560" y="3170160"/>
              <a:ext cx="5799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null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19440" y="3365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2824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ord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30800" y="3365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452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3365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49240" y="3170160"/>
              <a:ext cx="5205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len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0240" y="3365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32520" y="32893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6400" y="4780080"/>
              <a:ext cx="589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57760" y="4789440"/>
              <a:ext cx="4489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86360" y="4411800"/>
              <a:ext cx="288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12680" y="4789440"/>
              <a:ext cx="4183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i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26160" y="44179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2640" y="4789440"/>
              <a:ext cx="4734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arr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44226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EA7-BA35-4293-B709-3D34B3A967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pecial Names as Keywor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7040" y="1346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could also be implemented as keywor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1440" y="176364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quires a special treatment in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55080" y="2265480"/>
            <a:ext cx="61196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truc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Symbol sym = Tab.Find(token.str); type = sym.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type = Tab.int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type = Tab.char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04160" y="3835440"/>
            <a:ext cx="6370560" cy="1823760"/>
            <a:chOff x="704160" y="3835440"/>
            <a:chExt cx="6370560" cy="1823760"/>
          </a:xfrm>
        </p:grpSpPr>
        <p:sp>
          <p:nvSpPr>
            <p:cNvPr id="223" name=""/>
            <p:cNvSpPr/>
            <p:nvPr/>
          </p:nvSpPr>
          <p:spPr>
            <a:xfrm>
              <a:off x="704160" y="3835440"/>
              <a:ext cx="586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simpler to have them predeclared in the symbol tab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55080" y="4373640"/>
              <a:ext cx="6119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uct 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Symbol sym = Tab.Find(token.str); type = sym.type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25920" y="5078520"/>
              <a:ext cx="511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niform treatment of predeclared and user-declared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e can redeclare "int" as a user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D30-C35E-481B-96AB-47B4961B50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33782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B1B-3BEC-4EB7-A8C2-8A35D5A42E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Scope = Range in which a Name is Valid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5680" y="1244520"/>
            <a:ext cx="77562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re are separate scopes (object lists)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"universe"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the predeclared names (and the program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rogra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global names (= constants, global variables, classes, meth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local names (= argument and local variab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cla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ains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22160" y="2806560"/>
            <a:ext cx="7846560" cy="3568680"/>
            <a:chOff x="722160" y="2806560"/>
            <a:chExt cx="7846560" cy="3568680"/>
          </a:xfrm>
        </p:grpSpPr>
        <p:sp>
          <p:nvSpPr>
            <p:cNvPr id="232" name=""/>
            <p:cNvSpPr/>
            <p:nvPr/>
          </p:nvSpPr>
          <p:spPr>
            <a:xfrm>
              <a:off x="800280" y="3263760"/>
              <a:ext cx="1701720" cy="3111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3924360"/>
              <a:ext cx="1460520" cy="2324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79640" y="4432320"/>
              <a:ext cx="1206360" cy="1295280"/>
            </a:xfrm>
            <a:custGeom>
              <a:avLst/>
              <a:gdLst/>
              <a:ahLst/>
              <a:rect l="l" t="t" r="r" b="b"/>
              <a:pathLst>
                <a:path w="760" h="816">
                  <a:moveTo>
                    <a:pt x="0" y="160"/>
                  </a:moveTo>
                  <a:lnTo>
                    <a:pt x="408" y="160"/>
                  </a:lnTo>
                  <a:lnTo>
                    <a:pt x="408" y="0"/>
                  </a:lnTo>
                  <a:lnTo>
                    <a:pt x="760" y="0"/>
                  </a:lnTo>
                  <a:lnTo>
                    <a:pt x="760" y="816"/>
                  </a:lnTo>
                  <a:lnTo>
                    <a:pt x="0" y="81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2160" y="28065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400" y="3630600"/>
              <a:ext cx="144576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,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M  (int 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b, c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6920" y="4646520"/>
              <a:ext cx="225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ope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all names declared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16920" y="3897360"/>
              <a:ext cx="220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ope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all names declared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55160" y="3059280"/>
              <a:ext cx="182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uni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predeclared nam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006080" y="5586480"/>
            <a:ext cx="49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arching for a name always starts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p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not found, the search continues in the next outer 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 searc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17600" y="4735440"/>
            <a:ext cx="36252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70280" y="480060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70280" y="480060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98880" y="480060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24240" y="48369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13000" y="48895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67120" y="4735440"/>
            <a:ext cx="37188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78320" y="488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4720" y="4735440"/>
            <a:ext cx="36252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46560" y="488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17600" y="3970440"/>
            <a:ext cx="371880" cy="28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70280" y="402588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70280" y="402588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8880" y="402588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13000" y="411480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85840" y="3970440"/>
            <a:ext cx="371880" cy="28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97400" y="4124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4160" y="3970440"/>
            <a:ext cx="420480" cy="28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564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84400" y="435564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0760" y="4443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14000" y="3173400"/>
            <a:ext cx="461880" cy="28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70280" y="323856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70280" y="323856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98880" y="323856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3000" y="332748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67560" y="3173400"/>
            <a:ext cx="620280" cy="28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83080" y="33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21360" y="3173400"/>
            <a:ext cx="391680" cy="28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9640" y="332748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984400" y="356868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830920" y="3317400"/>
            <a:ext cx="1872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984400" y="51307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02600" y="54594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97360" y="31618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21040" y="314964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83960" y="3141720"/>
            <a:ext cx="295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0A4-51DE-4B73-BB29-47C406CAED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ope Nod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7280" y="1370160"/>
            <a:ext cx="684396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 the next outer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 the symbols in this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rg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umber of arguments in this scope (for address al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Loc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umber of local variables in this scope (for address allo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856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69960" y="2895480"/>
            <a:ext cx="8138520" cy="1815840"/>
            <a:chOff x="669960" y="2895480"/>
            <a:chExt cx="8138520" cy="1815840"/>
          </a:xfrm>
        </p:grpSpPr>
        <p:sp>
          <p:nvSpPr>
            <p:cNvPr id="281" name=""/>
            <p:cNvSpPr/>
            <p:nvPr/>
          </p:nvSpPr>
          <p:spPr>
            <a:xfrm>
              <a:off x="669960" y="289548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hod for opening a sc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38240" y="3338640"/>
              <a:ext cx="344988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OpenSco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 // in class T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ope s = new Scop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.nArgs = 0; s.nLocs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.outer = topSco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pScope = 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1080" y="3300480"/>
              <a:ext cx="430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ed at the beginning of a method or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inks the new scope with the existing 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w scope become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ab.Insert()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lways creates symbols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69600" y="5105520"/>
            <a:ext cx="7211520" cy="1176120"/>
            <a:chOff x="669600" y="5105520"/>
            <a:chExt cx="7211520" cy="1176120"/>
          </a:xfrm>
        </p:grpSpPr>
        <p:sp>
          <p:nvSpPr>
            <p:cNvPr id="285" name=""/>
            <p:cNvSpPr/>
            <p:nvPr/>
          </p:nvSpPr>
          <p:spPr>
            <a:xfrm>
              <a:off x="669600" y="510552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hod for closing a sc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7880" y="5548320"/>
              <a:ext cx="348048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loseSco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 // in class T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pScope = topScope.oute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01440" y="5510160"/>
              <a:ext cx="33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ed at the end of a method or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xt outer scope become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640-E66C-40DD-A65B-03751B746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ntering Names in Scop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0120" y="1154160"/>
            <a:ext cx="33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 are always entered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p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4240" y="1611360"/>
            <a:ext cx="5831640" cy="478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ab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ope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Zeiger auf aktuellen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ymbol.Kinds kind, string name, Struct typ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create symbol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new Symbol(name, kind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kind == Symbol.Kinds.Arg) sym.adr = topScope.nArg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kind == Symbol.Kinds.Local) sym.adr = topScope.nLoc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--- insert symbol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cur = topScope.locals, last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cur !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ur.name == name) Error(name + " declared twic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st = cur; cur = cur.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st == null) topScope.locals = sym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last.next = sy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sy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053-12FA-4296-9B06-47AB383A08D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ening and Closing a Scop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5560" y="4816440"/>
            <a:ext cx="56368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method name is entered in the method's enclosing 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fore a scope is closed its local objects are assigned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.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opes are also opened and closed for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5000" y="1459080"/>
            <a:ext cx="6962040" cy="307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od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Struc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lt;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 = Tab.insert(Symbol.Kinds.Meth, 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OpenScope(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{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}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Args = topScope.nArg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nLocs = topScope.nLo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urMethod.locals = 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CloseScope(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81620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24960" y="1454040"/>
            <a:ext cx="139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590640" y="1746360"/>
            <a:ext cx="1522440" cy="1825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6BC-CA33-4F85-B72F-2FC624B1FB7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5880" y="1662120"/>
            <a:ext cx="1485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762440" y="28321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80640" y="316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58880" y="2513160"/>
            <a:ext cx="16484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Open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91040" y="2581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07040" y="251784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6C6-8A08-4CD6-9466-C407CC1139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5880" y="1662120"/>
            <a:ext cx="14857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0240" y="2421000"/>
            <a:ext cx="40788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98440" y="2421000"/>
            <a:ext cx="40788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762440" y="28321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80640" y="316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2760" y="2398680"/>
            <a:ext cx="188460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a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b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0560" y="228600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A7A-EDED-4A61-895E-A019CA9EB4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Responsibilities of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160" y="1320840"/>
            <a:ext cx="50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 It stores all declared names and their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8640" y="1674720"/>
            <a:ext cx="453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alue (for con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ress (for local variables and method argu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s (for meth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3440" y="31496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2. It is used to retrieve the attributes of a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59120" y="35114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pping: name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ype, value, address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7400" y="4330800"/>
            <a:ext cx="4969080" cy="2068920"/>
            <a:chOff x="707400" y="4330800"/>
            <a:chExt cx="4969080" cy="2068920"/>
          </a:xfrm>
        </p:grpSpPr>
        <p:sp>
          <p:nvSpPr>
            <p:cNvPr id="51" name=""/>
            <p:cNvSpPr/>
            <p:nvPr/>
          </p:nvSpPr>
          <p:spPr>
            <a:xfrm>
              <a:off x="707400" y="4330800"/>
              <a:ext cx="29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nts of the symbol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9000" y="4684680"/>
              <a:ext cx="446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3333cc"/>
                  </a:solidFill>
                  <a:latin typeface="Times New Roman"/>
                </a:rPr>
                <a:t>Symbo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des: information about declared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3333cc"/>
                  </a:solidFill>
                  <a:latin typeface="Times New Roman"/>
                </a:rPr>
                <a:t>Structur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des: information about type struc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240" y="5332320"/>
              <a:ext cx="4917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=&gt; most suitably implemented as a dynamic data 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 linear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 binary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 has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6B9-36D6-41B7-82B5-CE258E98093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5880" y="1662120"/>
            <a:ext cx="14857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762440" y="36068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80640" y="39355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53120" y="2398680"/>
            <a:ext cx="193320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M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Open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8720" y="2421000"/>
            <a:ext cx="45648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3276720"/>
            <a:ext cx="457200" cy="33012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276720"/>
            <a:ext cx="228600" cy="1522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276720"/>
            <a:ext cx="228600" cy="1522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762440" y="28195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16600" y="33526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328932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0560" y="247644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2E4-355A-48E0-B85E-1EB5F588DE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5880" y="1662120"/>
            <a:ext cx="148572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762440" y="36068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80640" y="39355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2760" y="3198960"/>
            <a:ext cx="18752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x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Insert(..., "y", 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3276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327672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3276720"/>
            <a:ext cx="228600" cy="152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762440" y="28195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82320" y="3208320"/>
            <a:ext cx="398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91040" y="3365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66400" y="3208320"/>
            <a:ext cx="398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91280" y="3371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0560" y="266688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97280" y="2421000"/>
            <a:ext cx="456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D8F-AE4A-4BB0-974C-291DD10664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5880" y="1662120"/>
            <a:ext cx="1485720" cy="179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2489040"/>
            <a:ext cx="457200" cy="330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483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248904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91040" y="257796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76244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762440" y="28195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80640" y="3147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25360" y="319248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09800" y="320040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26400" y="335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68520" y="2513160"/>
            <a:ext cx="20401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.local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Close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4800" y="273204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0560" y="332748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7280" y="2421000"/>
            <a:ext cx="456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572-6391-496B-BCF6-AE63F2973E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5880" y="1662120"/>
            <a:ext cx="1485720" cy="222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M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1701720"/>
            <a:ext cx="457200" cy="33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483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701720"/>
            <a:ext cx="228600" cy="152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91040" y="1790640"/>
            <a:ext cx="78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62440" y="2044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80640" y="23734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775040" y="16257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99080" y="16128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68520" y="2373480"/>
            <a:ext cx="20401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g.local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topScope.loca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.CloseSco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0560" y="3733920"/>
            <a:ext cx="25416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25360" y="319248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09800" y="3200400"/>
            <a:ext cx="39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26400" y="335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4800" y="2732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97280" y="2421000"/>
            <a:ext cx="456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1352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9672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97000" y="2421000"/>
            <a:ext cx="40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05680" y="2584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93120" y="1633680"/>
            <a:ext cx="497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81600" y="1633680"/>
            <a:ext cx="656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92800" y="178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40160" y="1633680"/>
            <a:ext cx="427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42200" y="1789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75760" y="15876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40720" y="17906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92920" y="2193840"/>
            <a:ext cx="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85000" y="2193840"/>
            <a:ext cx="2170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8155080" y="1944720"/>
            <a:ext cx="0" cy="24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2C0-EA8E-455D-A050-31986B0A5C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arching Names in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5960" y="130824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following method is called whenever a name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20320" y="1801800"/>
            <a:ext cx="2674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7760" y="4762440"/>
            <a:ext cx="7084440" cy="1968480"/>
            <a:chOff x="707760" y="4762440"/>
            <a:chExt cx="7084440" cy="1968480"/>
          </a:xfrm>
        </p:grpSpPr>
        <p:sp>
          <p:nvSpPr>
            <p:cNvPr id="487" name=""/>
            <p:cNvSpPr/>
            <p:nvPr/>
          </p:nvSpPr>
          <p:spPr>
            <a:xfrm>
              <a:off x="707760" y="4762440"/>
              <a:ext cx="49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f a name is not found the method returns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noS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1440" y="5141880"/>
              <a:ext cx="4100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edeclared dummy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tter th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because it avoids aftereffects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xcep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42800" y="5176800"/>
              <a:ext cx="589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18080" y="5176800"/>
              <a:ext cx="930960" cy="15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noSymbol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08240" y="5207040"/>
              <a:ext cx="62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1080" y="508968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oSy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68440" y="6563880"/>
              <a:ext cx="615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90880" y="64897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78160" y="567684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65320" y="5537160"/>
              <a:ext cx="69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81160" y="5516640"/>
              <a:ext cx="665280" cy="317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40520" y="2284560"/>
            <a:ext cx="7384320" cy="2465640"/>
            <a:chOff x="740520" y="2284560"/>
            <a:chExt cx="7384320" cy="2465640"/>
          </a:xfrm>
        </p:grpSpPr>
        <p:sp>
          <p:nvSpPr>
            <p:cNvPr id="499" name=""/>
            <p:cNvSpPr/>
            <p:nvPr/>
          </p:nvSpPr>
          <p:spPr>
            <a:xfrm>
              <a:off x="841680" y="2970360"/>
              <a:ext cx="50223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nam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Scope s = topScope; s != null; s = s.out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Symbol sym = s.locals; sym != null; sym = sym.nex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sym.name == name) return sy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.Error(name + " is undeclared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noSy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0520" y="2284560"/>
              <a:ext cx="523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okup starts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not found, the lookup is continued in the next outer 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18200" y="4152960"/>
              <a:ext cx="291960" cy="190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54920" y="4160880"/>
              <a:ext cx="149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48040" y="4160880"/>
              <a:ext cx="158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13680" y="4260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54840" y="4160880"/>
              <a:ext cx="149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13640" y="4251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25448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70280" y="42624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18200" y="3606840"/>
              <a:ext cx="291960" cy="190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57440" y="3614760"/>
              <a:ext cx="158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67120" y="3614760"/>
              <a:ext cx="1580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32760" y="3714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67800" y="3614760"/>
              <a:ext cx="1990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32720" y="3714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0160" y="370836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80200" y="3906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257880" y="37972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18200" y="3060720"/>
              <a:ext cx="291960" cy="190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44840" y="3068640"/>
              <a:ext cx="23436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26880" y="3068640"/>
              <a:ext cx="3700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h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89640" y="3168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10160" y="316224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257880" y="32511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270480" y="2984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9720" y="29718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257880" y="4343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99040" y="4567320"/>
              <a:ext cx="64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opSc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96240" y="3174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78C-9B0D-4BFF-ACB4-3D60E15A2B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143000" y="380988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AFA-EA53-4E9C-A71D-254793B1289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yp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1360" y="1231920"/>
            <a:ext cx="48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very object has a typ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the following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0600" y="1585800"/>
            <a:ext cx="484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ze (in Z# determined by meta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ucture (fields for classes, element type for arrays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08840" y="2374920"/>
            <a:ext cx="2458080" cy="1177920"/>
            <a:chOff x="708840" y="2374920"/>
            <a:chExt cx="2458080" cy="1177920"/>
          </a:xfrm>
        </p:grpSpPr>
        <p:sp>
          <p:nvSpPr>
            <p:cNvPr id="536" name=""/>
            <p:cNvSpPr/>
            <p:nvPr/>
          </p:nvSpPr>
          <p:spPr>
            <a:xfrm>
              <a:off x="708840" y="2374920"/>
              <a:ext cx="22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Kinds of types in Z#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0960" y="2728800"/>
              <a:ext cx="241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imitive types 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r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07760" y="3797280"/>
            <a:ext cx="4411440" cy="1945800"/>
            <a:chOff x="707760" y="3797280"/>
            <a:chExt cx="4411440" cy="1945800"/>
          </a:xfrm>
        </p:grpSpPr>
        <p:sp>
          <p:nvSpPr>
            <p:cNvPr id="539" name=""/>
            <p:cNvSpPr/>
            <p:nvPr/>
          </p:nvSpPr>
          <p:spPr>
            <a:xfrm>
              <a:off x="707760" y="3797280"/>
              <a:ext cx="423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ypes are represented by structure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2680" y="4303800"/>
              <a:ext cx="4196520" cy="1439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ruc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enum Kinds { None, Int, Char, Arr, Class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Kind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uc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lem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Arr: element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eld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lass: list of f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7B0-8DF8-4C8B-8DE5-DD9D31DCDE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Nodes for Primitive Typ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07760" y="142092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bjec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5200" y="3124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ructur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587920" y="1587600"/>
            <a:ext cx="393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108840" y="3441600"/>
            <a:ext cx="241200" cy="241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51920" y="4951440"/>
            <a:ext cx="54860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is just one structure node 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the whole symbol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symbols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ference thi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ame is true for structure nodes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286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86280" y="3657600"/>
            <a:ext cx="520560" cy="77472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74720"/>
              <a:gd name="textAreaBottom" fmla="*/ 745560 h 774720"/>
            </a:gdLst>
            <a:ahLst/>
            <a:rect l="textAreaLeft" t="textAreaTop" r="textAreaRight" b="textAreaBottom"/>
            <a:pathLst>
              <a:path w="21600" h="32139">
                <a:moveTo>
                  <a:pt x="4149" y="0"/>
                </a:moveTo>
                <a:arcTo wR="4149" hR="4149" stAng="16200000" swAng="-5400000"/>
                <a:lnTo>
                  <a:pt x="0" y="27990"/>
                </a:lnTo>
                <a:arcTo wR="4149" hR="4149" stAng="10800000" swAng="-5400000"/>
                <a:lnTo>
                  <a:pt x="17451" y="32139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11000" y="1407960"/>
            <a:ext cx="778320" cy="520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02240" y="141768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82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0508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2760" y="370368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35240" y="370368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050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14680" y="19000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7484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1792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504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7512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13480" y="3657600"/>
            <a:ext cx="520560" cy="77328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73280"/>
              <a:gd name="textAreaBottom" fmla="*/ 744120 h 773280"/>
            </a:gdLst>
            <a:ahLst/>
            <a:rect l="textAreaLeft" t="textAreaTop" r="textAreaRight" b="textAreaBottom"/>
            <a:pathLst>
              <a:path w="21600" h="32079">
                <a:moveTo>
                  <a:pt x="4149" y="0"/>
                </a:moveTo>
                <a:arcTo wR="4149" hR="4149" stAng="16200000" swAng="-5400000"/>
                <a:lnTo>
                  <a:pt x="0" y="27930"/>
                </a:lnTo>
                <a:arcTo wR="4149" hR="4149" stAng="10800000" swAng="-5400000"/>
                <a:lnTo>
                  <a:pt x="17451" y="32079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10960" y="3703680"/>
            <a:ext cx="51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32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0240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69B-D674-4D51-8CE8-11651088A2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Nodes for Array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47240" y="4951440"/>
            <a:ext cx="381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length of an array is statically unkn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is stored in the array at run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286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86280" y="3657600"/>
            <a:ext cx="520560" cy="74448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85">
                <a:moveTo>
                  <a:pt x="4149" y="0"/>
                </a:moveTo>
                <a:arcTo wR="4149" hR="4149" stAng="16200000" swAng="-5400000"/>
                <a:lnTo>
                  <a:pt x="0" y="26736"/>
                </a:lnTo>
                <a:arcTo wR="4149" hR="4149" stAng="10800000" swAng="-5400000"/>
                <a:lnTo>
                  <a:pt x="17451" y="30885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1000" y="1407960"/>
            <a:ext cx="669960" cy="520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02240" y="141768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8240" y="1417680"/>
            <a:ext cx="54648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2760" y="370368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35600" y="3703680"/>
            <a:ext cx="38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050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7484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0504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27480" y="40291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3657600"/>
            <a:ext cx="520920" cy="75564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26">
                <a:moveTo>
                  <a:pt x="4149" y="0"/>
                </a:moveTo>
                <a:arcTo wR="4149" hR="4149" stAng="16200000" swAng="-5400000"/>
                <a:lnTo>
                  <a:pt x="0" y="27177"/>
                </a:lnTo>
                <a:arcTo wR="4149" hR="4149" stAng="10800000" swAng="-5400000"/>
                <a:lnTo>
                  <a:pt x="17451" y="31326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54200" y="370368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21120" y="190512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70480" y="1905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8C5-7B8A-4618-B7E8-7A0F299A5C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Nodes for Clas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9360" y="4363920"/>
            <a:ext cx="511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29720" y="1417680"/>
            <a:ext cx="520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6280" y="3781440"/>
            <a:ext cx="520560" cy="7556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48">
                <a:moveTo>
                  <a:pt x="4149" y="0"/>
                </a:moveTo>
                <a:arcTo wR="4149" hR="4149" stAng="16200000" swAng="-5400000"/>
                <a:lnTo>
                  <a:pt x="0" y="27199"/>
                </a:lnTo>
                <a:arcTo wR="4149" hR="4149" stAng="10800000" swAng="-5400000"/>
                <a:lnTo>
                  <a:pt x="17451" y="31348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1360" y="1407960"/>
            <a:ext cx="877320" cy="1372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2240" y="141768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8240" y="1417680"/>
            <a:ext cx="62280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v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2760" y="38275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84120" y="382752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050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74840" y="19051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05040" y="208296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14880" y="438156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32520" y="3065400"/>
            <a:ext cx="520560" cy="74448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85">
                <a:moveTo>
                  <a:pt x="4149" y="0"/>
                </a:moveTo>
                <a:arcTo wR="4149" hR="4149" stAng="16200000" swAng="-5400000"/>
                <a:lnTo>
                  <a:pt x="0" y="26736"/>
                </a:lnTo>
                <a:arcTo wR="4149" hR="4149" stAng="10800000" swAng="-5400000"/>
                <a:lnTo>
                  <a:pt x="17451" y="30885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00560" y="310356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9236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92360" y="190512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72600" y="4363920"/>
            <a:ext cx="579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4520" y="4363920"/>
            <a:ext cx="511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42640" y="4363920"/>
            <a:ext cx="511560" cy="173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z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51360" y="50418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29480" y="50418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38760" y="48769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29480" y="487692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48769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9596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286680" y="384804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30260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295960" y="3772080"/>
            <a:ext cx="74916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6540120" y="3772080"/>
            <a:ext cx="7621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0F1-CF59-4940-BBE4-24B8D8C52E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as a Linear Lis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0000" y="12574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iven the following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3200" y="1738440"/>
            <a:ext cx="1459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8920" y="295920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e get the following linea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27600" y="3327480"/>
            <a:ext cx="559080" cy="3254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2880" y="303372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declared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is a Symbol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1000" y="4164120"/>
            <a:ext cx="6490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claration order is retained (important if addresses are assigned only la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ow if there are many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0720" y="5283360"/>
            <a:ext cx="5758920" cy="1349640"/>
            <a:chOff x="720720" y="5283360"/>
            <a:chExt cx="5758920" cy="1349640"/>
          </a:xfrm>
        </p:grpSpPr>
        <p:sp>
          <p:nvSpPr>
            <p:cNvPr id="62" name=""/>
            <p:cNvSpPr/>
            <p:nvPr/>
          </p:nvSpPr>
          <p:spPr>
            <a:xfrm>
              <a:off x="720720" y="52833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asic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18440" y="5686560"/>
              <a:ext cx="546120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Tab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ymbol.Kinds kind, string name, ...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Symb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nam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82080" y="3484440"/>
            <a:ext cx="61092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2760" y="347508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0840" y="373680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93880" y="34750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81400" y="37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4280" y="34750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32080" y="37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4680" y="34750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2480" y="37368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9960" y="347508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43520" y="373680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7D3-34E3-4CC2-A5CB-42BB0CC4B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Type Compatibility: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Name Equivalen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5200" y="1382760"/>
            <a:ext cx="55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wo types are equal if they are represented by the same typ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if they are denoted by the same typ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0960" y="4659480"/>
            <a:ext cx="67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 equivalence is used in Java, C/C++/C#, Pascal, ..., Z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cep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C# (and Z#) two array types are the same if they have the same element typ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7040" y="2271600"/>
            <a:ext cx="1168200" cy="733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2000" y="2255760"/>
            <a:ext cx="484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16480" y="225576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50040" y="224640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22560" y="3454560"/>
            <a:ext cx="520920" cy="74448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64">
                <a:moveTo>
                  <a:pt x="4149" y="0"/>
                </a:moveTo>
                <a:arcTo wR="4149" hR="4149" stAng="16200000" swAng="-5400000"/>
                <a:lnTo>
                  <a:pt x="0" y="26715"/>
                </a:lnTo>
                <a:arcTo wR="4149" hR="4149" stAng="10800000" swAng="-5400000"/>
                <a:lnTo>
                  <a:pt x="17451" y="30864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11040" y="350028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1600" y="2768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13000" y="276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94040" y="276876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1632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73320" y="23875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02200" y="238752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0480" y="2768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5788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35434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9D5-89A5-4438-8E39-836ACE0A24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Type Compatibility: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Structural Equivalen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2040" y="1382760"/>
            <a:ext cx="54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wo types are the same if they have the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m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the same fields of the same types, the same element type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5560" y="5599080"/>
            <a:ext cx="69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equal (but not in Z#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uctural equivalence is used in Modula-3 but not in Z# and most other languag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880" y="2271600"/>
            <a:ext cx="1704600" cy="946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1 { int a, b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T2 { int c, d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1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2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98000" y="2255760"/>
            <a:ext cx="5205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T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64240" y="225576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x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27480" y="3454560"/>
            <a:ext cx="520560" cy="68580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685800"/>
              <a:gd name="textAreaBottom" fmla="*/ 656640 h 685800"/>
            </a:gdLst>
            <a:ahLst/>
            <a:rect l="textAreaLeft" t="textAreaTop" r="textAreaRight" b="textAreaBottom"/>
            <a:pathLst>
              <a:path w="21600" h="28452">
                <a:moveTo>
                  <a:pt x="4149" y="0"/>
                </a:moveTo>
                <a:arcTo wR="4149" hR="4149" stAng="16200000" swAng="-5400000"/>
                <a:lnTo>
                  <a:pt x="0" y="24303"/>
                </a:lnTo>
                <a:arcTo wR="4149" hR="4149" stAng="10800000" swAng="-5400000"/>
                <a:lnTo>
                  <a:pt x="17451" y="28452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25680" y="3500280"/>
            <a:ext cx="5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56120" y="276876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17920" y="276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48280" y="276876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6876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25760" y="23875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47680" y="3581280"/>
            <a:ext cx="70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8096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0968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13320" y="401328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52920" y="40132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97040" y="2255760"/>
            <a:ext cx="484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T2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32680" y="2255760"/>
            <a:ext cx="58680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y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65760" y="3454560"/>
            <a:ext cx="520920" cy="69660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696600"/>
              <a:gd name="textAreaBottom" fmla="*/ 667440 h 696600"/>
            </a:gdLst>
            <a:ahLst/>
            <a:rect l="textAreaLeft" t="textAreaTop" r="textAreaRight" b="textAreaBottom"/>
            <a:pathLst>
              <a:path w="21600" h="28880">
                <a:moveTo>
                  <a:pt x="4149" y="0"/>
                </a:moveTo>
                <a:arcTo wR="4149" hR="4149" stAng="16200000" swAng="-5400000"/>
                <a:lnTo>
                  <a:pt x="0" y="24731"/>
                </a:lnTo>
                <a:arcTo wR="4149" hR="4149" stAng="10800000" swAng="-5400000"/>
                <a:lnTo>
                  <a:pt x="17451" y="28880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63600" y="350028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53000" y="27687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56200" y="276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96200" y="276876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50160" y="276876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88080" y="238752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6286680" y="358128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1924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38240" y="3894120"/>
            <a:ext cx="475560" cy="80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43680" y="4013280"/>
            <a:ext cx="4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00920" y="40132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54640" y="238752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65760" y="4863960"/>
            <a:ext cx="520920" cy="75564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26">
                <a:moveTo>
                  <a:pt x="4149" y="0"/>
                </a:moveTo>
                <a:arcTo wR="4149" hR="4149" stAng="16200000" swAng="-5400000"/>
                <a:lnTo>
                  <a:pt x="0" y="27177"/>
                </a:lnTo>
                <a:arcTo wR="4149" hR="4149" stAng="10800000" swAng="-5400000"/>
                <a:lnTo>
                  <a:pt x="17451" y="31326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49640" y="491004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21080" y="43941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1168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53040" y="439416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2456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11680" y="5016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51800" y="43941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16292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05720" y="439416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7544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286320" y="5003640"/>
            <a:ext cx="168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087-19A2-4521-A394-39B649864A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Methods for Checking Type Compatibility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9560" y="1395360"/>
            <a:ext cx="18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3520" y="1263600"/>
            <a:ext cx="7845840" cy="5073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Struc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hecks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, if two types are compatible (e.g. in comparis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ompatibleWit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uct othe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.Equals(other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 == Tab.nullType &amp;&amp; other.IsRefType(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ther == Tab.nullType &amp;&amp; this.isRefTy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hecks, if this can be assigned to d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ssignableTo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uct des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.Equals(dest) ||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is == Tab.nullType &amp;&amp; dest.IsRefType(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 == Kinds.Arr &amp;&amp; dest.kind == Kinds.Arr &amp;&amp; dest.elemType == Tab.obj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checks, if two types are equal (structural equivalence for array, name equivalence otherwi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Equals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uct othe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kind == Kinds.Ar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other.kind == Kinds.Arr &amp;&amp; elemType.Equals(other.elem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other == thi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ool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IsRef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return kind == Kinds.Class || kind = Kinds.Arr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280"/>
                <a:tab algn="l" pos="357120"/>
                <a:tab algn="l" pos="536400"/>
                <a:tab algn="l" pos="716040"/>
                <a:tab algn="l" pos="89388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79320" y="4145040"/>
            <a:ext cx="3349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cessary for standard function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n(ar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 rot="16200000">
            <a:off x="4738680" y="949320"/>
            <a:ext cx="139680" cy="6220080"/>
          </a:xfrm>
          <a:custGeom>
            <a:avLst/>
            <a:gdLst>
              <a:gd name="textAreaLeft" fmla="*/ 89280 w 139680"/>
              <a:gd name="textAreaRight" fmla="*/ 140040 w 139680"/>
              <a:gd name="textAreaTop" fmla="*/ 162000 h 6220080"/>
              <a:gd name="textAreaBottom" fmla="*/ 6058080 h 622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278"/>
                </a:lnTo>
                <a:cubicBezTo>
                  <a:pt x="10800" y="6178"/>
                  <a:pt x="5400" y="7078"/>
                  <a:pt x="0" y="7078"/>
                </a:cubicBezTo>
                <a:cubicBezTo>
                  <a:pt x="5400" y="7078"/>
                  <a:pt x="10800" y="7978"/>
                  <a:pt x="10800" y="887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CCC-CC68-46B5-8D86-005FE6669C2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Solving LL(1) Conflicts with the Symbol Table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9920" y="130644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ethod syntax in Z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47600" y="1776240"/>
            <a:ext cx="107532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o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0; 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851640" y="1306440"/>
            <a:ext cx="4542120" cy="3849120"/>
            <a:chOff x="3851640" y="1306440"/>
            <a:chExt cx="4542120" cy="3849120"/>
          </a:xfrm>
        </p:grpSpPr>
        <p:sp>
          <p:nvSpPr>
            <p:cNvPr id="684" name=""/>
            <p:cNvSpPr/>
            <p:nvPr/>
          </p:nvSpPr>
          <p:spPr>
            <a:xfrm>
              <a:off x="3853440" y="1306440"/>
              <a:ext cx="340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ctually we are used to write it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96440" y="1776240"/>
              <a:ext cx="116208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oo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0; 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51640" y="2944800"/>
              <a:ext cx="35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ut this would result in an LL(1) confli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90680" y="3782880"/>
              <a:ext cx="366300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ock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VarDecl | Statement } "}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rDecl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ident { ","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[ "[" "]"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 "." ident | "[" Expr "]"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38680" y="3772080"/>
              <a:ext cx="1663920" cy="291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20320" y="3346560"/>
              <a:ext cx="36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arDecl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86680" y="3606480"/>
              <a:ext cx="164880" cy="165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F2F-7264-4388-BD15-0CA026CA77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Solving the Conflict With Semantic Information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43600" y="1558800"/>
            <a:ext cx="3211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 = "{" { VarDecl | Statement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5880" y="1509840"/>
            <a:ext cx="3849480" cy="265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extTokenIsType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VarDec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Statement)) 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rbrace, eof})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("...");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reco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5880" y="4264200"/>
            <a:ext cx="384480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TokenIs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!= ident) return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sym = Tab.Find(laToken.st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sym.kind == Symbol.Kinds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500-7689-4018-BF92-42D407AC9B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43000" y="422928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D81-1924-4BA8-A242-BAC1F800FC2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the "universe"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5143680"/>
            <a:ext cx="520560" cy="7538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3840"/>
              <a:gd name="textAreaBottom" fmla="*/ 724680 h 753840"/>
            </a:gdLst>
            <a:ahLst/>
            <a:rect l="textAreaLeft" t="textAreaTop" r="textAreaRight" b="textAreaBottom"/>
            <a:pathLst>
              <a:path w="21600" h="31273">
                <a:moveTo>
                  <a:pt x="4149" y="0"/>
                </a:moveTo>
                <a:arcTo wR="4149" hR="4149" stAng="16200000" swAng="-5400000"/>
                <a:lnTo>
                  <a:pt x="0" y="27124"/>
                </a:lnTo>
                <a:arcTo wR="4149" hR="4149" stAng="10800000" swAng="-5400000"/>
                <a:lnTo>
                  <a:pt x="17451" y="31273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4400" y="1481040"/>
            <a:ext cx="58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L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902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in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54600" y="1481040"/>
            <a:ext cx="54864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ha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7640" y="1481040"/>
            <a:ext cx="5439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nul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748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h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576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or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82840" y="1481040"/>
            <a:ext cx="4845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l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90640" y="1612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22720" y="3322800"/>
            <a:ext cx="38232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91840" y="3341520"/>
            <a:ext cx="41292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ch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03360" y="3332160"/>
            <a:ext cx="43740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ar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17840" y="288288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05320" y="288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26200" y="288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52480" y="5143680"/>
            <a:ext cx="520920" cy="74448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44480"/>
              <a:gd name="textAreaBottom" fmla="*/ 715320 h 744480"/>
            </a:gdLst>
            <a:ahLst/>
            <a:rect l="textAreaLeft" t="textAreaTop" r="textAreaRight" b="textAreaBottom"/>
            <a:pathLst>
              <a:path w="21600" h="30864">
                <a:moveTo>
                  <a:pt x="4149" y="0"/>
                </a:moveTo>
                <a:arcTo wR="4149" hR="4149" stAng="16200000" swAng="-5400000"/>
                <a:lnTo>
                  <a:pt x="0" y="26715"/>
                </a:lnTo>
                <a:arcTo wR="4149" hR="4149" stAng="10800000" swAng="-5400000"/>
                <a:lnTo>
                  <a:pt x="17451" y="30864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01800" y="5189400"/>
            <a:ext cx="35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05040" y="1612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25920" y="161280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5520" y="161280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37160" y="161280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31800" y="1994040"/>
            <a:ext cx="3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1994040"/>
            <a:ext cx="0" cy="31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79840" y="5143680"/>
            <a:ext cx="520560" cy="7556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5640"/>
              <a:gd name="textAreaBottom" fmla="*/ 726480 h 755640"/>
            </a:gdLst>
            <a:ahLst/>
            <a:rect l="textAreaLeft" t="textAreaTop" r="textAreaRight" b="textAreaBottom"/>
            <a:pathLst>
              <a:path w="21600" h="31348">
                <a:moveTo>
                  <a:pt x="4149" y="0"/>
                </a:moveTo>
                <a:arcTo wR="4149" hR="4149" stAng="16200000" swAng="-5400000"/>
                <a:lnTo>
                  <a:pt x="0" y="27199"/>
                </a:lnTo>
                <a:arcTo wR="4149" hR="4149" stAng="10800000" swAng="-5400000"/>
                <a:lnTo>
                  <a:pt x="17451" y="31348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02520" y="5199120"/>
            <a:ext cx="51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21000" y="20034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06560" y="2014560"/>
            <a:ext cx="0" cy="31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81280" y="5143680"/>
            <a:ext cx="520920" cy="745920"/>
          </a:xfrm>
          <a:custGeom>
            <a:avLst/>
            <a:gdLst>
              <a:gd name="textAreaLeft" fmla="*/ 29160 w 520920"/>
              <a:gd name="textAreaRight" fmla="*/ 491760 w 520920"/>
              <a:gd name="textAreaTop" fmla="*/ 29160 h 745920"/>
              <a:gd name="textAreaBottom" fmla="*/ 716760 h 745920"/>
            </a:gdLst>
            <a:ahLst/>
            <a:rect l="textAreaLeft" t="textAreaTop" r="textAreaRight" b="textAreaBottom"/>
            <a:pathLst>
              <a:path w="21600" h="30923">
                <a:moveTo>
                  <a:pt x="4149" y="0"/>
                </a:moveTo>
                <a:arcTo wR="4149" hR="4149" stAng="16200000" swAng="-5400000"/>
                <a:lnTo>
                  <a:pt x="0" y="26774"/>
                </a:lnTo>
                <a:arcTo wR="4149" hR="4149" stAng="10800000" swAng="-5400000"/>
                <a:lnTo>
                  <a:pt x="17451" y="30923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79480" y="518940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343320" y="200340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59120" y="200664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84480" y="20034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984120" y="2003400"/>
            <a:ext cx="180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920680" y="3098880"/>
            <a:ext cx="10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21040" y="309888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02120" y="200340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98880" y="2003400"/>
            <a:ext cx="0" cy="11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981080" y="3174840"/>
            <a:ext cx="386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81080" y="3174840"/>
            <a:ext cx="0" cy="19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45320" y="200340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42080" y="2006640"/>
            <a:ext cx="0" cy="11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082600" y="3822840"/>
            <a:ext cx="22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82960" y="3822840"/>
            <a:ext cx="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022200" y="3898440"/>
            <a:ext cx="228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22560" y="389880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24560" y="5143680"/>
            <a:ext cx="520560" cy="75384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3840"/>
              <a:gd name="textAreaBottom" fmla="*/ 724680 h 753840"/>
            </a:gdLst>
            <a:ahLst/>
            <a:rect l="textAreaLeft" t="textAreaTop" r="textAreaRight" b="textAreaBottom"/>
            <a:pathLst>
              <a:path w="21600" h="31273">
                <a:moveTo>
                  <a:pt x="4149" y="0"/>
                </a:moveTo>
                <a:arcTo wR="4149" hR="4149" stAng="16200000" swAng="-5400000"/>
                <a:lnTo>
                  <a:pt x="0" y="27124"/>
                </a:lnTo>
                <a:arcTo wR="4149" hR="4149" stAng="10800000" swAng="-5400000"/>
                <a:lnTo>
                  <a:pt x="17451" y="31273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596200" y="5189400"/>
            <a:ext cx="38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791320" y="382284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91320" y="382284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24920" y="1481040"/>
            <a:ext cx="930960" cy="153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"noSymbo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18120" y="518940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7200720" y="200988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191360" y="2014560"/>
            <a:ext cx="9720" cy="312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895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98108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86880" y="6049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int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94624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87600" y="60498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char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88620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080" y="6049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null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188120" y="5886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31000" y="604980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n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4340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98880" y="1027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chr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28336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38480" y="10270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ord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9776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53600" y="10270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len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83560" y="13111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22840" y="10270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noS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48960" y="518940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m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42040" y="5149800"/>
            <a:ext cx="520560" cy="754200"/>
          </a:xfrm>
          <a:custGeom>
            <a:avLst/>
            <a:gdLst>
              <a:gd name="textAreaLeft" fmla="*/ 29160 w 520560"/>
              <a:gd name="textAreaRight" fmla="*/ 491400 w 520560"/>
              <a:gd name="textAreaTop" fmla="*/ 29160 h 754200"/>
              <a:gd name="textAreaBottom" fmla="*/ 725040 h 754200"/>
            </a:gdLst>
            <a:ahLst/>
            <a:rect l="textAreaLeft" t="textAreaTop" r="textAreaRight" b="textAreaBottom"/>
            <a:pathLst>
              <a:path w="21600" h="31288">
                <a:moveTo>
                  <a:pt x="4149" y="0"/>
                </a:moveTo>
                <a:arcTo wR="4149" hR="4149" stAng="16200000" swAng="-5400000"/>
                <a:lnTo>
                  <a:pt x="0" y="27139"/>
                </a:lnTo>
                <a:arcTo wR="4149" hR="4149" stAng="10800000" swAng="-5400000"/>
                <a:lnTo>
                  <a:pt x="17451" y="31288"/>
                </a:lnTo>
                <a:arcTo wR="4149" hR="4149" stAng="5400000" swAng="-5400000"/>
                <a:lnTo>
                  <a:pt x="21600" y="4149"/>
                </a:lnTo>
                <a:arcTo wR="4149" hR="4149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207120" y="5195880"/>
            <a:ext cx="5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496200" y="58928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139080" y="605628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ff0000"/>
                </a:solidFill>
                <a:latin typeface="Times New Roman"/>
              </a:rPr>
              <a:t>obj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971-0543-49D2-ACB7-0F240BB26B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Symbol 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81720" y="1293840"/>
            <a:ext cx="6047640" cy="394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urrent top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predefine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ar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ll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r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predefined symb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rd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n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Sy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ymbol.Kinds kind, string name, Struct typ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penScop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loseScop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i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builds the universe and initializes T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432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074-1895-49AC-B4F6-DC0D89BE8EF0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as a Binary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1800" y="12574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3200" y="1738440"/>
            <a:ext cx="1459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1080" y="295920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sulting binary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2640" y="3656160"/>
            <a:ext cx="359460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can degenerate unless 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larger memory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declaration order is 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useful if there are many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28240" y="5135400"/>
            <a:ext cx="61092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8880" y="352260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20720" y="436392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7160" y="513540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9360" y="513540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22040" y="433548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438200" y="4861080"/>
            <a:ext cx="1778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49560" y="4870440"/>
            <a:ext cx="1522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40240" y="4842000"/>
            <a:ext cx="17784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146320" y="4027320"/>
            <a:ext cx="49680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2480" y="4021200"/>
            <a:ext cx="531720" cy="3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2AF-DD98-43CD-A61B-6A18C8308AA5}" type="slidenum">
              <a:t>4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as a Hashtab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1800" y="12574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3200" y="1738440"/>
            <a:ext cx="1459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2880" y="29592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sulting hash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38360" y="3656160"/>
            <a:ext cx="310824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more complicated than a linear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 declaration order is l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4000" y="5294160"/>
            <a:ext cx="389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our purposes a linear list is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scope is a list of its own any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cope has hardly more than 10 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8640" y="4929120"/>
            <a:ext cx="61092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8640" y="359892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9000" y="424980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19000" y="557064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89120" y="5573880"/>
            <a:ext cx="5302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8120" y="4249800"/>
            <a:ext cx="54108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2240" y="3543480"/>
            <a:ext cx="29196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92240" y="4203720"/>
            <a:ext cx="29196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2240" y="4863960"/>
            <a:ext cx="291960" cy="6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2240" y="5524560"/>
            <a:ext cx="29196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44520" y="38606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4520" y="45086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44520" y="518148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4520" y="582948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47840" y="58294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45115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1080" y="368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1080" y="4367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1080" y="50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1080" y="5675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6D5-E385-45C0-B927-D8A02FCDE258}" type="slidenum">
              <a:t>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920" y="1835280"/>
            <a:ext cx="28598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2B4-7791-4B76-B9F2-887CE6B49E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Nod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20" y="111600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declared name is stored in a Symbol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960" y="158760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Kinds of symbols in Z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5800" y="1903320"/>
            <a:ext cx="1877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06440" y="1814400"/>
            <a:ext cx="174888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Kind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lob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el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et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7240" y="4044960"/>
            <a:ext cx="8062200" cy="2356560"/>
            <a:chOff x="687240" y="4044960"/>
            <a:chExt cx="8062200" cy="2356560"/>
          </a:xfrm>
        </p:grpSpPr>
        <p:sp>
          <p:nvSpPr>
            <p:cNvPr id="126" name=""/>
            <p:cNvSpPr/>
            <p:nvPr/>
          </p:nvSpPr>
          <p:spPr>
            <a:xfrm>
              <a:off x="759240" y="4044960"/>
              <a:ext cx="43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information is needed about object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240" y="4360680"/>
              <a:ext cx="80622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all symbol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, type structure, symbol kind, pointer to the nex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constan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method argumen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 (= order of declar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local variabl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ddress (= order of declar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method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umber of arguments and local variables, 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l symbols (args + local v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program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lobal symbols (= local to the progra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2693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global vars, fields, typ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464-EB4F-41E4-8B40-01ECA9A89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ossible Object-oriented Architectur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2200" y="11811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ossible class hierarchy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95880" y="4011480"/>
            <a:ext cx="6557040" cy="1327680"/>
            <a:chOff x="695880" y="4011480"/>
            <a:chExt cx="6557040" cy="1327680"/>
          </a:xfrm>
        </p:grpSpPr>
        <p:sp>
          <p:nvSpPr>
            <p:cNvPr id="131" name=""/>
            <p:cNvSpPr/>
            <p:nvPr/>
          </p:nvSpPr>
          <p:spPr>
            <a:xfrm>
              <a:off x="695880" y="4011480"/>
              <a:ext cx="65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owever, this is too complicated because it would require too many type ca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83160" y="4392720"/>
              <a:ext cx="415224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ymbol sym = Tab.Find("x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sym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rgument) (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rgu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sym).adr = ...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sym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Method) (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Metho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sym).nArgs = ...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13000" y="5443560"/>
            <a:ext cx="76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fore we choose a "flat implementation": all information is stored in a single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ok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tensibility is not required: we never need to add new object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do not need dynamically bound metho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31840" y="1655640"/>
            <a:ext cx="73224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0400" y="193032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6880" y="2979720"/>
            <a:ext cx="84060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840" y="3254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2440" y="2979720"/>
            <a:ext cx="66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32280" y="2979720"/>
            <a:ext cx="546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77760" y="2979720"/>
            <a:ext cx="72180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Ar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V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0560" y="325440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3660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0044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32040" y="2825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44816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98160" y="2816280"/>
            <a:ext cx="5413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25960" y="2530440"/>
            <a:ext cx="152280" cy="139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301920" y="2665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5480" y="2981160"/>
            <a:ext cx="90000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71960" y="3252960"/>
            <a:ext cx="89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9000" y="2981160"/>
            <a:ext cx="80856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03960" y="3236760"/>
            <a:ext cx="81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1960" y="2982960"/>
            <a:ext cx="579960" cy="4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62320" y="3257640"/>
            <a:ext cx="5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16880" y="2825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8520" y="2825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05520" y="28224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30440" y="2976480"/>
            <a:ext cx="5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35600" y="2823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EE3-99B6-45A1-836E-50F4E0ACB356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 Symbol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240" y="1122480"/>
            <a:ext cx="7404480" cy="271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num Kinds { Const, Global, Field, Arg, Local, Type, Meth, Prog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onst: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Arg, Local: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rg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eth: number of arg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Loc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eth: number of loc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eth: parameters &amp; local variables; Prog: symbol table of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96960" y="4124160"/>
            <a:ext cx="8207280" cy="2283120"/>
            <a:chOff x="696960" y="4124160"/>
            <a:chExt cx="8207280" cy="2283120"/>
          </a:xfrm>
        </p:grpSpPr>
        <p:sp>
          <p:nvSpPr>
            <p:cNvPr id="163" name=""/>
            <p:cNvSpPr/>
            <p:nvPr/>
          </p:nvSpPr>
          <p:spPr>
            <a:xfrm>
              <a:off x="3062880" y="4221000"/>
              <a:ext cx="5799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n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5360" y="4516560"/>
              <a:ext cx="170316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1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...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M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, int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 </a:t>
              </a:r>
              <a:r>
                <a:rPr b="1" lang="de-AT" sz="14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...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47640" y="4221000"/>
              <a:ext cx="589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k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Ar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Lo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349800" y="4708080"/>
              <a:ext cx="44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99800" y="4221000"/>
              <a:ext cx="5205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T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25880" y="4708440"/>
              <a:ext cx="45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87400" y="4221000"/>
              <a:ext cx="62280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a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2440" y="47084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2760" y="4221000"/>
              <a:ext cx="62280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b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59480" y="470844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2080" y="4221000"/>
              <a:ext cx="52056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e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M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86680" y="566748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4560" y="4846680"/>
              <a:ext cx="41832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x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61120" y="470844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5720" y="46450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5410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960" y="4124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42120" y="4853160"/>
              <a:ext cx="54648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ch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9640" y="54118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04240" y="53481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120" y="4853160"/>
              <a:ext cx="41832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"y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3200" y="541656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C5A-7DA2-4AE3-AA4D-95E661D76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8T16:49:44Z</dcterms:modified>
  <cp:revision>532</cp:revision>
  <dc:subject/>
  <dc:title>Javascript-Anweisungen</dc:title>
</cp:coreProperties>
</file>