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D22-FBC7-43F8-B0FC-A001A0B0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F67-2B72-45F8-9B7F-9F1B06DE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D9D-D968-439A-8C9A-9ACC2076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334-7229-42D2-9E4B-37CB1642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8DA-06EA-4EAE-B170-45345B22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BF7-B67A-4847-BF4A-DF43CA84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6CC-BFCF-4281-AEF6-6EAE56B4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513-108C-452B-BE45-AB7ABF5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F90-0CE5-4DB9-8F76-903409F1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AC3-3AE9-44A6-B71D-2224B6F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4B3-BB45-47E0-AB7B-75183D18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16F-8A51-4C2F-B85A-5C30EF7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EAD4-6681-4A82-A9E2-C295DAFC49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6560" y="299736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4240" y="1149480"/>
            <a:ext cx="627228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5520" y="1755720"/>
            <a:ext cx="303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anspeter Mössenbö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University of Li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tp://ssw.jku.at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EA0-4B67-4A9D-9B6A-333993DF22B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-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iler Compiler /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Recursive Descent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2360" y="1598760"/>
            <a:ext cx="69062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a scanner and a parser from an attributed gramma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as a deterministic finite automaton (DFA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ursive descent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veloped at the University of Linz (Aust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are versions for C#, Java, C/C++, VB.NET, Delphi, Modula-2, Oberon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nu GPL open source: http://ssw.jku.at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2160" y="1206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22160" y="3517920"/>
            <a:ext cx="7158960" cy="2585520"/>
            <a:chOff x="722160" y="3517920"/>
            <a:chExt cx="7158960" cy="2585520"/>
          </a:xfrm>
        </p:grpSpPr>
        <p:sp>
          <p:nvSpPr>
            <p:cNvPr id="257" name=""/>
            <p:cNvSpPr/>
            <p:nvPr/>
          </p:nvSpPr>
          <p:spPr>
            <a:xfrm>
              <a:off x="3924360" y="5232240"/>
              <a:ext cx="86364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38760" y="4597560"/>
              <a:ext cx="8636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2160" y="35179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How it wo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2800" y="4595760"/>
              <a:ext cx="8024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0000" y="4749840"/>
              <a:ext cx="406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45600" y="52308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51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78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11480" y="45957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76280" y="40114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38760" y="4013280"/>
              <a:ext cx="863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49276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422240" y="4915080"/>
              <a:ext cx="5050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320" y="4927680"/>
              <a:ext cx="46188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43434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65640" y="4749840"/>
              <a:ext cx="1320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65640" y="4826160"/>
              <a:ext cx="19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56080" y="4826160"/>
              <a:ext cx="0" cy="546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56080" y="5372280"/>
              <a:ext cx="291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29040" y="5522760"/>
              <a:ext cx="18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-supplied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symbol ta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07240" y="4000680"/>
              <a:ext cx="88920" cy="15620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40680 h 1562040"/>
                <a:gd name="textAreaBottom" fmla="*/ 152136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48440" y="47750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41200" y="4595760"/>
              <a:ext cx="439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03680" y="4443480"/>
              <a:ext cx="95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493-7688-4F7A-BEFA-739E011A9A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Very Simple 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3720" y="1333440"/>
            <a:ext cx="66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ssume that we want to parse one of the following two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5240" y="1749600"/>
            <a:ext cx="29955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ed 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93000" y="4280040"/>
            <a:ext cx="5427720" cy="1589760"/>
            <a:chOff x="693000" y="4280040"/>
            <a:chExt cx="5427720" cy="1589760"/>
          </a:xfrm>
        </p:grpSpPr>
        <p:sp>
          <p:nvSpPr>
            <p:cNvPr id="285" name=""/>
            <p:cNvSpPr/>
            <p:nvPr/>
          </p:nvSpPr>
          <p:spPr>
            <a:xfrm>
              <a:off x="693000" y="4280040"/>
              <a:ext cx="542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 invoke Coco/R to generate a scanner and a 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52640" y="4710240"/>
              <a:ext cx="4417920" cy="115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oco/R (Aug 22, 200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hec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parser + scanner gene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0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065240" y="2117880"/>
            <a:ext cx="29955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93360" y="2577960"/>
            <a:ext cx="3420000" cy="1254960"/>
            <a:chOff x="693360" y="2577960"/>
            <a:chExt cx="3420000" cy="1254960"/>
          </a:xfrm>
        </p:grpSpPr>
        <p:sp>
          <p:nvSpPr>
            <p:cNvPr id="289" name=""/>
            <p:cNvSpPr/>
            <p:nvPr/>
          </p:nvSpPr>
          <p:spPr>
            <a:xfrm>
              <a:off x="693360" y="2577960"/>
              <a:ext cx="24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 write a grammar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55520" y="3525840"/>
              <a:ext cx="30578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"red" "apple" | "orang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55520" y="2577960"/>
            <a:ext cx="6909480" cy="1465560"/>
            <a:chOff x="1055520" y="2577960"/>
            <a:chExt cx="6909480" cy="1465560"/>
          </a:xfrm>
        </p:grpSpPr>
        <p:sp>
          <p:nvSpPr>
            <p:cNvPr id="292" name=""/>
            <p:cNvSpPr/>
            <p:nvPr/>
          </p:nvSpPr>
          <p:spPr>
            <a:xfrm>
              <a:off x="1055520" y="3097080"/>
              <a:ext cx="305784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"red" "apple" | "orang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15880" y="308448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ample.a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6320" y="2577960"/>
              <a:ext cx="491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nd embed it into a Coco/R compiler 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452-AFF5-4B72-9365-301995A4DB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Very Simple 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7440" y="119376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We write a mai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71000" y="1662120"/>
            <a:ext cx="4946040" cy="214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mp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[] arg)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 scanner = new Scanner(arg[0])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 parser = new Parser(scann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Par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(parser.errors.count + " errors det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66720" y="3797280"/>
            <a:ext cx="4803840" cy="699120"/>
            <a:chOff x="666720" y="3797280"/>
            <a:chExt cx="4803840" cy="699120"/>
          </a:xfrm>
        </p:grpSpPr>
        <p:sp>
          <p:nvSpPr>
            <p:cNvPr id="299" name=""/>
            <p:cNvSpPr/>
            <p:nvPr/>
          </p:nvSpPr>
          <p:spPr>
            <a:xfrm>
              <a:off x="666720" y="3797280"/>
              <a:ext cx="25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We compile everything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2640" y="4189320"/>
              <a:ext cx="44179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sc Compile.cs Scanner.cs Parse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68520" y="4838760"/>
            <a:ext cx="6435000" cy="912240"/>
            <a:chOff x="668520" y="4838760"/>
            <a:chExt cx="6435000" cy="912240"/>
          </a:xfrm>
        </p:grpSpPr>
        <p:sp>
          <p:nvSpPr>
            <p:cNvPr id="302" name=""/>
            <p:cNvSpPr/>
            <p:nvPr/>
          </p:nvSpPr>
          <p:spPr>
            <a:xfrm>
              <a:off x="668520" y="483876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... and run 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2640" y="5230800"/>
              <a:ext cx="4417920" cy="5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mpile Input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0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28560" y="5230800"/>
              <a:ext cx="9244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 ap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19840" y="487512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138000" y="1967040"/>
            <a:ext cx="2256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 the 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rt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port number of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B00-6D69-46B8-A497-32FADA1F4A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819680" y="1809720"/>
            <a:ext cx="2047680" cy="561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5160" y="1289160"/>
            <a:ext cx="3493800" cy="5149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.kind == 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ect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la.kind == 3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SynErr(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 // lookahea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 = Scanner.Scan();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.kind == n) Get(); else SynErr(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38160" y="13622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75760" y="1808280"/>
            <a:ext cx="212616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424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d"  "appl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1424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orange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91120" y="1657440"/>
            <a:ext cx="181080" cy="180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9400" y="147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581880" y="1657440"/>
            <a:ext cx="180720" cy="180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70160" y="147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990760" y="2371320"/>
            <a:ext cx="181080" cy="181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9400" y="2494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66080" y="1360440"/>
            <a:ext cx="1888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oken c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turned by the sc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844-7ACE-4133-B56D-163CF3E1B6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Slightly Larger 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3680" y="120636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e simple arithmetic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5240" y="1622520"/>
            <a:ext cx="23860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calc  34 + 2 +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calc  2 + 10 + 123 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44400" y="2463840"/>
            <a:ext cx="4323240" cy="3201840"/>
            <a:chOff x="644400" y="2463840"/>
            <a:chExt cx="4323240" cy="3201840"/>
          </a:xfrm>
        </p:grpSpPr>
        <p:sp>
          <p:nvSpPr>
            <p:cNvPr id="323" name=""/>
            <p:cNvSpPr/>
            <p:nvPr/>
          </p:nvSpPr>
          <p:spPr>
            <a:xfrm>
              <a:off x="644400" y="2463840"/>
              <a:ext cx="297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co/R compiler 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8400" y="2894040"/>
              <a:ext cx="2212200" cy="27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= '0'..'9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 = digit {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GNORE '\r' + '\n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{"calc" Expr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Term {'+' Term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= numb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7160" y="288144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ample.a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029960" y="5815080"/>
            <a:ext cx="7148160" cy="784080"/>
            <a:chOff x="1029960" y="5815080"/>
            <a:chExt cx="7148160" cy="784080"/>
          </a:xfrm>
        </p:grpSpPr>
        <p:sp>
          <p:nvSpPr>
            <p:cNvPr id="327" name=""/>
            <p:cNvSpPr/>
            <p:nvPr/>
          </p:nvSpPr>
          <p:spPr>
            <a:xfrm>
              <a:off x="4501440" y="5815080"/>
              <a:ext cx="367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enerated scanner and parser w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heck the syntactic correctness of the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29960" y="5865840"/>
              <a:ext cx="34390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sc Compile.cs Scanner.cs Parse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mpile Input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41B-690C-4C38-BC0A-AB347BFE0E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Now we add Semantic Proces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6600" y="1281240"/>
            <a:ext cx="4381920" cy="419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alc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Console.WriteLine(n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/*---------------------------------------------------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+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 = n + n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/*---------------------------------------------------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 = Convert.Int32(t.val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S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95560" y="4711680"/>
            <a:ext cx="0" cy="105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99160" y="5738760"/>
            <a:ext cx="18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milar to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f the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68960" y="4965840"/>
            <a:ext cx="0" cy="7999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3040" y="5713560"/>
            <a:ext cx="213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dinary C#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ecuted during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58760" y="250200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is is called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attributed gramma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10C-378F-4CBE-9A6B-151361B509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5800" y="1425600"/>
            <a:ext cx="2693880" cy="501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ars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n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.kind == 2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nsole.WriteLine(n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in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n1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.kind == 3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n1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 = n + n1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in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ect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 = Convert.ToInt32(t.val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64760" y="29750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oke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99320" y="3379680"/>
            <a:ext cx="113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 ...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 ... "cal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 ... '+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9640" y="4659480"/>
            <a:ext cx="4672080" cy="1531440"/>
            <a:chOff x="4049640" y="4659480"/>
            <a:chExt cx="4672080" cy="1531440"/>
          </a:xfrm>
        </p:grpSpPr>
        <p:sp>
          <p:nvSpPr>
            <p:cNvPr id="341" name=""/>
            <p:cNvSpPr/>
            <p:nvPr/>
          </p:nvSpPr>
          <p:spPr>
            <a:xfrm>
              <a:off x="4052520" y="4659480"/>
              <a:ext cx="34390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sc Compile.cs Scanner.cs Parse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mpile Input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9640" y="5610240"/>
              <a:ext cx="238608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calc 1 + 2 +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calc 100 + 10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51840" y="5610240"/>
              <a:ext cx="56988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82840" y="572616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02320" y="590580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21640" y="590580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102200" y="1468440"/>
            <a:ext cx="366408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al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Console.WriteLine(n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889-883B-4215-84EA-A3702F235A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Compiler Descrip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2760" y="1812960"/>
            <a:ext cx="2562840" cy="168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600" spc="-1" strike="noStrike">
                <a:solidFill>
                  <a:srgbClr val="3333cc"/>
                </a:solidFill>
                <a:latin typeface="Arial"/>
              </a:rPr>
              <a:t>UsingClause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"COMPILER" 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600" spc="-1" strike="noStrike">
                <a:solidFill>
                  <a:srgbClr val="3333cc"/>
                </a:solidFill>
                <a:latin typeface="Arial"/>
              </a:rPr>
              <a:t>GlobalFieldsAndMethod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Scanner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Parser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"END" ident "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10160" y="1434960"/>
            <a:ext cx="2336760" cy="49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787" y="23815"/>
                </a:moveTo>
                <a:lnTo>
                  <a:pt x="-704" y="4985"/>
                </a:lnTo>
              </a:path>
              <a:path w="21600" h="21600">
                <a:moveTo>
                  <a:pt x="-704" y="0"/>
                </a:moveTo>
                <a:lnTo>
                  <a:pt x="-704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.Collectio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2502000"/>
            <a:ext cx="2336760" cy="100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13" y="547"/>
                </a:moveTo>
                <a:lnTo>
                  <a:pt x="-704" y="2461"/>
                </a:lnTo>
              </a:path>
              <a:path w="21600" h="21600">
                <a:moveTo>
                  <a:pt x="-704" y="0"/>
                </a:moveTo>
                <a:lnTo>
                  <a:pt x="-704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Add(int 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 = sum +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76680" y="4317840"/>
            <a:ext cx="79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denotes the start symbol of the grammar (i.e. the topmost nonterminal symb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8F7-8E8F-4FF9-AF1E-75EEB4C359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36560" y="367020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7C3-EC0C-4490-9E32-1239493F5F3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Scanner Specif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1760" y="1596960"/>
            <a:ext cx="2949840" cy="271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cannerSpecificatio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IGNORECASE"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CHARACTERS" {SetDecl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TOKENS" {TokenDecl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PRAGMAS" {PragmaDecl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{CommentDecl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{WhiteSpaceDecl}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02200" y="1701720"/>
            <a:ext cx="42163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06" y="27000"/>
                </a:moveTo>
                <a:lnTo>
                  <a:pt x="-390" y="8100"/>
                </a:lnTo>
              </a:path>
              <a:path w="21600" h="21600">
                <a:moveTo>
                  <a:pt x="-390" y="0"/>
                </a:moveTo>
                <a:lnTo>
                  <a:pt x="-39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ould the generated compiler be case-sensitiv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02200" y="2184480"/>
            <a:ext cx="487656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50" y="19800"/>
                </a:moveTo>
                <a:lnTo>
                  <a:pt x="-338" y="810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character sets are used in the token declar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02200" y="2679840"/>
            <a:ext cx="4876560" cy="55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94" y="8836"/>
                </a:moveTo>
                <a:lnTo>
                  <a:pt x="-338" y="4418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ere one has to declare all structured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.e. terminal symbols) of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02200" y="3403440"/>
            <a:ext cx="48765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69" y="-1800"/>
                </a:moveTo>
                <a:lnTo>
                  <a:pt x="-338" y="810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agmas are tokens which are not part of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02200" y="3860640"/>
            <a:ext cx="4876560" cy="57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38" y="-5760"/>
                </a:moveTo>
                <a:lnTo>
                  <a:pt x="-338" y="432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ere one can declare one or several kinds of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the language to be comp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02200" y="4584600"/>
            <a:ext cx="48765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06" y="-33300"/>
                </a:moveTo>
                <a:lnTo>
                  <a:pt x="-338" y="810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characters should be ignored (e.g. \t, \n, \r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D21-CAE9-4159-86CB-7CCF5064D0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ation Phas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1040" y="1371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character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4040" y="1736640"/>
            <a:ext cx="29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2908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790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5356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952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114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09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736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76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38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0156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600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62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87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25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24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86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248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10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588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5392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34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75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96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05764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6424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8752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4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386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48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188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70680" y="1854360"/>
            <a:ext cx="7503480" cy="1961280"/>
            <a:chOff x="670680" y="1854360"/>
            <a:chExt cx="7503480" cy="1961280"/>
          </a:xfrm>
        </p:grpSpPr>
        <p:sp>
          <p:nvSpPr>
            <p:cNvPr id="81" name=""/>
            <p:cNvSpPr/>
            <p:nvPr/>
          </p:nvSpPr>
          <p:spPr>
            <a:xfrm>
              <a:off x="2425680" y="224784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16560" y="2260440"/>
              <a:ext cx="26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lexical analysis (scann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73600" y="185436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680" y="3048120"/>
              <a:ext cx="13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token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0328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92240" y="3097080"/>
              <a:ext cx="64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assig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68320" y="3097080"/>
              <a:ext cx="7387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nu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6640" y="3097080"/>
              <a:ext cx="5803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t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01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59480" y="3097080"/>
              <a:ext cx="4917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pl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005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i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502320" y="322596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0240" y="305928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73600" y="271764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02320" y="364500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69880" y="347832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70320" y="3809880"/>
            <a:ext cx="4917600" cy="2769480"/>
            <a:chOff x="670320" y="3809880"/>
            <a:chExt cx="4917600" cy="2769480"/>
          </a:xfrm>
        </p:grpSpPr>
        <p:sp>
          <p:nvSpPr>
            <p:cNvPr id="98" name=""/>
            <p:cNvSpPr/>
            <p:nvPr/>
          </p:nvSpPr>
          <p:spPr>
            <a:xfrm>
              <a:off x="3873600" y="380988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3600" y="466092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25680" y="419112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55800" y="419112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syntax analysis (pars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320" y="523224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syntax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23920" y="6272280"/>
              <a:ext cx="236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ident = number * ident +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9600" y="58276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72080" y="615960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72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03720" y="60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83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1120" y="57913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57913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57913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37240" y="57024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10120" y="544680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37240" y="540972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87800" y="54100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780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716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3696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88400" y="504036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50B-CCEB-43C4-83BB-2DC18B760BD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haracter Se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9560" y="1295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85680" y="1700280"/>
            <a:ext cx="2718360" cy="148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0123456789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digit + "ABCDEF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'A' .. 'Z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'\r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o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ANY - dig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72080" y="1916280"/>
            <a:ext cx="266652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set of all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set of all hexadecimal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set of all upper-case let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end-of-line charac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ny character that is not a 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90120" y="3848040"/>
            <a:ext cx="6592680" cy="1302120"/>
            <a:chOff x="690120" y="3848040"/>
            <a:chExt cx="6592680" cy="1302120"/>
          </a:xfrm>
        </p:grpSpPr>
        <p:sp>
          <p:nvSpPr>
            <p:cNvPr id="369" name=""/>
            <p:cNvSpPr/>
            <p:nvPr/>
          </p:nvSpPr>
          <p:spPr>
            <a:xfrm>
              <a:off x="690120" y="3848040"/>
              <a:ext cx="544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Valid escape sequences in character constants and str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69480" y="4203720"/>
              <a:ext cx="6313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\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ackslash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rriage retur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m f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postroph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ew lin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quot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orizontal t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ack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ll charact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v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ertical t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uxxx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ex character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4CA-31C2-4D16-8DFA-FC32C8659A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oken Decla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9120" y="1244520"/>
            <a:ext cx="5586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e the structure of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token classes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ident, number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terals such as "while" or "&gt;=" don't have to be decl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71400" y="2222640"/>
            <a:ext cx="5117400" cy="1692000"/>
            <a:chOff x="671400" y="2222640"/>
            <a:chExt cx="5117400" cy="1692000"/>
          </a:xfrm>
        </p:grpSpPr>
        <p:sp>
          <p:nvSpPr>
            <p:cNvPr id="374" name=""/>
            <p:cNvSpPr/>
            <p:nvPr/>
          </p:nvSpPr>
          <p:spPr>
            <a:xfrm>
              <a:off x="671400" y="22226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960" y="2665800"/>
              <a:ext cx="5046840" cy="1248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{letter | digit | '_'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0x" hexDigit hexDigit hexDigit hexDigi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loa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 '.' digit {digit} ['E' ['+' | '-'] digit {digit}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18840" y="2728800"/>
            <a:ext cx="2762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must b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regular EBNF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s on the right-hand sid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note character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47240" y="3174840"/>
            <a:ext cx="2670840" cy="1455480"/>
            <a:chOff x="1047240" y="3174840"/>
            <a:chExt cx="2670840" cy="1455480"/>
          </a:xfrm>
        </p:grpSpPr>
        <p:sp>
          <p:nvSpPr>
            <p:cNvPr id="378" name=""/>
            <p:cNvSpPr/>
            <p:nvPr/>
          </p:nvSpPr>
          <p:spPr>
            <a:xfrm>
              <a:off x="1047240" y="4049640"/>
              <a:ext cx="26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problem if alternatives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the same charac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79560" y="3174840"/>
              <a:ext cx="507960" cy="5079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790280" y="3657600"/>
              <a:ext cx="203400" cy="406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41F-A748-4666-AFCB-F6832EFF6F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iteral 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7400" y="133344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iteral tokens can be used without decl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4720" y="1878120"/>
            <a:ext cx="222444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whil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05960" y="3441600"/>
            <a:ext cx="3306600" cy="1841040"/>
            <a:chOff x="705960" y="3441600"/>
            <a:chExt cx="3306600" cy="1841040"/>
          </a:xfrm>
        </p:grpSpPr>
        <p:sp>
          <p:nvSpPr>
            <p:cNvPr id="385" name=""/>
            <p:cNvSpPr/>
            <p:nvPr/>
          </p:nvSpPr>
          <p:spPr>
            <a:xfrm>
              <a:off x="705960" y="3441600"/>
              <a:ext cx="33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... but one can also declare th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5080" y="3909960"/>
              <a:ext cx="209628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while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"whil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whil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98280" y="5548320"/>
            <a:ext cx="5158080" cy="980280"/>
            <a:chOff x="998280" y="5548320"/>
            <a:chExt cx="5158080" cy="980280"/>
          </a:xfrm>
        </p:grpSpPr>
        <p:sp>
          <p:nvSpPr>
            <p:cNvPr id="388" name=""/>
            <p:cNvSpPr/>
            <p:nvPr/>
          </p:nvSpPr>
          <p:spPr>
            <a:xfrm>
              <a:off x="998280" y="5548320"/>
              <a:ext cx="515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ometimes useful because Coco/R generates constant nam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the token numbers of all declared tok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88280" y="6221520"/>
              <a:ext cx="1855440" cy="30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_while = 17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286-5112-4647-8DD9-4E2F23BEC9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text-dependent 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6240" y="14097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17360" y="17892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loating point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1520" y="18144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.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17000" y="206856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teg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81520" y="209376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090480" y="1866960"/>
            <a:ext cx="1733760" cy="1089000"/>
            <a:chOff x="6090480" y="1866960"/>
            <a:chExt cx="1733760" cy="1089000"/>
          </a:xfrm>
        </p:grpSpPr>
        <p:sp>
          <p:nvSpPr>
            <p:cNvPr id="397" name=""/>
            <p:cNvSpPr/>
            <p:nvPr/>
          </p:nvSpPr>
          <p:spPr>
            <a:xfrm>
              <a:off x="662940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5280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94640" y="1866960"/>
              <a:ext cx="164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3028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5952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9516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24760" y="1866960"/>
              <a:ext cx="164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4780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959520" y="208296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90480" y="2131920"/>
              <a:ext cx="1733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ot stuck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wa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044240" y="1420920"/>
            <a:ext cx="4440240" cy="1291680"/>
            <a:chOff x="4044240" y="1420920"/>
            <a:chExt cx="4440240" cy="1291680"/>
          </a:xfrm>
        </p:grpSpPr>
        <p:sp>
          <p:nvSpPr>
            <p:cNvPr id="408" name=""/>
            <p:cNvSpPr/>
            <p:nvPr/>
          </p:nvSpPr>
          <p:spPr>
            <a:xfrm>
              <a:off x="463536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5876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3624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65840" y="1866960"/>
              <a:ext cx="164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0148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072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5412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800600" y="208296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3720" y="2131920"/>
              <a:ext cx="110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ecide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 a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44240" y="1420920"/>
              <a:ext cx="444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 tries to recognize the longest possible 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96960" y="3162240"/>
            <a:ext cx="7900920" cy="1519560"/>
            <a:chOff x="696960" y="3162240"/>
            <a:chExt cx="7900920" cy="1519560"/>
          </a:xfrm>
        </p:grpSpPr>
        <p:sp>
          <p:nvSpPr>
            <p:cNvPr id="420" name=""/>
            <p:cNvSpPr/>
            <p:nvPr/>
          </p:nvSpPr>
          <p:spPr>
            <a:xfrm>
              <a:off x="696960" y="3162240"/>
              <a:ext cx="196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XT cla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32840" y="3668760"/>
              <a:ext cx="3495600" cy="1013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C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ONTEXT (".."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loatC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 "." digit {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54760" y="3822840"/>
              <a:ext cx="3543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639" y="15300"/>
                  </a:moveTo>
                  <a:lnTo>
                    <a:pt x="-465" y="4000"/>
                  </a:lnTo>
                </a:path>
                <a:path w="21600" h="21600">
                  <a:moveTo>
                    <a:pt x="-465" y="0"/>
                  </a:moveTo>
                  <a:lnTo>
                    <a:pt x="-465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 a digit sequence as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its right-hand context is "..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2D7-A9BE-41C6-A0D9-9AEE0A5BD2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agma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0480" y="1219320"/>
            <a:ext cx="385956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pecial token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compiler 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occur anywhere in th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not part of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semantically proc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0840" y="4648320"/>
            <a:ext cx="253836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ypical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iler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eprocessor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ment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d-of-lin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22160" y="2666880"/>
            <a:ext cx="8151840" cy="1679040"/>
            <a:chOff x="722160" y="2666880"/>
            <a:chExt cx="8151840" cy="1679040"/>
          </a:xfrm>
        </p:grpSpPr>
        <p:sp>
          <p:nvSpPr>
            <p:cNvPr id="427" name=""/>
            <p:cNvSpPr/>
            <p:nvPr/>
          </p:nvSpPr>
          <p:spPr>
            <a:xfrm>
              <a:off x="722160" y="2666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66600" y="3097080"/>
              <a:ext cx="4107600" cy="1248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RAG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'$' {letter}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foreach (char ch in t.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ch == 'A')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lse if (ch == 'B')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3287880"/>
              <a:ext cx="346212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never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opti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e.g. $ABC) occu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e input, this semantic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exec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783-C632-41C7-85BB-FD03AF4E9D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8560" y="1257480"/>
            <a:ext cx="547488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bed in a special section bec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sted comments cannot be described with regular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ignored by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22160" y="2502000"/>
            <a:ext cx="3552840" cy="963360"/>
            <a:chOff x="722160" y="2502000"/>
            <a:chExt cx="3552840" cy="963360"/>
          </a:xfrm>
        </p:grpSpPr>
        <p:sp>
          <p:nvSpPr>
            <p:cNvPr id="433" name=""/>
            <p:cNvSpPr/>
            <p:nvPr/>
          </p:nvSpPr>
          <p:spPr>
            <a:xfrm>
              <a:off x="722160" y="25020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9360" y="2945160"/>
              <a:ext cx="34556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MENTS FROM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/*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*/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NES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MENTS FROM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//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\r\n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772200" y="3859200"/>
            <a:ext cx="551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comments are not nested they can also be described as prag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vantage: can be semantically proc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BB4-9C55-444E-B804-6089A875E3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ite Space and Case Sensitiv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1800" y="1282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ite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81000" y="1827360"/>
            <a:ext cx="2003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GNORE   '\t' + '\r' + '\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56000" y="1789200"/>
            <a:ext cx="25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lanks are ignored by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22160" y="2781360"/>
            <a:ext cx="5506920" cy="1085040"/>
            <a:chOff x="722160" y="2781360"/>
            <a:chExt cx="5506920" cy="1085040"/>
          </a:xfrm>
        </p:grpSpPr>
        <p:sp>
          <p:nvSpPr>
            <p:cNvPr id="441" name=""/>
            <p:cNvSpPr/>
            <p:nvPr/>
          </p:nvSpPr>
          <p:spPr>
            <a:xfrm>
              <a:off x="722160" y="278136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ase sensi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9000" y="3135600"/>
              <a:ext cx="513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rs generated by Coco/R are case-sensitive by defa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05040" y="3529080"/>
              <a:ext cx="389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made case-insensitive by the key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61080" y="3542040"/>
              <a:ext cx="13680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GNORE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975600" y="4070520"/>
            <a:ext cx="7972920" cy="2599560"/>
            <a:chOff x="975600" y="4070520"/>
            <a:chExt cx="7972920" cy="2599560"/>
          </a:xfrm>
        </p:grpSpPr>
        <p:sp>
          <p:nvSpPr>
            <p:cNvPr id="446" name=""/>
            <p:cNvSpPr/>
            <p:nvPr/>
          </p:nvSpPr>
          <p:spPr>
            <a:xfrm>
              <a:off x="975600" y="4070520"/>
              <a:ext cx="4326120" cy="259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GNORE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612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exDigit = digit +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'a'..'f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 =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"0x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hexDigit hexDigit hexDigit hexDigi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Stat =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"whil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'(' Expr ')' Sta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37160" y="4113360"/>
              <a:ext cx="3411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ll recogn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0x00ff, 0X00ff, 0X00FF as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le, While, WHILE as a key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50320" y="5014800"/>
              <a:ext cx="335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value returned to the 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ains original ca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 rot="5400000">
            <a:off x="2361960" y="1765440"/>
            <a:ext cx="88920" cy="965160"/>
          </a:xfrm>
          <a:custGeom>
            <a:avLst/>
            <a:gdLst>
              <a:gd name="textAreaLeft" fmla="*/ 0 w 88920"/>
              <a:gd name="textAreaRight" fmla="*/ 32040 w 8892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30960" y="224640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aract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08F-8BE5-451F-AC0F-A129774A96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terface of the Generated Scann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840" y="1393920"/>
            <a:ext cx="3000240" cy="192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uffer buff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string file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eam 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ublic Token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can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)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setPee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99080" y="1989000"/>
            <a:ext cx="4013280" cy="29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14" y="39443"/>
                </a:moveTo>
                <a:lnTo>
                  <a:pt x="-410" y="8452"/>
                </a:lnTo>
              </a:path>
              <a:path w="21600" h="21600">
                <a:moveTo>
                  <a:pt x="-410" y="0"/>
                </a:moveTo>
                <a:lnTo>
                  <a:pt x="-41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method: returns a token upon every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99080" y="2459160"/>
            <a:ext cx="4064040" cy="58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93" y="10800"/>
                </a:moveTo>
                <a:lnTo>
                  <a:pt x="-405" y="4226"/>
                </a:lnTo>
              </a:path>
              <a:path w="21600" h="21600">
                <a:moveTo>
                  <a:pt x="-405" y="0"/>
                </a:moveTo>
                <a:lnTo>
                  <a:pt x="-405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s ahead from the current scanner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out removing tokens from the input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99080" y="3170160"/>
            <a:ext cx="3949560" cy="29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48" y="-14087"/>
                </a:moveTo>
                <a:lnTo>
                  <a:pt x="-417" y="8452"/>
                </a:lnTo>
              </a:path>
              <a:path w="21600" h="21600">
                <a:moveTo>
                  <a:pt x="-417" y="0"/>
                </a:moveTo>
                <a:lnTo>
                  <a:pt x="-41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ets peeking to the current scanner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7960" y="3789360"/>
            <a:ext cx="5770440" cy="15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kind (i.e. token num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position in the source text (starting at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lumn (starting at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line (starting at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EC5-1BF2-47FA-B6B2-451E716E7B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736560" y="410220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E92-4C88-4980-9E05-66BC51C1DA0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Parser Specif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5880" y="1281240"/>
            <a:ext cx="5464080" cy="609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Specification = "PRODUCTION" {Production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[FormalAttributes] '=' EbnfExpr '.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880" y="1941480"/>
            <a:ext cx="546264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bnf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 { '|' Alternative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Resolver] {Elemen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[ActualAttribut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bnfExpr ')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[' EbnfExpr ']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 EbnfExpr '}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N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SYN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m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| ch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5880" y="4430880"/>
            <a:ext cx="5468760" cy="609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mA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."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CSharpStatement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.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solv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'('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CSharpPredic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)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5880" y="5091120"/>
            <a:ext cx="546732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malAttribut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&lt;'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&gt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tualAttribut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&lt;'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&gt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DD5-66F5-47CC-8D7B-32A1850D20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ation Phas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5240" y="3098880"/>
            <a:ext cx="3708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0400" y="309888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emantic analysis (type checking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320" y="1371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syntax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23920" y="241128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ident = number * ident + 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9600" y="19670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72080" y="229860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2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3720" y="2235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83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9303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93032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19303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7240" y="184140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0120" y="158580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37240" y="15490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187800" y="154944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8780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716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6960" y="14731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8400" y="11793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040" y="36194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6520" y="370692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tax tree, symbol table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75120" y="28576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75120" y="35560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0320" y="4064040"/>
            <a:ext cx="5273280" cy="2548080"/>
            <a:chOff x="670320" y="4064040"/>
            <a:chExt cx="5273280" cy="2548080"/>
          </a:xfrm>
        </p:grpSpPr>
        <p:sp>
          <p:nvSpPr>
            <p:cNvPr id="146" name=""/>
            <p:cNvSpPr/>
            <p:nvPr/>
          </p:nvSpPr>
          <p:spPr>
            <a:xfrm>
              <a:off x="2235240" y="43308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6040" y="433080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optim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75120" y="478800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35240" y="50292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7000" y="502920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code 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5120" y="551196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0240" y="5740560"/>
              <a:ext cx="8676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75120" y="406404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320" y="575316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7B2-CC0A-424B-B24C-3654B7D874C2}" type="slidenum">
              <a:t>3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du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4280" y="1371600"/>
            <a:ext cx="66715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Can occur in any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re must be exactly 1 production for every non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re must be a production for the start symbol (the grammar 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1400" y="2700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73280" y="3156120"/>
            <a:ext cx="51512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 [RelOp SimExpr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{AddOp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{Mulop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| number | "-" Factor | "true" | "false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==" | "&lt;" | "&gt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+" | "-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*" | "/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Exp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40080" y="3859200"/>
            <a:ext cx="27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bitrary context-fre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EB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7E5-5AAE-47D5-B503-D326E683A1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6680" y="1219320"/>
            <a:ext cx="36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rbitrary C# code between </a:t>
            </a: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(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7320" y="1649520"/>
            <a:ext cx="3470400" cy="120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 = 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,' 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++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Console.WriteLine(n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200040" y="1790640"/>
            <a:ext cx="1460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52640" y="159876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semantic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200040" y="2057400"/>
            <a:ext cx="1460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50120" y="186516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86760" y="2932200"/>
            <a:ext cx="71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s are copied to the generated parser without being checked by Coco/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07760" y="3568680"/>
            <a:ext cx="8361000" cy="2959920"/>
            <a:chOff x="707760" y="3568680"/>
            <a:chExt cx="8361000" cy="2959920"/>
          </a:xfrm>
        </p:grpSpPr>
        <p:sp>
          <p:nvSpPr>
            <p:cNvPr id="479" name=""/>
            <p:cNvSpPr/>
            <p:nvPr/>
          </p:nvSpPr>
          <p:spPr>
            <a:xfrm>
              <a:off x="707760" y="3568680"/>
              <a:ext cx="30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Global semantic decla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55880" y="4003560"/>
              <a:ext cx="3711600" cy="2525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using System.IO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tream 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oid OpenStream(string path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File.OpenRead(path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enStream("in.txt"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86200" y="4521240"/>
              <a:ext cx="88920" cy="100332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5920 h 1003320"/>
                <a:gd name="textAreaBottom" fmla="*/ 977400 h 10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114800" y="5016600"/>
              <a:ext cx="81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8640" y="4811760"/>
              <a:ext cx="359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lobal semantic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become fields and methods of the pars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628720" y="4127400"/>
              <a:ext cx="229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4680" y="3935520"/>
              <a:ext cx="196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mport of namesp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723920" y="6019920"/>
              <a:ext cx="203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9000" y="5827680"/>
              <a:ext cx="401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mantic actions can access global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s well as imported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850-30A5-4C98-8A48-71C825577F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089760" y="2660760"/>
            <a:ext cx="2590560" cy="67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53000" y="2660760"/>
            <a:ext cx="2108160" cy="67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680" y="123192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non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18080" y="2557440"/>
            <a:ext cx="240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output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ss results of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the "call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18200" y="2658960"/>
            <a:ext cx="18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val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53360" y="2658960"/>
            <a:ext cx="19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= ... 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15680" y="2963880"/>
            <a:ext cx="26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ref StringBuilder buf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53000" y="295128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= ... 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ref b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08800" y="148104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ormal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07160" y="14810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ual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320" y="3695760"/>
            <a:ext cx="8016480" cy="2702880"/>
            <a:chOff x="670320" y="3695760"/>
            <a:chExt cx="8016480" cy="2702880"/>
          </a:xfrm>
        </p:grpSpPr>
        <p:sp>
          <p:nvSpPr>
            <p:cNvPr id="500" name=""/>
            <p:cNvSpPr/>
            <p:nvPr/>
          </p:nvSpPr>
          <p:spPr>
            <a:xfrm>
              <a:off x="670320" y="3695760"/>
              <a:ext cx="22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18800" y="4087800"/>
              <a:ext cx="1907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explicit attribute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lues are return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y the sc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46520" y="4191120"/>
              <a:ext cx="4927680" cy="507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69560" y="4164120"/>
              <a:ext cx="363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n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n = Convert.ToInt32(t.val)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0720" y="3821040"/>
              <a:ext cx="27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dapter nonterminals necess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46520" y="4788000"/>
              <a:ext cx="4940280" cy="507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74240" y="4761000"/>
              <a:ext cx="25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string name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name = t.val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19520" y="5472000"/>
              <a:ext cx="320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has two global token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88640" y="5878440"/>
              <a:ext cx="422532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most recently recognized 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lookahead token (not yet recogniz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089760" y="1841400"/>
            <a:ext cx="259056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53000" y="1841400"/>
            <a:ext cx="210816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20960" y="1738440"/>
            <a:ext cx="250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input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ss values from the "call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17120" y="199224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Type t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50840" y="1992240"/>
            <a:ext cx="217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= ... Ident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type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F20-0651-48DA-95B9-30AE84D7A4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he symbol AN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0000" y="1282680"/>
            <a:ext cx="63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notes any token that is not an alternative of this ANY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1240" y="1873080"/>
            <a:ext cx="45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counting the number of occurrence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03400" y="2282760"/>
            <a:ext cx="3079800" cy="66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intCounter++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866960" y="2813040"/>
            <a:ext cx="25653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360" y="264636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y token except "in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42320" y="3530520"/>
            <a:ext cx="5721120" cy="1269360"/>
            <a:chOff x="742320" y="3530520"/>
            <a:chExt cx="5721120" cy="1269360"/>
          </a:xfrm>
        </p:grpSpPr>
        <p:sp>
          <p:nvSpPr>
            <p:cNvPr id="521" name=""/>
            <p:cNvSpPr/>
            <p:nvPr/>
          </p:nvSpPr>
          <p:spPr>
            <a:xfrm>
              <a:off x="742320" y="3530520"/>
              <a:ext cx="45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computing the length of a semantic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03400" y="3939840"/>
              <a:ext cx="3066840" cy="860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emAction&lt;out int len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.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int beg = t.pos + 2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N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.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len = t.pos - beg; .)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044800" y="4457520"/>
              <a:ext cx="23875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720" y="4290840"/>
              <a:ext cx="18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y token except ".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8D2-B2D9-467E-93DE-8DF3DFA21B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009960" y="914400"/>
            <a:ext cx="132084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280" y="1498680"/>
            <a:ext cx="1434960" cy="9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rame Fi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623960"/>
            <a:ext cx="1245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2043000"/>
            <a:ext cx="12556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23040" y="11667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.a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04200" y="92556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.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09960" y="2679840"/>
            <a:ext cx="132084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74400" y="269064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32120" y="1498680"/>
            <a:ext cx="1689120" cy="96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556080" y="1676520"/>
            <a:ext cx="216000" cy="215640"/>
            <a:chOff x="3556080" y="1676520"/>
            <a:chExt cx="216000" cy="215640"/>
          </a:xfrm>
        </p:grpSpPr>
        <p:sp>
          <p:nvSpPr>
            <p:cNvPr id="536" name=""/>
            <p:cNvSpPr/>
            <p:nvPr/>
          </p:nvSpPr>
          <p:spPr>
            <a:xfrm>
              <a:off x="3556080" y="1676520"/>
              <a:ext cx="21600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70200" y="1676520"/>
              <a:ext cx="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56080" y="17776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556080" y="2095560"/>
            <a:ext cx="216000" cy="216000"/>
            <a:chOff x="3556080" y="2095560"/>
            <a:chExt cx="216000" cy="216000"/>
          </a:xfrm>
        </p:grpSpPr>
        <p:sp>
          <p:nvSpPr>
            <p:cNvPr id="540" name=""/>
            <p:cNvSpPr/>
            <p:nvPr/>
          </p:nvSpPr>
          <p:spPr>
            <a:xfrm>
              <a:off x="3556080" y="2095560"/>
              <a:ext cx="21600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70200" y="209556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56080" y="21970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146320" y="177804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46320" y="220968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1778040"/>
            <a:ext cx="138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2209680"/>
            <a:ext cx="138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670200" y="23241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70200" y="1257480"/>
            <a:ext cx="0" cy="40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625760"/>
            <a:ext cx="1320840" cy="33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51400" y="1636560"/>
            <a:ext cx="10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19640" y="2057400"/>
            <a:ext cx="1320840" cy="33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21240" y="20685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70280" y="1433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co/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47000" y="3143160"/>
            <a:ext cx="7905240" cy="3533400"/>
            <a:chOff x="747000" y="3143160"/>
            <a:chExt cx="7905240" cy="3533400"/>
          </a:xfrm>
        </p:grpSpPr>
        <p:sp>
          <p:nvSpPr>
            <p:cNvPr id="555" name=""/>
            <p:cNvSpPr/>
            <p:nvPr/>
          </p:nvSpPr>
          <p:spPr>
            <a:xfrm>
              <a:off x="747000" y="3143160"/>
              <a:ext cx="23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canner.frame snipp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8800" y="3598920"/>
              <a:ext cx="2743920" cy="307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lass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char EOL = '\n'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eofSym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--&gt;decla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eam s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uffer = new Buffer(s, tru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it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s = -1; line = 1;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--&gt;initi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7080" y="3573360"/>
              <a:ext cx="45651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 inserts generated parts at position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rked by 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&gt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s can edit the frame files for adapting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enerated scanner and parser to their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rame files are expected to be in the same directory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s the compiler specification (e.g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ample.atg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D34-613B-4444-8FCF-9E719B9B95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terface of the Generated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9240" y="1230480"/>
            <a:ext cx="5378400" cy="220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Pars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cann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the scanner of this 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rrors 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he error message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most recently recognize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ookahea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canner scann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mEr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770040" y="3575160"/>
            <a:ext cx="5451120" cy="2505600"/>
            <a:chOff x="770040" y="3575160"/>
            <a:chExt cx="5451120" cy="2505600"/>
          </a:xfrm>
        </p:grpSpPr>
        <p:sp>
          <p:nvSpPr>
            <p:cNvPr id="561" name=""/>
            <p:cNvSpPr/>
            <p:nvPr/>
          </p:nvSpPr>
          <p:spPr>
            <a:xfrm>
              <a:off x="854640" y="4068720"/>
              <a:ext cx="5366520" cy="201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lass MyCompiler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tring[] ar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 scanner = new Scanner(arg[0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 parser = new Parser(scanner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parser.Pars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parser.errors.count + " errors detected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0040" y="3575160"/>
              <a:ext cx="39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arser invocation in the main pro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677-26E5-4299-B47C-8CBE608308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736560" y="453384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60C-221E-45BF-9C39-548A5CFC6E6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3360" y="1206360"/>
            <a:ext cx="51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tax error messages are generated auto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5160" y="17906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invalid 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26720" y="2195640"/>
            <a:ext cx="10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82120" y="222084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27080" y="248760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83920" y="251316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27800" y="27925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73840" y="2817720"/>
            <a:ext cx="22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-- line ... col ...: b exp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94440" y="3390840"/>
            <a:ext cx="3765600" cy="1339200"/>
            <a:chOff x="694440" y="3390840"/>
            <a:chExt cx="3765600" cy="1339200"/>
          </a:xfrm>
        </p:grpSpPr>
        <p:sp>
          <p:nvSpPr>
            <p:cNvPr id="576" name=""/>
            <p:cNvSpPr/>
            <p:nvPr/>
          </p:nvSpPr>
          <p:spPr>
            <a:xfrm>
              <a:off x="694440" y="3390840"/>
              <a:ext cx="282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invalid alternative li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26720" y="3795840"/>
              <a:ext cx="107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9240" y="3821040"/>
              <a:ext cx="155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(b | c | d) 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27080" y="408780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83920" y="41133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27800" y="4392720"/>
              <a:ext cx="13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76000" y="4417920"/>
              <a:ext cx="20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-- line ... col ...: invalid 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92640" y="4965840"/>
            <a:ext cx="6069600" cy="1529280"/>
            <a:chOff x="692640" y="4965840"/>
            <a:chExt cx="6069600" cy="1529280"/>
          </a:xfrm>
        </p:grpSpPr>
        <p:sp>
          <p:nvSpPr>
            <p:cNvPr id="584" name=""/>
            <p:cNvSpPr/>
            <p:nvPr/>
          </p:nvSpPr>
          <p:spPr>
            <a:xfrm>
              <a:off x="692640" y="4965840"/>
              <a:ext cx="606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rror message can be improved by rewriting the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27080" y="5370480"/>
              <a:ext cx="11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81400" y="539604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T 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b | c |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27080" y="585324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83920" y="587844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27800" y="6157800"/>
              <a:ext cx="13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75640" y="6183360"/>
              <a:ext cx="20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-- line ... col ...: invalid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63E-577D-44C6-94C5-29EF9EC9E5EB}" type="slidenum">
              <a:t>3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Error Recove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400" y="1181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user must specify synchronization points where the parser should re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7920" y="1649520"/>
            <a:ext cx="4402080" cy="166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Y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"=" Expr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YN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'(' Expression ')' Statement ["else" Statem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hile" '(' Expression ')'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 {Statement} '}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04760" y="1841400"/>
            <a:ext cx="74916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93960" y="1854360"/>
            <a:ext cx="444600" cy="266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60080" y="154764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83280" y="5359320"/>
            <a:ext cx="6505200" cy="1396080"/>
            <a:chOff x="683280" y="5359320"/>
            <a:chExt cx="6505200" cy="1396080"/>
          </a:xfrm>
        </p:grpSpPr>
        <p:sp>
          <p:nvSpPr>
            <p:cNvPr id="598" name=""/>
            <p:cNvSpPr/>
            <p:nvPr/>
          </p:nvSpPr>
          <p:spPr>
            <a:xfrm>
              <a:off x="683280" y="5359320"/>
              <a:ext cx="401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hat are good synchronization point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12880" y="5688000"/>
              <a:ext cx="6375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tions in the grammar where particularly "safe" tokens are exp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of a statement: if, while, do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of a declaration: public, static, void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front of a semicol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16760" y="3409920"/>
            <a:ext cx="7783560" cy="1830240"/>
            <a:chOff x="716760" y="3409920"/>
            <a:chExt cx="7783560" cy="1830240"/>
          </a:xfrm>
        </p:grpSpPr>
        <p:sp>
          <p:nvSpPr>
            <p:cNvPr id="601" name=""/>
            <p:cNvSpPr/>
            <p:nvPr/>
          </p:nvSpPr>
          <p:spPr>
            <a:xfrm>
              <a:off x="1204920" y="4506840"/>
              <a:ext cx="30430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.kind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is not accepted her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 = scanner.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49680" y="3693960"/>
              <a:ext cx="755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reports the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continues to the next synchronization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skips input symbols until it finds one that is expected at the synchronization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6760" y="3409920"/>
              <a:ext cx="38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hat happens if an error is detected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677-8328-4564-BACF-0B08B0DF3652}" type="slidenum">
              <a:t>38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0720" y="132084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ust be done in semantic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19360" y="1839960"/>
            <a:ext cx="634680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out Type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type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+' Term&lt;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type != type1)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emErr("incompatible types"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721080" y="3673440"/>
            <a:ext cx="3015360" cy="1669320"/>
            <a:chOff x="721080" y="3673440"/>
            <a:chExt cx="3015360" cy="1669320"/>
          </a:xfrm>
        </p:grpSpPr>
        <p:sp>
          <p:nvSpPr>
            <p:cNvPr id="608" name=""/>
            <p:cNvSpPr/>
            <p:nvPr/>
          </p:nvSpPr>
          <p:spPr>
            <a:xfrm>
              <a:off x="721080" y="3673440"/>
              <a:ext cx="30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SemErr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 method in the 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5480" y="4183200"/>
              <a:ext cx="29055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emEr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ms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.SemErr(t.line, t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394-E0A5-4749-8108-4BC6089D9979}" type="slidenum">
              <a:t>39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82200" y="180180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.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714680"/>
            <a:ext cx="1663560" cy="74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90200" y="312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36840" y="3086280"/>
            <a:ext cx="10666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3880" y="390996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67160" y="3873600"/>
            <a:ext cx="1270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7120" y="3122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26080" y="3086280"/>
            <a:ext cx="15876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89240" y="246384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590920" y="246384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463840"/>
            <a:ext cx="83808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749840" y="3276720"/>
            <a:ext cx="87624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1200" y="3745080"/>
            <a:ext cx="18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vides token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he sourc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87560" y="4532400"/>
            <a:ext cx="25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aintains information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clared names and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5440" y="3745080"/>
            <a:ext cx="21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enerates machin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611360"/>
            <a:ext cx="259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"main progra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irects the whol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8840" y="56134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49520" y="5446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040" y="2145960"/>
            <a:ext cx="7581960" cy="4107960"/>
            <a:chOff x="635040" y="2145960"/>
            <a:chExt cx="7581960" cy="4107960"/>
          </a:xfrm>
        </p:grpSpPr>
        <p:sp>
          <p:nvSpPr>
            <p:cNvPr id="175" name=""/>
            <p:cNvSpPr/>
            <p:nvPr/>
          </p:nvSpPr>
          <p:spPr>
            <a:xfrm>
              <a:off x="63504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2316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44800" y="2145960"/>
              <a:ext cx="1218960" cy="939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48040" y="2463480"/>
              <a:ext cx="0" cy="1359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28880" y="3301920"/>
              <a:ext cx="495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64440" y="3301920"/>
              <a:ext cx="495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0280" y="2171880"/>
              <a:ext cx="1143000" cy="90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8840" y="6083280"/>
              <a:ext cx="571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50960" y="59166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130-2D64-4AF3-812B-B5D76451A807}" type="slidenum">
              <a:t>4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rrors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87680" y="1687680"/>
            <a:ext cx="7340400" cy="498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0;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number of errors det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extWrit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Strea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Console.Ou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error message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MsgForm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"-- line {0} col {1}: {2}"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0=line, 1=column, 2=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called by the programmer (via Parser.SemErr) to report semantic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mEr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line, int col, string ms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Stream.WriteLine(errMsgFormat, line, col,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2280" y="116856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co/R generates a class for error message 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62840" y="3897360"/>
            <a:ext cx="6980400" cy="2438280"/>
            <a:chOff x="762840" y="3897360"/>
            <a:chExt cx="6980400" cy="2438280"/>
          </a:xfrm>
        </p:grpSpPr>
        <p:sp>
          <p:nvSpPr>
            <p:cNvPr id="614" name=""/>
            <p:cNvSpPr/>
            <p:nvPr/>
          </p:nvSpPr>
          <p:spPr>
            <a:xfrm>
              <a:off x="762840" y="3897360"/>
              <a:ext cx="4967280" cy="243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8000"/>
                  </a:solidFill>
                  <a:latin typeface="Arial"/>
                </a:rPr>
                <a:t>// called automatically by the parser to report syntax err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ynEr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line, int col, int 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ring msg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0: msg = "..."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1: msg = "..."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tream.WriteLine(errMsgFormat, line, 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unt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3568680" y="4933440"/>
              <a:ext cx="393840" cy="101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606840" y="5099040"/>
              <a:ext cx="35568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03920" y="4881600"/>
              <a:ext cx="373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yntax error messages generated by Coco/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C94-1B1C-4CD2-99F3-AF1ABBC09358}" type="slidenum">
              <a:t>40</a:t>
            </a:fld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36560" y="497844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F9D-E64C-475E-8755-1ACDE6DB8F5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tart Symbol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7040" y="133344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ose terminal symbols with which a nonterminal symbol can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04120" y="18144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84800" y="3251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63640" y="32511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84440" y="38862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5080" y="3886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662560" y="42418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5160" y="49150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4360" y="49150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irst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61840" y="529596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8EC-FE22-49AE-AF11-0A6813DD6958}" type="slidenum">
              <a:t>42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uccessor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5240" y="133344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ose terminal symbols that can follow a nonterminal in the 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04120" y="18144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85160" y="3251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65440" y="32511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84440" y="3886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4720" y="3886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ollow(Ex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63640" y="4241880"/>
            <a:ext cx="18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84800" y="4915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4720" y="491508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*", "/", Follow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63640" y="529596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*", "/", 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50400" y="3046320"/>
            <a:ext cx="27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do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ccur o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of a produ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at terminal symbols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 t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3F7-EE90-4D5D-BF8F-1D5F16D1B84E}" type="slidenum">
              <a:t>43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Condi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4720" y="1270080"/>
            <a:ext cx="714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recursive descent parsing a grammar must be 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seable from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 to right with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canonical derivations and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lookahead symb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671400" y="2070000"/>
            <a:ext cx="6958080" cy="1023840"/>
            <a:chOff x="671400" y="2070000"/>
            <a:chExt cx="6958080" cy="1023840"/>
          </a:xfrm>
        </p:grpSpPr>
        <p:sp>
          <p:nvSpPr>
            <p:cNvPr id="647" name=""/>
            <p:cNvSpPr/>
            <p:nvPr/>
          </p:nvSpPr>
          <p:spPr>
            <a:xfrm>
              <a:off x="671400" y="207000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0480" y="2436840"/>
              <a:ext cx="69390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grammar is LL(1) if all its productions are LL(1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production is LL(1) if all its alternatives start with different 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996480" y="3325680"/>
            <a:ext cx="1317600" cy="1335240"/>
            <a:chOff x="996480" y="3325680"/>
            <a:chExt cx="1317600" cy="1335240"/>
          </a:xfrm>
        </p:grpSpPr>
        <p:sp>
          <p:nvSpPr>
            <p:cNvPr id="650" name=""/>
            <p:cNvSpPr/>
            <p:nvPr/>
          </p:nvSpPr>
          <p:spPr>
            <a:xfrm>
              <a:off x="1086480" y="3325680"/>
              <a:ext cx="10386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b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96480" y="3846600"/>
              <a:ext cx="13176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L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a b) = {a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c) = {c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446640" y="3325680"/>
            <a:ext cx="1368000" cy="1335240"/>
            <a:chOff x="3446640" y="3325680"/>
            <a:chExt cx="1368000" cy="1335240"/>
          </a:xfrm>
        </p:grpSpPr>
        <p:sp>
          <p:nvSpPr>
            <p:cNvPr id="653" name=""/>
            <p:cNvSpPr/>
            <p:nvPr/>
          </p:nvSpPr>
          <p:spPr>
            <a:xfrm>
              <a:off x="3538080" y="3325680"/>
              <a:ext cx="10569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b | 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[a]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46640" y="3846600"/>
              <a:ext cx="13680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ot LL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a b) = {a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T) = {a, c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71400" y="4927680"/>
            <a:ext cx="8178840" cy="1643760"/>
            <a:chOff x="671400" y="4927680"/>
            <a:chExt cx="8178840" cy="1643760"/>
          </a:xfrm>
        </p:grpSpPr>
        <p:sp>
          <p:nvSpPr>
            <p:cNvPr id="656" name=""/>
            <p:cNvSpPr/>
            <p:nvPr/>
          </p:nvSpPr>
          <p:spPr>
            <a:xfrm>
              <a:off x="671400" y="492768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 other w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440" y="5332320"/>
              <a:ext cx="81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must always be able to select one of the alternatives by looking at the lookahead tok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86120" y="5776920"/>
              <a:ext cx="1175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(a b | T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473120" y="6006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84920" y="6234120"/>
              <a:ext cx="599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parser sees an "a" here it cannot decide which alternative to 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A5D-BB2D-4767-A8E5-7239BDE7A412}" type="slidenum">
              <a:t>44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5880" y="107964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77840" y="1509840"/>
            <a:ext cx="47782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"else" Stat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008000" y="2004840"/>
            <a:ext cx="4856400" cy="1025640"/>
            <a:chOff x="1008000" y="2004840"/>
            <a:chExt cx="4856400" cy="1025640"/>
          </a:xfrm>
        </p:grpSpPr>
        <p:sp>
          <p:nvSpPr>
            <p:cNvPr id="665" name=""/>
            <p:cNvSpPr/>
            <p:nvPr/>
          </p:nvSpPr>
          <p:spPr>
            <a:xfrm>
              <a:off x="1008000" y="200484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tract common start sequ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77840" y="2297160"/>
              <a:ext cx="47865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"else"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003320" y="2970360"/>
            <a:ext cx="4878360" cy="599040"/>
            <a:chOff x="1003320" y="2970360"/>
            <a:chExt cx="4878360" cy="599040"/>
          </a:xfrm>
        </p:grpSpPr>
        <p:sp>
          <p:nvSpPr>
            <p:cNvPr id="668" name=""/>
            <p:cNvSpPr/>
            <p:nvPr/>
          </p:nvSpPr>
          <p:spPr>
            <a:xfrm>
              <a:off x="1003320" y="297036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 or in EB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2000" y="3262320"/>
              <a:ext cx="48196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"else" Statem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693360" y="3759120"/>
            <a:ext cx="6887880" cy="1125360"/>
            <a:chOff x="693360" y="3759120"/>
            <a:chExt cx="6887880" cy="1125360"/>
          </a:xfrm>
        </p:grpSpPr>
        <p:sp>
          <p:nvSpPr>
            <p:cNvPr id="671" name=""/>
            <p:cNvSpPr/>
            <p:nvPr/>
          </p:nvSpPr>
          <p:spPr>
            <a:xfrm>
              <a:off x="693360" y="3759120"/>
              <a:ext cx="688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ometimes nonterminal symbols must be inlined before facto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77840" y="4151160"/>
              <a:ext cx="47847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ActualParameters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"." iden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004400" y="4862520"/>
            <a:ext cx="4870800" cy="812160"/>
            <a:chOff x="1004400" y="4862520"/>
            <a:chExt cx="4870800" cy="812160"/>
          </a:xfrm>
        </p:grpSpPr>
        <p:sp>
          <p:nvSpPr>
            <p:cNvPr id="674" name=""/>
            <p:cNvSpPr/>
            <p:nvPr/>
          </p:nvSpPr>
          <p:spPr>
            <a:xfrm>
              <a:off x="1004400" y="4862520"/>
              <a:ext cx="26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Design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77840" y="5154480"/>
              <a:ext cx="47973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ent {"." ident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ActualParameters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005120" y="5629320"/>
            <a:ext cx="4843080" cy="1025280"/>
            <a:chOff x="1005120" y="5629320"/>
            <a:chExt cx="4843080" cy="1025280"/>
          </a:xfrm>
        </p:grpSpPr>
        <p:sp>
          <p:nvSpPr>
            <p:cNvPr id="677" name=""/>
            <p:cNvSpPr/>
            <p:nvPr/>
          </p:nvSpPr>
          <p:spPr>
            <a:xfrm>
              <a:off x="1005120" y="562932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n factor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77840" y="5921280"/>
              <a:ext cx="47703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"." ident}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[ActualParameters] ")"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C32-3E09-445C-BA06-3E7079962BE7}" type="slidenum">
              <a:t>45</a:t>
            </a:fld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eft Recurs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9680" y="125748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eft recursion is always an LL(1) conflict and must be eli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89000" y="2004840"/>
            <a:ext cx="2988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 = ident | IdentList ","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9120" y="16495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02360" y="5405400"/>
            <a:ext cx="3336120" cy="713520"/>
            <a:chOff x="702360" y="5405400"/>
            <a:chExt cx="3336120" cy="713520"/>
          </a:xfrm>
        </p:grpSpPr>
        <p:sp>
          <p:nvSpPr>
            <p:cNvPr id="684" name=""/>
            <p:cNvSpPr/>
            <p:nvPr/>
          </p:nvSpPr>
          <p:spPr>
            <a:xfrm>
              <a:off x="702360" y="5405400"/>
              <a:ext cx="30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always be replaced by it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03400" y="5811840"/>
              <a:ext cx="29350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= ident {"," iden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387320" y="1979640"/>
            <a:ext cx="29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oth alternatives start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701280" y="2589120"/>
            <a:ext cx="3655440" cy="1139040"/>
            <a:chOff x="701280" y="2589120"/>
            <a:chExt cx="3655440" cy="1139040"/>
          </a:xfrm>
        </p:grpSpPr>
        <p:sp>
          <p:nvSpPr>
            <p:cNvPr id="688" name=""/>
            <p:cNvSpPr/>
            <p:nvPr/>
          </p:nvSpPr>
          <p:spPr>
            <a:xfrm>
              <a:off x="701280" y="2589120"/>
              <a:ext cx="27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es the following phr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98520" y="2982960"/>
              <a:ext cx="85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247840" y="3276720"/>
              <a:ext cx="16200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3276720"/>
              <a:ext cx="16200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86400" y="34210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33200" y="342108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949400" y="3714840"/>
            <a:ext cx="3708000" cy="537120"/>
            <a:chOff x="1949400" y="3714840"/>
            <a:chExt cx="3708000" cy="537120"/>
          </a:xfrm>
        </p:grpSpPr>
        <p:sp>
          <p:nvSpPr>
            <p:cNvPr id="695" name=""/>
            <p:cNvSpPr/>
            <p:nvPr/>
          </p:nvSpPr>
          <p:spPr>
            <a:xfrm flipH="1">
              <a:off x="2886120" y="371484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33760" y="371484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49400" y="394488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67880" y="3944880"/>
              <a:ext cx="21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012760" y="4267080"/>
            <a:ext cx="5021280" cy="546840"/>
            <a:chOff x="2012760" y="4267080"/>
            <a:chExt cx="5021280" cy="546840"/>
          </a:xfrm>
        </p:grpSpPr>
        <p:sp>
          <p:nvSpPr>
            <p:cNvPr id="700" name=""/>
            <p:cNvSpPr/>
            <p:nvPr/>
          </p:nvSpPr>
          <p:spPr>
            <a:xfrm flipH="1">
              <a:off x="3533760" y="426708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81400" y="426708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12760" y="4506840"/>
              <a:ext cx="189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en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8520" y="4506840"/>
              <a:ext cx="28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"," iden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673-C0F9-4775-9A98-E5F306098AB7}" type="slidenum">
              <a:t>46</a:t>
            </a:fld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7040" y="1359000"/>
            <a:ext cx="52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BNF options and iterations are hidden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104840" y="4311720"/>
            <a:ext cx="4318200" cy="609480"/>
            <a:chOff x="1104840" y="4311720"/>
            <a:chExt cx="4318200" cy="609480"/>
          </a:xfrm>
        </p:grpSpPr>
        <p:sp>
          <p:nvSpPr>
            <p:cNvPr id="707" name=""/>
            <p:cNvSpPr/>
            <p:nvPr/>
          </p:nvSpPr>
          <p:spPr>
            <a:xfrm>
              <a:off x="1104840" y="431172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05920" y="4317840"/>
              <a:ext cx="4149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[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083240" y="1860480"/>
            <a:ext cx="70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62576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[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arbitrary EBNF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62576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{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09920" y="2863800"/>
            <a:ext cx="4713120" cy="1104840"/>
            <a:chOff x="709920" y="2863800"/>
            <a:chExt cx="4713120" cy="1104840"/>
          </a:xfrm>
        </p:grpSpPr>
        <p:sp>
          <p:nvSpPr>
            <p:cNvPr id="711" name=""/>
            <p:cNvSpPr/>
            <p:nvPr/>
          </p:nvSpPr>
          <p:spPr>
            <a:xfrm>
              <a:off x="1104840" y="335916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07360" y="3365280"/>
              <a:ext cx="39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[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{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920" y="28638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EB2-3BEE-4380-AEFB-040E1B9396DA}" type="slidenum">
              <a:t>47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moving 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8360" y="1293840"/>
            <a:ext cx="2062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= [ident "."]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42680" y="1649520"/>
            <a:ext cx="42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is the conflict and how can it be remov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94040" y="2106720"/>
            <a:ext cx="2628360" cy="756720"/>
            <a:chOff x="1094040" y="2106720"/>
            <a:chExt cx="2628360" cy="756720"/>
          </a:xfrm>
        </p:grpSpPr>
        <p:sp>
          <p:nvSpPr>
            <p:cNvPr id="718" name=""/>
            <p:cNvSpPr/>
            <p:nvPr/>
          </p:nvSpPr>
          <p:spPr>
            <a:xfrm>
              <a:off x="1133280" y="2106720"/>
              <a:ext cx="20628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ame = ident ["." id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94040" y="2526120"/>
              <a:ext cx="26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this production LL(1) now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097640" y="287640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have to check if First("." ident)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llow(Name) =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42680" y="3719520"/>
            <a:ext cx="4210200" cy="946800"/>
            <a:chOff x="742680" y="3719520"/>
            <a:chExt cx="4210200" cy="946800"/>
          </a:xfrm>
        </p:grpSpPr>
        <p:sp>
          <p:nvSpPr>
            <p:cNvPr id="722" name=""/>
            <p:cNvSpPr/>
            <p:nvPr/>
          </p:nvSpPr>
          <p:spPr>
            <a:xfrm>
              <a:off x="825480" y="3719520"/>
              <a:ext cx="29865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eclarations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clarations = D {";" D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2680" y="4329000"/>
              <a:ext cx="421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re is the conflict and how can it be remov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072080" y="4748040"/>
            <a:ext cx="3491280" cy="967680"/>
            <a:chOff x="1072080" y="4748040"/>
            <a:chExt cx="3491280" cy="967680"/>
          </a:xfrm>
        </p:grpSpPr>
        <p:sp>
          <p:nvSpPr>
            <p:cNvPr id="725" name=""/>
            <p:cNvSpPr/>
            <p:nvPr/>
          </p:nvSpPr>
          <p:spPr>
            <a:xfrm>
              <a:off x="1092960" y="474804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claration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56320" y="5078520"/>
              <a:ext cx="2648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{";" D}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72080" y="5378400"/>
              <a:ext cx="34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;" D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";" Statements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1101240" y="5802480"/>
            <a:ext cx="5200920" cy="662760"/>
            <a:chOff x="1101240" y="5802480"/>
            <a:chExt cx="5200920" cy="662760"/>
          </a:xfrm>
        </p:grpSpPr>
        <p:sp>
          <p:nvSpPr>
            <p:cNvPr id="729" name=""/>
            <p:cNvSpPr/>
            <p:nvPr/>
          </p:nvSpPr>
          <p:spPr>
            <a:xfrm>
              <a:off x="1156320" y="5802480"/>
              <a:ext cx="264816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";" {D ";"}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01240" y="6127920"/>
              <a:ext cx="52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still have to check if First(D ";"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Statements) =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851040" y="1981080"/>
            <a:ext cx="6705360" cy="13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51040" y="4724280"/>
            <a:ext cx="6705360" cy="18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542-7900-47EF-A0A1-FD776DE942C7}" type="slidenum">
              <a:t>48</a:t>
            </a:fld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ngling Els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8120" y="12193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f statement in C# or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11600" y="1687680"/>
            <a:ext cx="4680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["else" Statem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08120" y="2489040"/>
            <a:ext cx="4978440" cy="839160"/>
            <a:chOff x="708120" y="2489040"/>
            <a:chExt cx="4978440" cy="839160"/>
          </a:xfrm>
        </p:grpSpPr>
        <p:sp>
          <p:nvSpPr>
            <p:cNvPr id="737" name=""/>
            <p:cNvSpPr/>
            <p:nvPr/>
          </p:nvSpPr>
          <p:spPr>
            <a:xfrm>
              <a:off x="708120" y="248904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is is an LL(1) conflic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85320" y="2990880"/>
              <a:ext cx="470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else" Statement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tatement) = {"else"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07040" y="3619440"/>
            <a:ext cx="7459920" cy="2451960"/>
            <a:chOff x="707040" y="3619440"/>
            <a:chExt cx="7459920" cy="2451960"/>
          </a:xfrm>
        </p:grpSpPr>
        <p:sp>
          <p:nvSpPr>
            <p:cNvPr id="740" name=""/>
            <p:cNvSpPr/>
            <p:nvPr/>
          </p:nvSpPr>
          <p:spPr>
            <a:xfrm>
              <a:off x="707040" y="3619440"/>
              <a:ext cx="496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 is even an ambiguity which cannot be remo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51280" y="498960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2520720" y="4399920"/>
              <a:ext cx="127080" cy="11304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29160 h 1130400"/>
                <a:gd name="textAreaBottom" fmla="*/ 110124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53080" y="45957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2603520" y="3225240"/>
              <a:ext cx="114120" cy="270504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70200 h 2705040"/>
                <a:gd name="textAreaBottom" fmla="*/ 2634840 h 27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16440" y="42022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 rot="5400000">
              <a:off x="2952720" y="4349520"/>
              <a:ext cx="126720" cy="1994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51840 h 1994040"/>
                <a:gd name="textAreaBottom" fmla="*/ 1942200 h 19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22880" y="539604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2577960" y="435492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80160" y="576432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20120" y="4786200"/>
              <a:ext cx="324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can build 2 different syntax tre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6B6-279A-4782-B669-0FD37A1D0290}" type="slidenum">
              <a:t>49</a:t>
            </a:fld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36560" y="279396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385-DE77-4EBA-AC58-83525943537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an We Ignore LL(1) Conflicts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2200" y="123192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n LL(1) conflict is only a w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08840" y="1623960"/>
            <a:ext cx="40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selects the first matching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50480" y="2131920"/>
            <a:ext cx="9504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94040" y="2286000"/>
            <a:ext cx="41904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86160" y="2119320"/>
            <a:ext cx="50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lookahead token i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 parser selects this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051360" y="5052960"/>
            <a:ext cx="3358800" cy="1467360"/>
            <a:chOff x="3051360" y="5052960"/>
            <a:chExt cx="3358800" cy="1467360"/>
          </a:xfrm>
        </p:grpSpPr>
        <p:sp>
          <p:nvSpPr>
            <p:cNvPr id="758" name=""/>
            <p:cNvSpPr/>
            <p:nvPr/>
          </p:nvSpPr>
          <p:spPr>
            <a:xfrm>
              <a:off x="3411720" y="505296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 rot="5400000">
              <a:off x="5213160" y="4411800"/>
              <a:ext cx="127080" cy="199368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51840 h 1993680"/>
                <a:gd name="textAreaBottom" fmla="*/ 1941840 h 19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83680" y="545940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 rot="5400000">
              <a:off x="4838400" y="441828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40600" y="58276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51360" y="6183000"/>
              <a:ext cx="29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uckily this is what we want he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96240" y="2971800"/>
            <a:ext cx="6007320" cy="2016000"/>
            <a:chOff x="696240" y="2971800"/>
            <a:chExt cx="6007320" cy="2016000"/>
          </a:xfrm>
        </p:grpSpPr>
        <p:sp>
          <p:nvSpPr>
            <p:cNvPr id="765" name=""/>
            <p:cNvSpPr/>
            <p:nvPr/>
          </p:nvSpPr>
          <p:spPr>
            <a:xfrm>
              <a:off x="1036080" y="3414600"/>
              <a:ext cx="47811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 "else" Statement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292640" y="3657600"/>
              <a:ext cx="0" cy="419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54240" y="4163760"/>
              <a:ext cx="364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lookahead token is "else"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starts parsing the optio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.e. the "else" belongs to the innermost "if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96240" y="2971800"/>
              <a:ext cx="25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: Dangling E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173-B556-4AC8-992B-529DCA0FC29E}" type="slidenum">
              <a:t>50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000" spc="-1" strike="noStrike">
                <a:solidFill>
                  <a:srgbClr val="3333cc"/>
                </a:solidFill>
                <a:latin typeface="Times New Roman"/>
              </a:rPr>
              <a:t>Coco/R finds LL(1) Conflicts automatically</a:t>
            </a:r>
            <a:endParaRPr b="0" i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0400" y="1649520"/>
            <a:ext cx="481932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Statemen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Qualident '=' number ';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'(' ident ')' Statement ["else" Statement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'(' ')'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Qual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ident '.']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360" y="12319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83640" y="3911760"/>
            <a:ext cx="6855120" cy="2404080"/>
            <a:chOff x="683640" y="3911760"/>
            <a:chExt cx="6855120" cy="2404080"/>
          </a:xfrm>
        </p:grpSpPr>
        <p:sp>
          <p:nvSpPr>
            <p:cNvPr id="773" name=""/>
            <p:cNvSpPr/>
            <p:nvPr/>
          </p:nvSpPr>
          <p:spPr>
            <a:xfrm>
              <a:off x="683640" y="3911760"/>
              <a:ext cx="41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co/R produces the following warn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63920" y="4303800"/>
              <a:ext cx="6774840" cy="2012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oco/R (Aug 22, 200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hec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Sample dele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LL1 warning in Statement: ident is start of several alternati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LL1 warning in Statement: "else" is start &amp; successor of deletable 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LL1 warning in Qualident: ident is start &amp; successor of deletable 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parser + scanner gene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0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B17-9CF4-4BC1-93E0-293646B6683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blems with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2640" y="1282680"/>
            <a:ext cx="64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me conflicts are hard to remove by grammar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06200" y="1763640"/>
            <a:ext cx="43603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{'+'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ident ')'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ype cas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nested express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|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97480" y="2082960"/>
            <a:ext cx="88920" cy="304560"/>
          </a:xfrm>
          <a:custGeom>
            <a:avLst/>
            <a:gdLst>
              <a:gd name="textAreaLeft" fmla="*/ 0 w 88920"/>
              <a:gd name="textAreaRight" fmla="*/ 32040 w 88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54080" y="1928880"/>
            <a:ext cx="2672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th alternatives can star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ident ')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95160" y="3111480"/>
            <a:ext cx="7673400" cy="1163520"/>
            <a:chOff x="695160" y="3111480"/>
            <a:chExt cx="7673400" cy="1163520"/>
          </a:xfrm>
        </p:grpSpPr>
        <p:sp>
          <p:nvSpPr>
            <p:cNvPr id="781" name=""/>
            <p:cNvSpPr/>
            <p:nvPr/>
          </p:nvSpPr>
          <p:spPr>
            <a:xfrm>
              <a:off x="695160" y="3111480"/>
              <a:ext cx="416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ransformations can corrupt read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05120" y="3541680"/>
              <a:ext cx="30398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using" [ident '='] Qualid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Quali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'.' iden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27200" y="3541680"/>
              <a:ext cx="31413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using" 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'.' ident} ';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=' Qualid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43400" y="3720960"/>
              <a:ext cx="520560" cy="190800"/>
            </a:xfrm>
            <a:prstGeom prst="rightArrow">
              <a:avLst>
                <a:gd name="adj1" fmla="val 50000"/>
                <a:gd name="adj2" fmla="val 6820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94080" y="4584600"/>
            <a:ext cx="4415760" cy="950400"/>
            <a:chOff x="694080" y="4584600"/>
            <a:chExt cx="4415760" cy="950400"/>
          </a:xfrm>
        </p:grpSpPr>
        <p:sp>
          <p:nvSpPr>
            <p:cNvPr id="786" name=""/>
            <p:cNvSpPr/>
            <p:nvPr/>
          </p:nvSpPr>
          <p:spPr>
            <a:xfrm>
              <a:off x="694080" y="4584600"/>
              <a:ext cx="441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mantic actions may prevent facto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96480" y="5014800"/>
              <a:ext cx="36032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x = 1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',' 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x++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} ':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Foo()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',' 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Bar()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}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692280" y="594360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Times New Roman"/>
              </a:rPr>
              <a:t>=&gt; Coco/R offers a special mechanism to resolve LL(1) confli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C23-A7F6-47D6-9E36-1829252243F6}" type="slidenum">
              <a:t>52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Conflict Resolv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280" y="1662120"/>
            <a:ext cx="42163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BNF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 { '|' Alternative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Resolv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Element {Elemen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Resolve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IF" '(' </a:t>
            </a:r>
            <a:r>
              <a:rPr b="0" i="1" lang="de-AT" sz="1400" spc="-1" strike="noStrike">
                <a:solidFill>
                  <a:srgbClr val="ff0000"/>
                </a:solidFill>
                <a:latin typeface="Arial"/>
              </a:rPr>
              <a:t>ArbitraryCSharpPredicat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')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2120" y="12445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671760" y="4978440"/>
            <a:ext cx="7314840" cy="1564200"/>
            <a:chOff x="671760" y="4978440"/>
            <a:chExt cx="7314840" cy="1564200"/>
          </a:xfrm>
        </p:grpSpPr>
        <p:sp>
          <p:nvSpPr>
            <p:cNvPr id="793" name=""/>
            <p:cNvSpPr/>
            <p:nvPr/>
          </p:nvSpPr>
          <p:spPr>
            <a:xfrm>
              <a:off x="671760" y="497844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oken na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4640" y="5383080"/>
              <a:ext cx="268740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letter {letter | 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digit {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ssig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'=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78880" y="5383080"/>
              <a:ext cx="200772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EO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1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assig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3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68680" y="6070680"/>
              <a:ext cx="2133720" cy="228600"/>
            </a:xfrm>
            <a:prstGeom prst="rightArrow">
              <a:avLst>
                <a:gd name="adj1" fmla="val 61111"/>
                <a:gd name="adj2" fmla="val 12224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544920" y="5281560"/>
              <a:ext cx="2003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 generat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llowing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tokens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71400" y="2565360"/>
            <a:ext cx="3291120" cy="683280"/>
            <a:chOff x="671400" y="2565360"/>
            <a:chExt cx="3291120" cy="683280"/>
          </a:xfrm>
        </p:grpSpPr>
        <p:sp>
          <p:nvSpPr>
            <p:cNvPr id="799" name=""/>
            <p:cNvSpPr/>
            <p:nvPr/>
          </p:nvSpPr>
          <p:spPr>
            <a:xfrm>
              <a:off x="671400" y="25653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6520" y="2941560"/>
              <a:ext cx="31860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 = "using" [ident '='] Qualident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684720" y="2944800"/>
            <a:ext cx="6763320" cy="1810080"/>
            <a:chOff x="684720" y="2944800"/>
            <a:chExt cx="6763320" cy="1810080"/>
          </a:xfrm>
        </p:grpSpPr>
        <p:sp>
          <p:nvSpPr>
            <p:cNvPr id="802" name=""/>
            <p:cNvSpPr/>
            <p:nvPr/>
          </p:nvSpPr>
          <p:spPr>
            <a:xfrm>
              <a:off x="755280" y="2944800"/>
              <a:ext cx="42602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 = "using" [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IsAlias()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ident '='] Qualident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4720" y="3440160"/>
              <a:ext cx="637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have to write the following method (in the global semantic declaratio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3280" y="3808440"/>
              <a:ext cx="423540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o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sAlia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next = scanner.Peek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la.kind == _ident &amp;&amp; next.kind == _assig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97680" y="3745080"/>
              <a:ext cx="22503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f the input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=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f the input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. iden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95D-7AF6-46A6-88E9-77DD4DA48D3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2560" y="1257480"/>
            <a:ext cx="48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flict resolution by a multi-symbol look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96480" y="1827360"/>
            <a:ext cx="360324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 = 1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++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: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Foo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Bar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763520" y="192888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L(1)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25560" y="260208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96480" y="2944800"/>
            <a:ext cx="360324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FollowedByColon(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 = 1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++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: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Foo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Bar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26640" y="384660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olu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000800" y="4189320"/>
            <a:ext cx="396792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llowedByCol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x = l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x.kind == _ident || x.kind == _comma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scanner.Peek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x.kind == _col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1F6-75E5-4041-9CF8-DA9C433B3E2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81120" y="1257480"/>
            <a:ext cx="54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flict resolution by exploiting semantic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513040" y="192888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L(1)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06200" y="1763640"/>
            <a:ext cx="43603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ident ')'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ype cas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nested express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|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925560" y="2855880"/>
            <a:ext cx="7049880" cy="3440160"/>
            <a:chOff x="925560" y="2855880"/>
            <a:chExt cx="7049880" cy="3440160"/>
          </a:xfrm>
        </p:grpSpPr>
        <p:sp>
          <p:nvSpPr>
            <p:cNvPr id="819" name=""/>
            <p:cNvSpPr/>
            <p:nvPr/>
          </p:nvSpPr>
          <p:spPr>
            <a:xfrm>
              <a:off x="925560" y="285588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26640" y="436716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solution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14480" y="4710240"/>
              <a:ext cx="434016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o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sCa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next = scanner.Peek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.kind == _lpar &amp;&amp; next.kind == _ident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bj obj = SymTab.Find(next.va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obj != null &amp;&amp; obj.kind == TY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return fals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06200" y="3198960"/>
              <a:ext cx="436032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IsCast(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(' ident ')' 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type cast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(' Expr ')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nested expression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| numb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42200" y="5040360"/>
              <a:ext cx="243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s true if '(' is fo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y a declared type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A34-B0CF-4DA4-8F87-3D076FC27C0E}" type="slidenum">
              <a:t>55</a:t>
            </a:fld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736560" y="5410080"/>
            <a:ext cx="713736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7120" y="1568520"/>
            <a:ext cx="6544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ase Study -- The Programming Language </a:t>
            </a:r>
            <a:r>
              <a:rPr b="0" i="1" lang="de-AT" sz="2400" spc="-1" strike="noStrike">
                <a:solidFill>
                  <a:srgbClr val="ff0000"/>
                </a:solidFill>
                <a:latin typeface="Times New Roman"/>
              </a:rPr>
              <a:t>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3A0-88C0-4D86-90DB-4E8DA27B018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Simple Taste Progra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0720" y="1235160"/>
            <a:ext cx="3564000" cy="411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progra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e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compute the sum of 1..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umUp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 &gt; 0) { sum = sum + i; i = i - 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the program start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U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51200" y="119232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ingle mai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51560" y="209376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s withou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49040" y="1547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48680" y="3643200"/>
            <a:ext cx="12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3C9-67D8-4713-ADEC-D190013700C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of Tas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3280" y="1535040"/>
            <a:ext cx="51368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rogram" ident "{"  {VarDecl} {ProcDecl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c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void" ident "(" ")" "{" { VarDecl | Stat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r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ident {"," ident} 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 | "bool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0320" y="1168560"/>
            <a:ext cx="28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grams and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71760" y="2641680"/>
            <a:ext cx="5238360" cy="1939680"/>
            <a:chOff x="671760" y="2641680"/>
            <a:chExt cx="5238360" cy="1939680"/>
          </a:xfrm>
        </p:grpSpPr>
        <p:sp>
          <p:nvSpPr>
            <p:cNvPr id="837" name=""/>
            <p:cNvSpPr/>
            <p:nvPr/>
          </p:nvSpPr>
          <p:spPr>
            <a:xfrm>
              <a:off x="671760" y="264168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t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3280" y="2995560"/>
              <a:ext cx="513684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")"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 ["else" Sta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hile" "(" Expr ")" S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read" ident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rite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{" { Stat | VarDecl } "}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72120" y="4707000"/>
            <a:ext cx="5252400" cy="1939680"/>
            <a:chOff x="672120" y="4707000"/>
            <a:chExt cx="5252400" cy="1939680"/>
          </a:xfrm>
        </p:grpSpPr>
        <p:sp>
          <p:nvSpPr>
            <p:cNvPr id="840" name=""/>
            <p:cNvSpPr/>
            <p:nvPr/>
          </p:nvSpPr>
          <p:spPr>
            <a:xfrm>
              <a:off x="672120" y="470700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pr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3280" y="5060880"/>
              <a:ext cx="515124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imExpr [RelOp SimExpr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im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{AddOp Term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{Mulop Factor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| number | "-" Factor | "true" | "fals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l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=" | "&lt;" | "&gt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+" | "-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ul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*" | "/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CAA-EEF6-457B-BD3C-767F2BA41512}" type="slidenum">
              <a:t>58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3416400" y="1943280"/>
            <a:ext cx="137160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16400" y="2959200"/>
            <a:ext cx="1371600" cy="622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rchitecture or the Taste V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1040" y="1587600"/>
            <a:ext cx="1371600" cy="172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154160" y="12430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lob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416400" y="1587600"/>
            <a:ext cx="1371600" cy="28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09160" y="1243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416400" y="17654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528720" y="159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416400" y="1943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45000" y="2068560"/>
            <a:ext cx="91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local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all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416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16400" y="2768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16400" y="295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37000" y="258912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return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38080" y="2779560"/>
            <a:ext cx="91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p of the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637440" y="3084480"/>
            <a:ext cx="92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local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urrent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4164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13000" y="29592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81080" y="2766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13000" y="38862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17720" y="369396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35360" y="28702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991040" y="1955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788000" y="195588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16400" y="35812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79840" y="364320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expression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73720" y="1587600"/>
            <a:ext cx="1371600" cy="2870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40560" y="124308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273720" y="2146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273720" y="2984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70680" y="298440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94080" y="27925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g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70680" y="251460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8760" y="232236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5400000">
            <a:off x="2761920" y="2812680"/>
            <a:ext cx="114120" cy="3962520"/>
          </a:xfrm>
          <a:custGeom>
            <a:avLst/>
            <a:gdLst>
              <a:gd name="textAreaLeft" fmla="*/ 0 w 114120"/>
              <a:gd name="textAreaRight" fmla="*/ 41040 w 1141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5400000">
            <a:off x="6946920" y="3911400"/>
            <a:ext cx="114120" cy="1765440"/>
          </a:xfrm>
          <a:custGeom>
            <a:avLst/>
            <a:gdLst>
              <a:gd name="textAreaLeft" fmla="*/ 0 w 114120"/>
              <a:gd name="textAreaRight" fmla="*/ 41040 w 114120"/>
              <a:gd name="textAreaTop" fmla="*/ 45720 h 1765440"/>
              <a:gd name="textAreaBottom" fmla="*/ 1719720 h 17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120760" y="483696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ord-add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11880" y="4836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te-add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528720" y="1776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548-0551-4104-A8D6-E09BDDF65DA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at is a grammar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5120" y="14097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49320" y="1471680"/>
            <a:ext cx="50803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"if" "(" Condition ")" Statement ["else" Statement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35120" y="2413080"/>
            <a:ext cx="7383960" cy="3180600"/>
            <a:chOff x="735120" y="2413080"/>
            <a:chExt cx="7383960" cy="3180600"/>
          </a:xfrm>
        </p:grpSpPr>
        <p:sp>
          <p:nvSpPr>
            <p:cNvPr id="191" name=""/>
            <p:cNvSpPr/>
            <p:nvPr/>
          </p:nvSpPr>
          <p:spPr>
            <a:xfrm>
              <a:off x="735120" y="2413080"/>
              <a:ext cx="18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ur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7640" y="2995560"/>
              <a:ext cx="167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21320" y="299556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ato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80320" y="302112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, "&gt;=", ident, number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7280" y="3782880"/>
              <a:ext cx="200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non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21680" y="3782880"/>
              <a:ext cx="159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decom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to smaller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80680" y="3808440"/>
              <a:ext cx="259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, Condition, Type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6200" y="451944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20600" y="4519440"/>
              <a:ext cx="184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ules how to decom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se nontermi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79240" y="4545000"/>
              <a:ext cx="3039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Designator "=" Expr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= ident ["." id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6920" y="52563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star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1320" y="525636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pmost non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90400" y="528156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Sha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37E-65E3-4BE4-BC02-12E1E5AF4044}" type="slidenum">
              <a:t>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711360" y="1359000"/>
            <a:ext cx="1295280" cy="5270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s of the Taste V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42320" y="1382760"/>
            <a:ext cx="73753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consta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loc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stack[bp+a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glob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globals[a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 loc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ck[bp+a]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 glob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s[a]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*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v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Pop(); Push(Pop() /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ga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Q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equ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==Pop()) Push(1); else Push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S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les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&gt;Pop()) Push(1); else Push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T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great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&lt;Pop()) Push(1); else Push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M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m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c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JM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mp if fals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 == 0) pc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 integ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ReadInt(); Push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 integ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Int(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ll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c+2); pc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turn from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c = Pop(); if (pc == 0) 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ter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bp); bp = top; top +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EAV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eave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 = bp; bp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073-1AA3-4E46-823D-DC5408576D0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ample Transl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3640" y="1320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86240" y="1852560"/>
            <a:ext cx="289188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Foo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, ma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 a; read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 &gt; b) max = a; else max =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rite ma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379040" y="13208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492080" y="1870200"/>
            <a:ext cx="1325160" cy="394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T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JMP 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JMP  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7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0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53160" y="367020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32520" y="36702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689080" y="45338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42926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429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702400" y="49784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0B8-06AA-493A-BFF6-928F2CC2D59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canner Specif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81200" y="1484280"/>
            <a:ext cx="3455640" cy="34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T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tter = 'A'..'Z' + 'a'..'z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= '0'..'9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 = letter {letter | digi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 {digi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MENTS FROM "/*" TO "*/" N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MENTS FROM "//" TO '\r' '\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GNORE '\r' + '\n' + '\t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Ta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37B-C916-41A2-994F-C256DFD3AF8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Table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9680" y="1255680"/>
            <a:ext cx="4527000" cy="199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bolTa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bolTa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Parser parser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, int kind, int typ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pen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lose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82360" y="1255680"/>
            <a:ext cx="198144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696600" y="3746520"/>
            <a:ext cx="5678640" cy="2706120"/>
            <a:chOff x="696600" y="3746520"/>
            <a:chExt cx="5678640" cy="2706120"/>
          </a:xfrm>
        </p:grpSpPr>
        <p:sp>
          <p:nvSpPr>
            <p:cNvPr id="902" name=""/>
            <p:cNvSpPr/>
            <p:nvPr/>
          </p:nvSpPr>
          <p:spPr>
            <a:xfrm>
              <a:off x="696600" y="3746520"/>
              <a:ext cx="22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ample symbol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94880" y="4227480"/>
              <a:ext cx="1284120" cy="222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ram P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ool b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Foo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c, 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343400" y="4432320"/>
              <a:ext cx="457200" cy="355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392360" y="4456080"/>
              <a:ext cx="22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a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30720" y="4432320"/>
              <a:ext cx="457200" cy="355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79320" y="445608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b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918040" y="4432320"/>
              <a:ext cx="457200" cy="355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0360" y="445608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Foo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38560" y="4432320"/>
              <a:ext cx="457200" cy="3556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00600" y="459756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00880" y="459756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95760" y="469908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30320" y="44686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lo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43400" y="5194440"/>
              <a:ext cx="457200" cy="355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92360" y="5218200"/>
              <a:ext cx="22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c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30720" y="5194440"/>
              <a:ext cx="457200" cy="355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79320" y="521820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d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38560" y="5194440"/>
              <a:ext cx="457200" cy="355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00600" y="535932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695760" y="546084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30320" y="523080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lo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3454560" y="478764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022560" y="5194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06880" y="5065560"/>
              <a:ext cx="66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889-5ACC-4323-ADBA-2C4C012E9127}" type="slidenum">
              <a:t>63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Generator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88760" y="1370160"/>
            <a:ext cx="3312360" cy="221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rogSta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op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op, int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adr, int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7CE-E72E-4377-BE7F-3358287DE5B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Decla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26480" y="1387440"/>
            <a:ext cx="4076280" cy="162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string nam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rogra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OpenScope(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rDecl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ProcDecl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}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CloseScope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22520" y="3063960"/>
            <a:ext cx="4862520" cy="105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r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string name; int 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Insert(name, VAR, typ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,' 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Insert(name, VAR, typ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35120" y="4156200"/>
            <a:ext cx="7691400" cy="220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roc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tring name; Obj obj; int adr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voi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&lt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Insert(name, PROC, UNDEF); obj.adr = gen.p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name == "Main") gen.progStart = gen.pc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ab.OpenScope(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')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ENTER, 0); adr = gen.pc - 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rDecl | Stat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}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LEAVE); gen.Emit(R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tab.topScope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ab.CloseScope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657400" y="3063960"/>
            <a:ext cx="2758680" cy="105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ype = UNDEF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 "in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ype = IN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"bool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89680" y="1395360"/>
            <a:ext cx="2344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ymbolTa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ode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A66-C5D6-46C1-B7CD-FFC3D19C200E}" type="slidenum">
              <a:t>65</a:t>
            </a:fld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Express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60320" y="1197000"/>
            <a:ext cx="7110360" cy="124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1,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type1) SemErr("incompatible type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op);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0320" y="2479680"/>
            <a:ext cx="711828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1,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 || type1 != I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op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60320" y="3965400"/>
            <a:ext cx="712800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1,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 || type1 != I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op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756000" y="5451480"/>
            <a:ext cx="7130520" cy="1243080"/>
            <a:chOff x="756000" y="5451480"/>
            <a:chExt cx="7130520" cy="1243080"/>
          </a:xfrm>
        </p:grpSpPr>
        <p:sp>
          <p:nvSpPr>
            <p:cNvPr id="939" name=""/>
            <p:cNvSpPr/>
            <p:nvPr/>
          </p:nvSpPr>
          <p:spPr>
            <a:xfrm>
              <a:off x="756000" y="5451480"/>
              <a:ext cx="242820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lOp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UNDEF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=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EQU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&lt;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LS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&gt;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GTR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207240" y="5451480"/>
              <a:ext cx="232668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ddOp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UNDEF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+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PLU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-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MINU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59840" y="5451480"/>
              <a:ext cx="232668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ulOp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UNDEF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*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TIME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/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SLASH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457-F98D-465E-88E3-66B1134D8586}" type="slidenum">
              <a:t>66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Facto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60320" y="1324080"/>
            <a:ext cx="6653160" cy="411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n; Obj obj; string nam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ype = UNDEF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Find(name); type = obj.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kind == VA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level == 0) gen.Emit(LOADG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gen.Emit(LOAD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} else SemErr("variable expected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 = Convert.ToInt32(t.val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ONST, n); type = IN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-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Err("integer type expected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ype = I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NEG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tru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ONST, 1);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fals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ONST, 0);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0320" y="5514840"/>
            <a:ext cx="6653160" cy="47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string 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ame = t.val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E29-9675-4391-B6A8-DE54520F71B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State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0320" y="1324080"/>
            <a:ext cx="7338960" cy="520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; string name; Obj obj; int adr, adr2, loopstar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Find(nam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=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kind != VAR) SemErr("can only assign to variables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obj.type) SemErr("incompatible type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level == 0) gen.Emit(STOG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gen.Emit(STO, obj.adr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')'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kind != PROC) SemErr("object is not a procedur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ALL, obj.adr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a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Find(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type != INT) 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REA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level == 0) gen.Emit(STOG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gen.Emit(STO, obj.adr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rit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) 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WRIT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 { Stat | VarDecl } '}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72A-EBA1-41AC-B67D-11423012F2A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State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0320" y="1324080"/>
            <a:ext cx="7338960" cy="414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; string name; Obj obj; int adr, adr2, loopstar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BOOL) SemErr("boolean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FJMP, 0); adr = gen.pc - 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els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JMP, 0); adr2 = gen.pc -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gen.pc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dr = adr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gen.pc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hil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loopstart = gen.pc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BOOL) SemErr("boolean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FJMP, 0); adr = gen.pc - 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JMP, loopstar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gen.pc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0D7-3276-47B9-BE41-811EC1BF5EE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43160" y="2629080"/>
            <a:ext cx="5267160" cy="428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BNF Not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6960" y="1244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tended Backus-Naur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writing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98800" y="1255680"/>
            <a:ext cx="37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John Backus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developed the first Fortran 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Peter Naur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edited the Algol60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86360" y="2670120"/>
            <a:ext cx="516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tement    =    "write"    ident    ","    Expression    ";" 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69720" y="21733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0840" y="199224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39480" y="1992240"/>
            <a:ext cx="10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non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267000" y="2448000"/>
            <a:ext cx="8568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67280" y="2448000"/>
            <a:ext cx="8568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266800" y="2448000"/>
            <a:ext cx="8604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486480" y="2448000"/>
            <a:ext cx="8568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7600" y="199224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in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895040" y="2657520"/>
            <a:ext cx="88920" cy="904680"/>
          </a:xfrm>
          <a:custGeom>
            <a:avLst/>
            <a:gdLst>
              <a:gd name="textAreaLeft" fmla="*/ 0 w 88920"/>
              <a:gd name="textAreaRight" fmla="*/ 32040 w 88920"/>
              <a:gd name="textAreaTop" fmla="*/ 23400 h 904680"/>
              <a:gd name="textAreaBottom" fmla="*/ 881280 h 90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4585680" y="1452240"/>
            <a:ext cx="79560" cy="3305160"/>
          </a:xfrm>
          <a:custGeom>
            <a:avLst/>
            <a:gdLst>
              <a:gd name="textAreaLeft" fmla="*/ 0 w 79560"/>
              <a:gd name="textAreaRight" fmla="*/ 28800 w 79560"/>
              <a:gd name="textAreaTop" fmla="*/ 86040 h 3305160"/>
              <a:gd name="textAreaBottom" fmla="*/ 3219120 h 33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82040" y="311616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ft-hand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86000" y="311616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right-hand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6960" y="21780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96960" y="4673520"/>
            <a:ext cx="7041240" cy="1718280"/>
            <a:chOff x="696960" y="4673520"/>
            <a:chExt cx="7041240" cy="1718280"/>
          </a:xfrm>
        </p:grpSpPr>
        <p:sp>
          <p:nvSpPr>
            <p:cNvPr id="223" name=""/>
            <p:cNvSpPr/>
            <p:nvPr/>
          </p:nvSpPr>
          <p:spPr>
            <a:xfrm>
              <a:off x="696960" y="467352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eta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2160" y="5164200"/>
              <a:ext cx="52668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19440" y="5164200"/>
              <a:ext cx="19105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parate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oup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tional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erative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16080" y="5172120"/>
              <a:ext cx="29221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| b |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 or  b  or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(b | c)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[a]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{a}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 | ab | aab | aaab |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00680" y="3605040"/>
            <a:ext cx="43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 start with lower-case le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nterminal symbols start with upper-case le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C00-5E05-42F9-9B8F-670221DA646A}" type="slidenum">
              <a:t>7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ain Program of Tas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920" y="1268280"/>
            <a:ext cx="5520960" cy="371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[] 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rg.Length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 scanner = new Scanner(arg[0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 parser = new Parser(scann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tab = new SymbolTable(pars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gen = new CodeGener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arser.Par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parser.errors.count == 0) parser.gen.Interpret("Taste.I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Line("-- No source file specifi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683640" y="5181480"/>
            <a:ext cx="6493680" cy="1214280"/>
            <a:chOff x="683640" y="5181480"/>
            <a:chExt cx="6493680" cy="1214280"/>
          </a:xfrm>
        </p:grpSpPr>
        <p:sp>
          <p:nvSpPr>
            <p:cNvPr id="952" name=""/>
            <p:cNvSpPr/>
            <p:nvPr/>
          </p:nvSpPr>
          <p:spPr>
            <a:xfrm>
              <a:off x="683640" y="518148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uilding the whole t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66440" y="5662440"/>
              <a:ext cx="64108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:&gt; coco Tast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:&gt; csc Taste.cs Scanner.cs Parser.cs SymbolTable.cs CodeGenerato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:&gt; Taste Sample.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94C-609B-438A-8E4D-781E4352EE8B}" type="slidenum">
              <a:t>70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26840" y="1319040"/>
            <a:ext cx="739980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generates a scanner and a recursive descent parser from an attributed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L(1) conflicts can be handled with resolver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rammars for C# and Java are available in Coco/R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is open source software (Gnu GPL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tp://ssw.jku.at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has been used by us to buil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white-box test tool for C#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profiler for C#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tatic program analyzer for C#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metrics tool for Java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ilers for domain-specific languag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log file analyze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y companies and projects use Coco/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arpDevelop: a C# 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ww.icsharpcode.ne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oftware Tomography: Static Analysis Too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ww.software-tomography.com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Sharp2Html: HTML viewer for C# source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ww.charp2html.ne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urrently 39000 hits for Coco/R in Goo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07F-1122-4D42-88A6-F9E9768FF118}" type="slidenum">
              <a:t>71</a:t>
            </a:fld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Grammar for Arithmetic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6960" y="1371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29320" y="17892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6265800" y="1446120"/>
            <a:ext cx="2276640" cy="1247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9584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259680" y="2668680"/>
            <a:ext cx="1552320" cy="1038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357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6278400" y="3706920"/>
            <a:ext cx="2428920" cy="1019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739120" y="20559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00960" y="3262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5000" y="43164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96600" y="2882880"/>
            <a:ext cx="4145400" cy="1573920"/>
            <a:chOff x="696600" y="2882880"/>
            <a:chExt cx="4145400" cy="1573920"/>
          </a:xfrm>
        </p:grpSpPr>
        <p:sp>
          <p:nvSpPr>
            <p:cNvPr id="241" name=""/>
            <p:cNvSpPr/>
            <p:nvPr/>
          </p:nvSpPr>
          <p:spPr>
            <a:xfrm>
              <a:off x="696600" y="2882880"/>
              <a:ext cx="19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32120" y="3287880"/>
              <a:ext cx="15264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imple T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terminal class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96760" y="3287880"/>
              <a:ext cx="21452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"+", "-", "*", "/", "(", "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just 1 instan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dent,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multiple instanc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96960" y="4699080"/>
            <a:ext cx="2270160" cy="716760"/>
            <a:chOff x="696960" y="4699080"/>
            <a:chExt cx="2270160" cy="716760"/>
          </a:xfrm>
        </p:grpSpPr>
        <p:sp>
          <p:nvSpPr>
            <p:cNvPr id="245" name=""/>
            <p:cNvSpPr/>
            <p:nvPr/>
          </p:nvSpPr>
          <p:spPr>
            <a:xfrm>
              <a:off x="696960" y="469908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1760" y="5078520"/>
              <a:ext cx="173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, Term,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96960" y="5638680"/>
            <a:ext cx="1432080" cy="716760"/>
            <a:chOff x="696960" y="5638680"/>
            <a:chExt cx="1432080" cy="716760"/>
          </a:xfrm>
        </p:grpSpPr>
        <p:sp>
          <p:nvSpPr>
            <p:cNvPr id="248" name=""/>
            <p:cNvSpPr/>
            <p:nvPr/>
          </p:nvSpPr>
          <p:spPr>
            <a:xfrm>
              <a:off x="696960" y="5638680"/>
              <a:ext cx="143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rt 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27440" y="6018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7B4-0239-4150-A04D-E89D2B4524F7}" type="slidenum">
              <a:t>8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36560" y="321300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A40-DDF1-43D0-8D87-7DB0F5F0925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Hanspeter Mössenböck</cp:lastModifiedBy>
  <cp:lastPrinted>2001-09-28T08:52:55Z</cp:lastPrinted>
  <dcterms:modified xsi:type="dcterms:W3CDTF">2007-10-17T13:57:52Z</dcterms:modified>
  <cp:revision>468</cp:revision>
  <dc:subject/>
  <dc:title>Javascript-Anweisungen</dc:title>
</cp:coreProperties>
</file>